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854-14B4-441C-9288-831A1387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51D-E269-4736-8DCE-FCB10D99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631-5135-455A-ACF3-CE8C81E9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331-7860-4E38-AADF-3EEF75FF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AFD-7391-4474-84D9-628F6068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BCD-8B83-472F-8717-12B94CB0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AB7-20F6-497B-9214-A3851B56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3C3-A898-4760-B64B-741849F3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FA2-0A7B-4AEB-8ADE-925F8BE4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813-2DDD-4F7C-A5B5-CC40CD70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728-10AC-48C1-A55A-8F9AB925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B1A-3F12-48FE-94F2-29FF24F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7A5-60FF-4E44-8E54-62F53FDA7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F060-5D87-43B0-B8C0-1008C4EF9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188-A5E6-4026-AD39-5DBA598E6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1371600" y="1733400"/>
            <a:ext cx="6553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3c5f"/>
                </a:solidFill>
                <a:latin typeface="Century Gothic"/>
                <a:ea typeface="Times New Roman"/>
              </a:rPr>
              <a:t>Matrix representation of physical systems-  Associate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219320" y="3029040"/>
            <a:ext cx="6400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53c5f"/>
                </a:solidFill>
                <a:latin typeface="Century Gothic"/>
                <a:ea typeface="Arial"/>
              </a:rPr>
              <a:t>Somnath R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53c5f"/>
                </a:solidFill>
                <a:latin typeface="Century Gothic"/>
                <a:ea typeface="Arial"/>
              </a:rPr>
              <a:t>somnath.roy@mech.iitkgp.ac.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Century Gothic"/>
                <a:ea typeface="Arial"/>
              </a:rPr>
              <a:t>Department of Mechanical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Two dimensional 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78"/>
          <p:cNvSpPr/>
          <p:nvPr/>
        </p:nvSpPr>
        <p:spPr>
          <a:xfrm>
            <a:off x="304920" y="379080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an be expressed as a matrix equation after sequential numbering of (i,j)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609480" y="895320"/>
            <a:ext cx="2514600" cy="1752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10"/>
          <p:cNvGraphicFramePr/>
          <p:nvPr/>
        </p:nvGraphicFramePr>
        <p:xfrm>
          <a:off x="1219320" y="1504800"/>
          <a:ext cx="127152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04800"/>
                    <a:ext cx="1271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6" name="Straight Arrow Connector 17"/>
          <p:cNvCxnSpPr/>
          <p:nvPr/>
        </p:nvCxnSpPr>
        <p:spPr>
          <a:xfrm>
            <a:off x="609120" y="2647440"/>
            <a:ext cx="762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18"/>
          <p:cNvCxnSpPr/>
          <p:nvPr/>
        </p:nvCxnSpPr>
        <p:spPr>
          <a:xfrm flipV="1">
            <a:off x="608400" y="2113920"/>
            <a:ext cx="25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8" name="TextBox 52"/>
          <p:cNvSpPr/>
          <p:nvPr/>
        </p:nvSpPr>
        <p:spPr>
          <a:xfrm>
            <a:off x="1068840" y="25718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3"/>
          <p:cNvSpPr/>
          <p:nvPr/>
        </p:nvSpPr>
        <p:spPr>
          <a:xfrm>
            <a:off x="383040" y="2114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9"/>
          <p:cNvGraphicFramePr/>
          <p:nvPr/>
        </p:nvGraphicFramePr>
        <p:xfrm>
          <a:off x="1828800" y="2724120"/>
          <a:ext cx="401760" cy="1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724120"/>
                    <a:ext cx="40176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228600" y="1504800"/>
          <a:ext cx="401760" cy="1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504800"/>
                    <a:ext cx="40176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1"/>
          <p:cNvGraphicFramePr/>
          <p:nvPr/>
        </p:nvGraphicFramePr>
        <p:xfrm>
          <a:off x="1689120" y="673200"/>
          <a:ext cx="37476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9120" y="673200"/>
                    <a:ext cx="37476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2"/>
          <p:cNvGraphicFramePr/>
          <p:nvPr/>
        </p:nvGraphicFramePr>
        <p:xfrm>
          <a:off x="3200400" y="1504800"/>
          <a:ext cx="37476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1504800"/>
                    <a:ext cx="37476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13" descr=""/>
          <p:cNvPicPr/>
          <p:nvPr/>
        </p:nvPicPr>
        <p:blipFill>
          <a:blip r:embed="rId11"/>
          <a:stretch/>
        </p:blipFill>
        <p:spPr>
          <a:xfrm>
            <a:off x="4797360" y="819000"/>
            <a:ext cx="274644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14"/>
          <p:cNvGraphicFramePr/>
          <p:nvPr/>
        </p:nvGraphicFramePr>
        <p:xfrm>
          <a:off x="4800600" y="2724120"/>
          <a:ext cx="3429000" cy="932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0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0600" y="2724120"/>
                    <a:ext cx="34290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5"/>
          <p:cNvSpPr/>
          <p:nvPr/>
        </p:nvSpPr>
        <p:spPr>
          <a:xfrm>
            <a:off x="457200" y="1047600"/>
            <a:ext cx="76960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ethod based on Taylor series expression of differenc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Unknown variable is solved at fixed number of pre-defined discrete points or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rror is bounded by the truncated term of difference approx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is error is a function of spacing between consecutive nodes or grid-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Finite differenc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5"/>
          <p:cNvSpPr/>
          <p:nvPr/>
        </p:nvSpPr>
        <p:spPr>
          <a:xfrm>
            <a:off x="457200" y="1047600"/>
            <a:ext cx="76960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anded diagonal matrix is ob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or Laplace/Poisson equation gives tridagonal matrix in 1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entadiagonal in 2D and septadiagonal in 3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or uniform mesh, matrix is sym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Finite differenc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Object 7"/>
          <p:cNvGraphicFramePr/>
          <p:nvPr/>
        </p:nvGraphicFramePr>
        <p:xfrm>
          <a:off x="2438280" y="2495520"/>
          <a:ext cx="289584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95520"/>
                    <a:ext cx="289584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51920" y="352440"/>
            <a:ext cx="89917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Finite volum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590920" y="1352520"/>
            <a:ext cx="3124080" cy="18414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725040" y="971640"/>
            <a:ext cx="60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DEs are expressed as flux differenced between two su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8"/>
          <p:cNvSpPr/>
          <p:nvPr/>
        </p:nvSpPr>
        <p:spPr>
          <a:xfrm>
            <a:off x="533520" y="3409920"/>
            <a:ext cx="8153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eat gener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.dx.dy.1=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dx.1+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dy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, Q=0=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dy+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=(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dy+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dy)/dy+ (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dx+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dx)/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Finite element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304920" y="743040"/>
            <a:ext cx="3157560" cy="22780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3733920" y="819000"/>
            <a:ext cx="52578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Entire domain is discretized into a number of smaller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A trial/test solution is assumed within each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Error is estimated from the trial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otal error inside each element is integrated and the integral is minimized to get a trial solution with least error, i.e., maximum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1295280" y="3333600"/>
            <a:ext cx="78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Advantage: Mathematically sound, element shape can vary, compl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                    </a:t>
            </a: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geometries can be easily hand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Disadvantage: Difficult mathematics, discretization along flow direction is diffic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6"/>
          <p:cNvSpPr/>
          <p:nvPr/>
        </p:nvSpPr>
        <p:spPr>
          <a:xfrm>
            <a:off x="609480" y="1047600"/>
            <a:ext cx="784872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entury Gothic"/>
                <a:ea typeface="Arial"/>
              </a:rPr>
              <a:t>Discretization error </a:t>
            </a:r>
            <a:r>
              <a:rPr b="0" lang="en-US" sz="1600" spc="-1" strike="noStrike">
                <a:solidFill>
                  <a:srgbClr val="0070c0"/>
                </a:solidFill>
                <a:latin typeface="Century Gothic"/>
                <a:ea typeface="Arial"/>
              </a:rPr>
              <a:t>(due to difference approximation, vanishes as grid-spacing decreases or no. of discrete point (</a:t>
            </a:r>
            <a:r>
              <a:rPr b="0" i="1" lang="en-US" sz="1600" spc="-1" strike="noStrike">
                <a:solidFill>
                  <a:srgbClr val="0070c0"/>
                </a:solidFill>
                <a:latin typeface="Century Gothic"/>
                <a:ea typeface="Arial"/>
              </a:rPr>
              <a:t>N</a:t>
            </a:r>
            <a:r>
              <a:rPr b="0" lang="en-US" sz="1600" spc="-1" strike="noStrike">
                <a:solidFill>
                  <a:srgbClr val="0070c0"/>
                </a:solidFill>
                <a:latin typeface="Century Gothic"/>
                <a:ea typeface="Arial"/>
              </a:rPr>
              <a:t>) increa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entury Gothic"/>
                <a:ea typeface="Arial"/>
              </a:rPr>
              <a:t>Round-off error </a:t>
            </a:r>
            <a:r>
              <a:rPr b="0" lang="en-US" sz="1600" spc="-1" strike="noStrike">
                <a:solidFill>
                  <a:srgbClr val="0070c0"/>
                </a:solidFill>
                <a:latin typeface="Century Gothic"/>
                <a:ea typeface="Arial"/>
              </a:rPr>
              <a:t>(precision of the computer to round of after few decimal plac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entury Gothic"/>
                <a:ea typeface="Arial"/>
              </a:rPr>
              <a:t>increases with increase in no of calculation steps or with higher                                           no of discrete points (</a:t>
            </a:r>
            <a:r>
              <a:rPr b="0" i="1" lang="en-US" sz="1600" spc="-1" strike="noStrike">
                <a:solidFill>
                  <a:srgbClr val="0070c0"/>
                </a:solidFill>
                <a:latin typeface="Century Gothic"/>
                <a:ea typeface="Arial"/>
              </a:rPr>
              <a:t>N</a:t>
            </a:r>
            <a:r>
              <a:rPr b="0" lang="en-US" sz="1600" spc="-1" strike="noStrike">
                <a:solidFill>
                  <a:srgbClr val="0070c0"/>
                </a:solidFill>
                <a:latin typeface="Century Gothic"/>
                <a:ea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entury Gothic"/>
                <a:ea typeface="Arial"/>
              </a:rPr>
              <a:t>22/7=3.14285714285714285714285714285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Errors associ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133720" y="3333600"/>
            <a:ext cx="2819160" cy="22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8"/>
          <p:cNvSpPr/>
          <p:nvPr/>
        </p:nvSpPr>
        <p:spPr>
          <a:xfrm>
            <a:off x="3352680" y="173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 flipH="1">
            <a:off x="3352680" y="31813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0"/>
          <p:cNvSpPr/>
          <p:nvPr/>
        </p:nvSpPr>
        <p:spPr>
          <a:xfrm>
            <a:off x="3657600" y="1992240"/>
            <a:ext cx="1828800" cy="546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1152" h="344">
                <a:moveTo>
                  <a:pt x="0" y="0"/>
                </a:moveTo>
                <a:cubicBezTo>
                  <a:pt x="28" y="72"/>
                  <a:pt x="56" y="144"/>
                  <a:pt x="96" y="192"/>
                </a:cubicBezTo>
                <a:cubicBezTo>
                  <a:pt x="136" y="240"/>
                  <a:pt x="176" y="264"/>
                  <a:pt x="240" y="288"/>
                </a:cubicBezTo>
                <a:cubicBezTo>
                  <a:pt x="304" y="312"/>
                  <a:pt x="400" y="328"/>
                  <a:pt x="480" y="336"/>
                </a:cubicBezTo>
                <a:cubicBezTo>
                  <a:pt x="560" y="344"/>
                  <a:pt x="648" y="344"/>
                  <a:pt x="720" y="336"/>
                </a:cubicBezTo>
                <a:cubicBezTo>
                  <a:pt x="792" y="328"/>
                  <a:pt x="840" y="320"/>
                  <a:pt x="912" y="288"/>
                </a:cubicBezTo>
                <a:cubicBezTo>
                  <a:pt x="984" y="256"/>
                  <a:pt x="1068" y="200"/>
                  <a:pt x="1152" y="144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 rot="16200000">
            <a:off x="2503440" y="2201760"/>
            <a:ext cx="15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tal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809880" y="3227400"/>
            <a:ext cx="15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x (grid spac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6019920" y="257184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x =L/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2286000" y="2541600"/>
            <a:ext cx="2209680" cy="9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304920" y="3486240"/>
            <a:ext cx="350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id independent solution preferred gri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Optim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Validation and ver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380880" y="10666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Validation: Comparison with availabl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xperimental/ analytical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9" descr=""/>
          <p:cNvPicPr/>
          <p:nvPr/>
        </p:nvPicPr>
        <p:blipFill>
          <a:blip r:embed="rId1"/>
          <a:srcRect l="3238" t="0" r="0" b="0"/>
          <a:stretch/>
        </p:blipFill>
        <p:spPr>
          <a:xfrm>
            <a:off x="685800" y="1809720"/>
            <a:ext cx="2739960" cy="21826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8"/>
          <p:cNvSpPr/>
          <p:nvPr/>
        </p:nvSpPr>
        <p:spPr>
          <a:xfrm>
            <a:off x="4648320" y="990720"/>
            <a:ext cx="449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Verification: verifying the accuracy of th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rror is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(or higher) order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f grid-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Log_err"/>
          <p:cNvPicPr/>
          <p:nvPr/>
        </p:nvPicPr>
        <p:blipFill>
          <a:blip r:embed="rId2"/>
          <a:stretch/>
        </p:blipFill>
        <p:spPr>
          <a:xfrm>
            <a:off x="5791320" y="1752480"/>
            <a:ext cx="25509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Matrix representation of physical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43000" y="971640"/>
            <a:ext cx="844380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ystem of linear equations with multiple variables can be expressed as matrix eq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hysical systems with multiple degree of freedom can give matrix eq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ate equations in a continuum can be converted to matrix equations by Taylor series like approxim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ontinuum ideally have infinite degree of freedom, but can be approximated with a  large finite number of discrete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CBBB-5FAB-4B84-83D8-32BB256F6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457200" y="1123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ifferential equation -&gt; Difference equations (addition-subtraction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8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Discretization – journey from analytical to numer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80880" y="2133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ne-dimensional steady heat co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200400" y="2952720"/>
            <a:ext cx="4267080" cy="15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7"/>
          <p:cNvGraphicFramePr/>
          <p:nvPr/>
        </p:nvGraphicFramePr>
        <p:xfrm>
          <a:off x="4876920" y="1905120"/>
          <a:ext cx="121896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05120"/>
                    <a:ext cx="121896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Box 9"/>
          <p:cNvSpPr/>
          <p:nvPr/>
        </p:nvSpPr>
        <p:spPr>
          <a:xfrm>
            <a:off x="6324480" y="19620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Steady heat flow, constant condu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048120" y="3105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7238880" y="31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304920" y="37908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oundary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2997360" y="3597120"/>
          <a:ext cx="134604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97360" y="3597120"/>
                    <a:ext cx="13460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06DC-2A01-4EA4-868E-149EE1A94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Discretization – Finite differenc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1143000" y="173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6400800" y="158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905120" y="1428840"/>
            <a:ext cx="4267080" cy="15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1752480" y="1352520"/>
            <a:ext cx="30492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2362320" y="1352520"/>
            <a:ext cx="30456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2895480" y="1352520"/>
            <a:ext cx="30492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3505320" y="1352520"/>
            <a:ext cx="30456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4114800" y="1352520"/>
            <a:ext cx="30492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4724280" y="1352520"/>
            <a:ext cx="30492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0"/>
          <p:cNvSpPr/>
          <p:nvPr/>
        </p:nvSpPr>
        <p:spPr>
          <a:xfrm>
            <a:off x="5334120" y="1352520"/>
            <a:ext cx="30456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1"/>
          <p:cNvSpPr/>
          <p:nvPr/>
        </p:nvSpPr>
        <p:spPr>
          <a:xfrm>
            <a:off x="5943600" y="1352520"/>
            <a:ext cx="30492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1828800" y="16574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      2        3        4           5          6         7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24"/>
          <p:cNvCxnSpPr/>
          <p:nvPr/>
        </p:nvCxnSpPr>
        <p:spPr>
          <a:xfrm>
            <a:off x="4343400" y="119988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" name="TextBox 22"/>
          <p:cNvSpPr/>
          <p:nvPr/>
        </p:nvSpPr>
        <p:spPr>
          <a:xfrm>
            <a:off x="4343400" y="81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8"/>
          <p:cNvGraphicFramePr/>
          <p:nvPr/>
        </p:nvGraphicFramePr>
        <p:xfrm>
          <a:off x="380880" y="2647800"/>
          <a:ext cx="7666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47800"/>
                    <a:ext cx="7666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Box 26"/>
          <p:cNvSpPr/>
          <p:nvPr/>
        </p:nvSpPr>
        <p:spPr>
          <a:xfrm>
            <a:off x="3429000" y="188604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(x-dx)   T(x)      T(x+dx)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20"/>
          <p:cNvGraphicFramePr/>
          <p:nvPr/>
        </p:nvGraphicFramePr>
        <p:xfrm>
          <a:off x="380880" y="3638520"/>
          <a:ext cx="76201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638520"/>
                    <a:ext cx="7620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Box 22"/>
          <p:cNvSpPr/>
          <p:nvPr/>
        </p:nvSpPr>
        <p:spPr>
          <a:xfrm>
            <a:off x="7010280" y="120024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n-IN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uniform me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24"/>
          <p:cNvSpPr/>
          <p:nvPr/>
        </p:nvSpPr>
        <p:spPr>
          <a:xfrm>
            <a:off x="304920" y="5144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dding (A) and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9"/>
          <p:cNvGraphicFramePr/>
          <p:nvPr/>
        </p:nvGraphicFramePr>
        <p:xfrm>
          <a:off x="1295280" y="3257640"/>
          <a:ext cx="708372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57640"/>
                    <a:ext cx="70837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ight Brace 8"/>
          <p:cNvSpPr/>
          <p:nvPr/>
        </p:nvSpPr>
        <p:spPr>
          <a:xfrm rot="5400000">
            <a:off x="3123720" y="2571480"/>
            <a:ext cx="304920" cy="289548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2895480"/>
              <a:gd name="textAreaBottom" fmla="*/ 28875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16200" y="10800"/>
                  <a:pt x="21600" y="10800"/>
                </a:cubicBezTo>
                <a:cubicBezTo>
                  <a:pt x="162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ight Brace 9"/>
          <p:cNvSpPr/>
          <p:nvPr/>
        </p:nvSpPr>
        <p:spPr>
          <a:xfrm rot="5400000">
            <a:off x="6248160" y="2342880"/>
            <a:ext cx="381240" cy="3276720"/>
          </a:xfrm>
          <a:custGeom>
            <a:avLst/>
            <a:gdLst>
              <a:gd name="textAreaLeft" fmla="*/ 0 w 381240"/>
              <a:gd name="textAreaRight" fmla="*/ 137520 w 381240"/>
              <a:gd name="textAreaTop" fmla="*/ 9720 h 3276720"/>
              <a:gd name="textAreaBottom" fmla="*/ 32670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5"/>
                  <a:pt x="10800" y="209"/>
                </a:cubicBezTo>
                <a:lnTo>
                  <a:pt x="10800" y="10591"/>
                </a:lnTo>
                <a:cubicBezTo>
                  <a:pt x="10800" y="10696"/>
                  <a:pt x="16200" y="10800"/>
                  <a:pt x="21600" y="10800"/>
                </a:cubicBezTo>
                <a:cubicBezTo>
                  <a:pt x="16200" y="10800"/>
                  <a:pt x="10800" y="10905"/>
                  <a:pt x="10800" y="11009"/>
                </a:cubicBezTo>
                <a:lnTo>
                  <a:pt x="10800" y="21391"/>
                </a:lnTo>
                <a:cubicBezTo>
                  <a:pt x="10800" y="214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0"/>
          <p:cNvSpPr/>
          <p:nvPr/>
        </p:nvSpPr>
        <p:spPr>
          <a:xfrm>
            <a:off x="2362320" y="409572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  <a:ea typeface="Arial"/>
              </a:rPr>
              <a:t>approximation                                                   error (of orde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457200" y="971640"/>
          <a:ext cx="766620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71640"/>
                    <a:ext cx="76662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7"/>
          <p:cNvGraphicFramePr/>
          <p:nvPr/>
        </p:nvGraphicFramePr>
        <p:xfrm>
          <a:off x="457200" y="2343240"/>
          <a:ext cx="609588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43240"/>
                    <a:ext cx="60958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Discretization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Object 9"/>
          <p:cNvGraphicFramePr/>
          <p:nvPr/>
        </p:nvGraphicFramePr>
        <p:xfrm>
          <a:off x="457200" y="743040"/>
          <a:ext cx="133992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43040"/>
                    <a:ext cx="13399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5"/>
          <p:cNvSpPr/>
          <p:nvPr/>
        </p:nvSpPr>
        <p:spPr>
          <a:xfrm>
            <a:off x="1969200" y="89532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s the largest term in the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80880" y="165744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rod has a length 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x=1/N 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So, (dx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&lt;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s we will increase number of grid points, error will be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90E9-A25C-4D12-BB0D-E3E5546C5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Non-Uniform me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1143000" y="158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400800" y="150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905120" y="1428840"/>
            <a:ext cx="4267080" cy="15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1752480" y="1352520"/>
            <a:ext cx="30492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5"/>
          <p:cNvSpPr/>
          <p:nvPr/>
        </p:nvSpPr>
        <p:spPr>
          <a:xfrm>
            <a:off x="2133720" y="1352520"/>
            <a:ext cx="30456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743200" y="1352520"/>
            <a:ext cx="30492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3429000" y="1352520"/>
            <a:ext cx="30492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4191120" y="1352520"/>
            <a:ext cx="30456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9"/>
          <p:cNvSpPr/>
          <p:nvPr/>
        </p:nvSpPr>
        <p:spPr>
          <a:xfrm>
            <a:off x="4952880" y="1352520"/>
            <a:ext cx="30492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1"/>
          <p:cNvSpPr/>
          <p:nvPr/>
        </p:nvSpPr>
        <p:spPr>
          <a:xfrm>
            <a:off x="5943600" y="1352520"/>
            <a:ext cx="304920" cy="30492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1828800" y="165744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    2       3         4              5              6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24"/>
          <p:cNvCxnSpPr/>
          <p:nvPr/>
        </p:nvCxnSpPr>
        <p:spPr>
          <a:xfrm>
            <a:off x="4343040" y="120024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" name="TextBox 22"/>
          <p:cNvSpPr/>
          <p:nvPr/>
        </p:nvSpPr>
        <p:spPr>
          <a:xfrm>
            <a:off x="4495680" y="819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762120" y="2266920"/>
          <a:ext cx="759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66920"/>
                    <a:ext cx="759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Box 26"/>
          <p:cNvSpPr/>
          <p:nvPr/>
        </p:nvSpPr>
        <p:spPr>
          <a:xfrm>
            <a:off x="3429000" y="188604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(x-dh)   T(x)      T(x+rdh)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22"/>
          <p:cNvCxnSpPr/>
          <p:nvPr/>
        </p:nvCxnSpPr>
        <p:spPr>
          <a:xfrm>
            <a:off x="3657240" y="12002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" name="TextBox 22"/>
          <p:cNvSpPr/>
          <p:nvPr/>
        </p:nvSpPr>
        <p:spPr>
          <a:xfrm>
            <a:off x="3657600" y="81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9"/>
          <p:cNvGraphicFramePr/>
          <p:nvPr/>
        </p:nvGraphicFramePr>
        <p:xfrm>
          <a:off x="1641600" y="3476520"/>
          <a:ext cx="392112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1600" y="3476520"/>
                    <a:ext cx="39211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Finite difference method- equ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1295280" y="1504800"/>
            <a:ext cx="4267440" cy="152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1143000" y="1428840"/>
            <a:ext cx="304920" cy="30456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1600200" y="1428840"/>
            <a:ext cx="304920" cy="30456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2057400" y="1428840"/>
            <a:ext cx="304920" cy="30456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2590920" y="1428840"/>
            <a:ext cx="304560" cy="30456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3124080" y="1428840"/>
            <a:ext cx="304920" cy="30456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3657600" y="1428840"/>
            <a:ext cx="304920" cy="30456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4191120" y="1428840"/>
            <a:ext cx="304560" cy="30456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5334120" y="1428840"/>
            <a:ext cx="304560" cy="30456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1219320" y="2114640"/>
          <a:ext cx="4349520" cy="17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14640"/>
                    <a:ext cx="434952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Box 15"/>
          <p:cNvSpPr/>
          <p:nvPr/>
        </p:nvSpPr>
        <p:spPr>
          <a:xfrm>
            <a:off x="1143000" y="1809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      2       3        4        5       6        7         8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20"/>
          <p:cNvCxnSpPr/>
          <p:nvPr/>
        </p:nvCxnSpPr>
        <p:spPr>
          <a:xfrm>
            <a:off x="3733560" y="127584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Box 21"/>
          <p:cNvSpPr/>
          <p:nvPr/>
        </p:nvSpPr>
        <p:spPr>
          <a:xfrm>
            <a:off x="838080" y="104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5489640" y="112392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24"/>
          <p:cNvCxnSpPr/>
          <p:nvPr/>
        </p:nvCxnSpPr>
        <p:spPr>
          <a:xfrm>
            <a:off x="6400440" y="1047240"/>
            <a:ext cx="305640" cy="229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5" name="TextBox 31"/>
          <p:cNvSpPr/>
          <p:nvPr/>
        </p:nvSpPr>
        <p:spPr>
          <a:xfrm>
            <a:off x="380880" y="38671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, a set of linear equations are obtained  for temperature at points 2,3,…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3809880" y="81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9"/>
          <p:cNvGraphicFramePr/>
          <p:nvPr/>
        </p:nvGraphicFramePr>
        <p:xfrm>
          <a:off x="6629400" y="1123920"/>
          <a:ext cx="1854360" cy="25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1123920"/>
                    <a:ext cx="1854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Box 21"/>
          <p:cNvSpPr/>
          <p:nvPr/>
        </p:nvSpPr>
        <p:spPr>
          <a:xfrm>
            <a:off x="6095880" y="743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29"/>
          <p:cNvCxnSpPr/>
          <p:nvPr/>
        </p:nvCxnSpPr>
        <p:spPr>
          <a:xfrm flipH="1" flipV="1">
            <a:off x="8000280" y="3561480"/>
            <a:ext cx="229320" cy="229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" name="TextBox 21"/>
          <p:cNvSpPr/>
          <p:nvPr/>
        </p:nvSpPr>
        <p:spPr>
          <a:xfrm>
            <a:off x="8001000" y="3790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4800600" y="1428840"/>
            <a:ext cx="304920" cy="304560"/>
          </a:xfrm>
          <a:prstGeom prst="ellipse">
            <a:avLst/>
          </a:prstGeom>
          <a:solidFill>
            <a:srgbClr val="db31b7">
              <a:alpha val="17000"/>
            </a:srgbClr>
          </a:solidFill>
          <a:ln w="25560">
            <a:solidFill>
              <a:srgbClr val="db3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5"/>
          <p:cNvSpPr/>
          <p:nvPr/>
        </p:nvSpPr>
        <p:spPr>
          <a:xfrm>
            <a:off x="152280" y="18097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Uniform m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7"/>
          <p:cNvGraphicFramePr/>
          <p:nvPr/>
        </p:nvGraphicFramePr>
        <p:xfrm>
          <a:off x="2438280" y="1035000"/>
          <a:ext cx="45738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035000"/>
                    <a:ext cx="45738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 txBox="1"/>
          <p:nvPr/>
        </p:nvSpPr>
        <p:spPr>
          <a:xfrm>
            <a:off x="151920" y="352440"/>
            <a:ext cx="899172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Matrix re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533520" y="3409920"/>
            <a:ext cx="8305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t is important to have boundary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If both boundary has T=0, trivial solution T=0 at all points are ob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2438280" y="1352520"/>
            <a:ext cx="2743200" cy="213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7"/>
          <p:cNvSpPr/>
          <p:nvPr/>
        </p:nvSpPr>
        <p:spPr>
          <a:xfrm>
            <a:off x="3048120" y="819000"/>
            <a:ext cx="2743200" cy="213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7238880" y="1504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6092"/>
                </a:solidFill>
                <a:latin typeface="Century Gothic"/>
              </a:rPr>
              <a:t>Banded sparse matrix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6092"/>
                </a:solidFill>
                <a:latin typeface="Century Gothic"/>
              </a:rPr>
              <a:t>Tridiaginal matr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7:50:37Z</dcterms:created>
  <dc:creator>i4344 sushanta</dc:creator>
  <dc:description/>
  <dc:language>en-US</dc:language>
  <cp:lastModifiedBy>math</cp:lastModifiedBy>
  <dcterms:modified xsi:type="dcterms:W3CDTF">2019-09-22T06:57:01Z</dcterms:modified>
  <cp:revision>182</cp:revision>
  <dc:subject/>
  <dc:title>Slide 1</dc:title>
</cp:coreProperties>
</file>