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2.wmf" ContentType="image/x-wmf"/>
  <Override PartName="/ppt/media/image27.png" ContentType="image/png"/>
  <Override PartName="/ppt/media/image18.wmf" ContentType="image/x-wm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7.wmf" ContentType="image/x-wmf"/>
  <Override PartName="/ppt/media/image26.png" ContentType="image/png"/>
  <Override PartName="/ppt/media/image11.wmf" ContentType="image/x-wmf"/>
  <Override PartName="/ppt/media/image31.jpeg" ContentType="image/jpeg"/>
  <Override PartName="/ppt/media/image25.png" ContentType="image/png"/>
  <Override PartName="/ppt/media/image3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1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notesMasterIdLst>
    <p:notesMasterId r:id="rId86"/>
  </p:notesMasterIdLst>
  <p:sldIdLst>
    <p:sldId id="256" r:id="rId87"/>
    <p:sldId id="257" r:id="rId88"/>
    <p:sldId id="258" r:id="rId89"/>
    <p:sldId id="259" r:id="rId90"/>
    <p:sldId id="260" r:id="rId91"/>
    <p:sldId id="261" r:id="rId92"/>
    <p:sldId id="262" r:id="rId93"/>
    <p:sldId id="263" r:id="rId94"/>
    <p:sldId id="264" r:id="rId95"/>
    <p:sldId id="265" r:id="rId96"/>
    <p:sldId id="266" r:id="rId97"/>
    <p:sldId id="267" r:id="rId98"/>
    <p:sldId id="268" r:id="rId99"/>
    <p:sldId id="269" r:id="rId100"/>
    <p:sldId id="270" r:id="rId101"/>
    <p:sldId id="271" r:id="rId102"/>
    <p:sldId id="272" r:id="rId103"/>
    <p:sldId id="273" r:id="rId104"/>
    <p:sldId id="274" r:id="rId105"/>
    <p:sldId id="275" r:id="rId106"/>
    <p:sldId id="276" r:id="rId107"/>
    <p:sldId id="277" r:id="rId108"/>
    <p:sldId id="278" r:id="rId109"/>
    <p:sldId id="279" r:id="rId110"/>
    <p:sldId id="280" r:id="rId111"/>
    <p:sldId id="281" r:id="rId112"/>
    <p:sldId id="282" r:id="rId113"/>
    <p:sldId id="283" r:id="rId114"/>
    <p:sldId id="284" r:id="rId115"/>
    <p:sldId id="285" r:id="rId116"/>
    <p:sldId id="286" r:id="rId117"/>
    <p:sldId id="287" r:id="rId118"/>
    <p:sldId id="288" r:id="rId119"/>
    <p:sldId id="289" r:id="rId120"/>
    <p:sldId id="290" r:id="rId121"/>
    <p:sldId id="291" r:id="rId122"/>
    <p:sldId id="292" r:id="rId1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notesMaster" Target="notesMasters/notesMaster1.xml"/><Relationship Id="rId87" Type="http://schemas.openxmlformats.org/officeDocument/2006/relationships/slide" Target="slides/slide1.xml"/><Relationship Id="rId88" Type="http://schemas.openxmlformats.org/officeDocument/2006/relationships/slide" Target="slides/slide2.xml"/><Relationship Id="rId89" Type="http://schemas.openxmlformats.org/officeDocument/2006/relationships/slide" Target="slides/slide3.xml"/><Relationship Id="rId90" Type="http://schemas.openxmlformats.org/officeDocument/2006/relationships/slide" Target="slides/slide4.xml"/><Relationship Id="rId91" Type="http://schemas.openxmlformats.org/officeDocument/2006/relationships/slide" Target="slides/slide5.xml"/><Relationship Id="rId92" Type="http://schemas.openxmlformats.org/officeDocument/2006/relationships/slide" Target="slides/slide6.xml"/><Relationship Id="rId93" Type="http://schemas.openxmlformats.org/officeDocument/2006/relationships/slide" Target="slides/slide7.xml"/><Relationship Id="rId94" Type="http://schemas.openxmlformats.org/officeDocument/2006/relationships/slide" Target="slides/slide8.xml"/><Relationship Id="rId95" Type="http://schemas.openxmlformats.org/officeDocument/2006/relationships/slide" Target="slides/slide9.xml"/><Relationship Id="rId96" Type="http://schemas.openxmlformats.org/officeDocument/2006/relationships/slide" Target="slides/slide10.xml"/><Relationship Id="rId97" Type="http://schemas.openxmlformats.org/officeDocument/2006/relationships/slide" Target="slides/slide11.xml"/><Relationship Id="rId98" Type="http://schemas.openxmlformats.org/officeDocument/2006/relationships/slide" Target="slides/slide12.xml"/><Relationship Id="rId99" Type="http://schemas.openxmlformats.org/officeDocument/2006/relationships/slide" Target="slides/slide13.xml"/><Relationship Id="rId100" Type="http://schemas.openxmlformats.org/officeDocument/2006/relationships/slide" Target="slides/slide14.xml"/><Relationship Id="rId101" Type="http://schemas.openxmlformats.org/officeDocument/2006/relationships/slide" Target="slides/slide15.xml"/><Relationship Id="rId102" Type="http://schemas.openxmlformats.org/officeDocument/2006/relationships/slide" Target="slides/slide16.xml"/><Relationship Id="rId103" Type="http://schemas.openxmlformats.org/officeDocument/2006/relationships/slide" Target="slides/slide17.xml"/><Relationship Id="rId104" Type="http://schemas.openxmlformats.org/officeDocument/2006/relationships/slide" Target="slides/slide18.xml"/><Relationship Id="rId105" Type="http://schemas.openxmlformats.org/officeDocument/2006/relationships/slide" Target="slides/slide19.xml"/><Relationship Id="rId106" Type="http://schemas.openxmlformats.org/officeDocument/2006/relationships/slide" Target="slides/slide20.xml"/><Relationship Id="rId107" Type="http://schemas.openxmlformats.org/officeDocument/2006/relationships/slide" Target="slides/slide21.xml"/><Relationship Id="rId108" Type="http://schemas.openxmlformats.org/officeDocument/2006/relationships/slide" Target="slides/slide22.xml"/><Relationship Id="rId109" Type="http://schemas.openxmlformats.org/officeDocument/2006/relationships/slide" Target="slides/slide23.xml"/><Relationship Id="rId110" Type="http://schemas.openxmlformats.org/officeDocument/2006/relationships/slide" Target="slides/slide24.xml"/><Relationship Id="rId111" Type="http://schemas.openxmlformats.org/officeDocument/2006/relationships/slide" Target="slides/slide25.xml"/><Relationship Id="rId112" Type="http://schemas.openxmlformats.org/officeDocument/2006/relationships/slide" Target="slides/slide26.xml"/><Relationship Id="rId113" Type="http://schemas.openxmlformats.org/officeDocument/2006/relationships/slide" Target="slides/slide27.xml"/><Relationship Id="rId114" Type="http://schemas.openxmlformats.org/officeDocument/2006/relationships/slide" Target="slides/slide28.xml"/><Relationship Id="rId115" Type="http://schemas.openxmlformats.org/officeDocument/2006/relationships/slide" Target="slides/slide29.xml"/><Relationship Id="rId116" Type="http://schemas.openxmlformats.org/officeDocument/2006/relationships/slide" Target="slides/slide30.xml"/><Relationship Id="rId117" Type="http://schemas.openxmlformats.org/officeDocument/2006/relationships/slide" Target="slides/slide31.xml"/><Relationship Id="rId118" Type="http://schemas.openxmlformats.org/officeDocument/2006/relationships/slide" Target="slides/slide32.xml"/><Relationship Id="rId119" Type="http://schemas.openxmlformats.org/officeDocument/2006/relationships/slide" Target="slides/slide33.xml"/><Relationship Id="rId120" Type="http://schemas.openxmlformats.org/officeDocument/2006/relationships/slide" Target="slides/slide34.xml"/><Relationship Id="rId121" Type="http://schemas.openxmlformats.org/officeDocument/2006/relationships/slide" Target="slides/slide35.xml"/><Relationship Id="rId122" Type="http://schemas.openxmlformats.org/officeDocument/2006/relationships/slide" Target="slides/slide36.xml"/><Relationship Id="rId123" Type="http://schemas.openxmlformats.org/officeDocument/2006/relationships/slide" Target="slides/slide3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7" name="Text Box 3"/>
          <p:cNvSpPr/>
          <p:nvPr/>
        </p:nvSpPr>
        <p:spPr>
          <a:xfrm>
            <a:off x="0" y="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8" name="Text Box 4"/>
          <p:cNvSpPr/>
          <p:nvPr/>
        </p:nvSpPr>
        <p:spPr>
          <a:xfrm>
            <a:off x="3886200" y="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1"/>
          <p:cNvSpPr>
            <a:spLocks noGrp="1"/>
          </p:cNvSpPr>
          <p:nvPr>
            <p:ph type="sldImg"/>
          </p:nvPr>
        </p:nvSpPr>
        <p:spPr>
          <a:xfrm>
            <a:off x="686880" y="685800"/>
            <a:ext cx="548028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7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 type="sldNum" idx="133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4E46E-325A-4724-B657-7A0F5B957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EE2BD-0605-44BA-8362-28D46D6BA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BA87D-34D6-49E1-AE94-DA5C6592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3A2B7-6D14-4B16-8ED8-2E9AF961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D20A2-C903-47C5-9DA0-2130282A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9ACB-AF99-4DC0-8C73-65F1F35B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3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89FC9-A49A-4F92-B6C2-21687939F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1449A-8E37-46C6-A4E6-A48FFD8E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70F44-EB20-4363-B3C6-B3DAC622F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CD06-C7A4-43B3-97AD-B2DA212F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1B4DB-8E5B-492E-93B1-4392ECF3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DB30D-6D9F-485C-8D0A-C8C4BB0C3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E8F8D462-43DE-40A7-BE22-439BDA9C6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sldImg"/>
          </p:nvPr>
        </p:nvSpPr>
        <p:spPr>
          <a:xfrm>
            <a:off x="687240" y="685800"/>
            <a:ext cx="5480280" cy="3425760"/>
          </a:xfrm>
          <a:prstGeom prst="rect">
            <a:avLst/>
          </a:prstGeom>
          <a:ln w="0">
            <a:noFill/>
          </a:ln>
        </p:spPr>
      </p:sp>
      <p:sp>
        <p:nvSpPr>
          <p:cNvPr id="413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Slide Number Placeholder 3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10036-5DCF-4C7E-915C-AC023CF18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634C-8EA0-462E-929D-E1F8DBD98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A1B0-70FD-42E0-9C39-04880FD92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776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B1CF0-828B-4DEE-9673-0DD6057C0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17C6-6C58-4294-A4BA-42E5B8CE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6E27F-3887-486A-B8A1-83B8DAF5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7F630-9BA1-4243-B540-FF14F0D4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776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CB462-7307-44CF-99B6-D74856789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074A7-A482-4F9D-9B69-CB7AF42F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776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81DC-7F87-4B85-A923-E90C4818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97A81-E650-4807-9D40-7D1C78CC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66214-EC5D-4132-AF85-844A2FF0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Text Box 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63CC3-0279-41AB-BA10-24F4D4C9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2937-FFEB-468C-B253-F0A566185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DE8D-6633-410B-9997-B69951A2A5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720BC2-4EAA-496F-B39E-461C51CC1529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7E849F-D0E5-415B-B28A-3144F64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8A93D9-521C-4223-B5BF-2E750B35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BD080B-11B1-4142-BC3C-037B80F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DB7699-59C6-48B0-9C3E-A1F7794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F94D97-A233-469E-8548-07372A2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B22DE4-3529-45DA-83BF-D542AD9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0704BE-4D93-414F-B4F5-CE3A12B1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6DD115-1340-41E8-928A-AF90DD99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47AF01-0CDD-425A-A09B-10503837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6F7246-AB8F-4610-8A4C-589DDC2968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E0847F-7052-4D06-B9F1-131FFCA7AF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AD568C-C33E-458C-A1B0-F9E715760E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37FB54-9518-4119-9CAA-F1AF220B66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A98E7-8DA7-4160-BBB1-C3BA8C32D6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31FB4-ECB3-4266-8ABB-4837B9FBD4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A101C-768B-434B-85AA-BBA64C42AA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F641E-7911-42AA-A0F2-EEFD386416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19920-B0BB-4E4E-AE3E-95ADB126B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D6E7-BDE2-44DA-8C8D-E581E3F2C2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DBA13-49E0-4F3D-98CE-C4FB6BB9B9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7B272-A66B-46F0-851E-FB7BFF0A64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09234-5665-48AC-9FFD-1480BBE3C5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40ADA-D037-4F50-9B11-BE1686FEFE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C382B-3A3A-4AF5-A31C-FC82EF50E2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0D866-6D11-4EB4-9037-A8CC500659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D9D9A-CA31-4722-823F-8CF8A44B5D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FE5CD-4741-4737-9D4D-3233DE6585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A9C89-85D8-4D39-9072-76BFA0FEAC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499EF-275F-459E-A503-D9F3E1C2D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688F-2363-47B3-8452-0E0ED52E1A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55E5A-F49F-4697-80E6-87EE1AD124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9DA0-59D2-4606-A4BD-84E3581BB4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26F3-2B4E-44D3-B1FB-3B60CAE7F9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9272-6D77-4838-BC2E-680725C5904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4F27-7C5C-4644-AB0C-B976CA9130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F3AE6-A61B-43C2-AB94-4F94C2BFD7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0D20-CCAE-4CDE-B70B-591D35E873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656B-87D5-4864-A48D-BEA033A85D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7604-980F-4C3A-870E-AEF999A840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82DC-F055-4D9A-8A11-32834A1FC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9552-C7D1-4CA8-A184-F926FA1A65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16C5-CDAD-4E11-A7C9-33AADE2AF0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D7EB-0314-4B43-AE83-D55D2A66B03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522C-B3CA-44AC-AD6B-9C4D213D22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5E7E8A-620B-4557-B20A-269A4026FF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FC3C3-BBD1-496E-A5D4-F985D1EB02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2D64B-D46A-485F-9DA9-3E3498F425B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FB767-CB5F-4C22-A7C3-4916E59680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E46070-D1E8-4132-A4A1-521C67D41A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D2D6B2-B62F-4088-86EF-170D0DB8499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1AD2BC-D3AB-4916-90BC-70C764B74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D22E-C207-47D7-B692-F071610821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2E239-4C30-4ABC-8958-FA64FF15F1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D1D884-1A9F-4BC9-AF1C-0E5DC635B7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4FB47-20C1-48F3-B49A-6C2BD34F2D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55B7B-EE53-4784-AF57-3B73FC8C68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0E7FB-087C-4710-962E-F601BBD5B44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47674-8E6A-4996-8FFB-7371D3AB08B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BECAD-B968-4169-9A8F-F6296975479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88DF2-0B9E-44C7-A2E3-4BCEBE2D8F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D3C37-98F8-492C-8396-2CB6D08768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E6BB7-9004-4E23-A0EC-6B1B3D6494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8A6C-F903-4A3B-9502-4BEFE70CFA6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5D0C3-39CF-40E2-A354-0F10DFFA69F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33BB7-2C87-4603-AF4D-8059894B868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1188B-7345-437F-91F8-9F8593CED6D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D232E-4F3C-47D6-924A-684A8A678C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3264B-7A45-419C-A71F-F295433408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3C6CF-EEDC-4DC7-8040-DEA04FEBC36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669CF-8BF1-46E6-9D68-6BD71C18F82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4E1C-995A-4690-AFF0-7438B98152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4FFEC-7A14-410C-A3BD-9CB2ED4CD1C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A7978-8454-4128-958A-AC0A3DF141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8434-C5EE-4F9C-8BF4-3C66E743BA0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9CDD2-61AA-4D7F-8FC6-9DA31E8AF09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1A71E-CCD3-4482-A904-20285E5C74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2979-F208-4301-97C4-6B43A1696E4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71B95-958F-4010-B8A0-95794DB0DD3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60E3F-2366-4B25-A4C2-25495137BB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1AC4-9F3A-4EE3-9FD8-9C10B5592A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822D-7871-478C-BDCE-FBE42D414AE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C2BD9-982B-4670-B29E-510ECEF8022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FB14-5F55-4847-ACA5-3A2FBBF732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455EF-DA44-4B29-953B-6B02C43D2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D722-8788-43A2-BF63-03BE69845AA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268A56-4625-48BB-84A5-FDB6EB8BA2D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4F7C6E-3777-418A-B45B-4A7E77ECDF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6F297-C3C5-4853-B6BC-622E4E59C3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2822D-2D17-498E-8CA5-D9C13627FD7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230B9-3C41-4814-A99F-BAE8E105F6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0FD761-87D5-4282-A799-1FA3137B75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D88C1-AD65-4848-A542-29E81907487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19CB80-6122-44CD-862D-FC8E11B7A71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912621-0A1E-4875-BF3E-D69FAE9DC10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2AD1B-9F85-45FE-8C59-53C09C1A90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98D1-22D0-489F-9551-F097C23E2AF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3FE50-490D-4079-AD5A-27242D308E1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5586E-4213-472E-AAE6-A4444D401C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4B808-D623-4267-8A06-706A01C4CA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5530E-9A4A-4A12-83A5-2C65C19AC2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8C4D8-2DB8-4B75-AB69-F1211136C3B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234C3-244A-4C7E-8B69-596BFD1DA73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B8266-DB7F-4D72-B335-F41FC3E130E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EC327-8AB8-492C-A0C7-820E801340F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C493F-F944-441E-9376-B3F96E7FA49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5615A-ED95-4CB0-936C-B3EFAFDDB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55D5-E341-49B7-96C6-F5C477BC65A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256FF-E9C8-4A32-BEE8-D6E05055B5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9B5CF-19A2-4DCD-989A-BAD8B76D401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C6EDE-AAB7-4D5F-94B4-85EFC57CCC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0EB19-ACC5-4AF7-86E1-03AA0B9CE2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11A9-E438-4D55-B148-D1BDE9E5C92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F410-A19D-4518-93F5-813555222E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AF50-9977-4995-B2D1-6ECDD3B1314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C5DD-ED34-497C-B738-9791E85B08C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C991-F40B-4591-8E5A-D45A90D7569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E1E1E-0379-413B-B536-9554F8368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3CF1-D4F1-4547-BD9A-C6CDCFF7E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3B0C-DDC4-42B8-B386-BA65EC4074F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41FFB-117F-4629-A5A6-A6FB5E387BF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62C0-86C2-497B-A8C2-18B79A8AE81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F82F-8215-41D3-97E2-816C3BD2DC0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370E-0537-40CB-B059-210C9D850CD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5F20-3635-4188-9752-DA4E9E4A503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27DAB7-A907-4A66-9D28-A3BEE1A7BEB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EB18A-A788-4446-B74B-C09E5820C51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CB9BC-F3F0-4ED0-BD1F-FB174231307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E077EA-3F0C-4065-9625-77EABFB312E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A7215C-CCD4-4037-8ED5-EB5128CB8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0839-20A5-44EA-A0A9-E74EE211C47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7A30BE-8D8F-4C4C-98E1-0BD099D575B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CF691-79A1-465C-87EC-174151DC959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13144B-1598-43E8-B09F-8E3563DBCF3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07BEF-E159-4020-A185-4C5B871DEEB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0560EB-8FF9-4F18-83EE-5D656B49DF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F7F92-0C5B-4894-870A-5D13FB62735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6D00A6-5EA5-4CC0-8113-6EBC42ECFA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CD2ED-7D69-4F85-BF29-5FF52D15C90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2C169-FF6E-41B9-9212-6B45A293544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95053-82E1-4F99-B7CD-1C9C397C0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AC0E-3516-4F84-A409-D1C7BC45742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07754D-5FD5-41B3-B61F-F1D1CA9E2E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ADD5E2-18A5-47FD-868E-19348168EF1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E57A3-DF52-4D14-B457-9B4F5850339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ED151-5511-408E-93F2-6A2A8952A17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5754F-784E-4BB5-B7AC-11797B9EBAF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0F203-5E99-463B-B641-5CF27FBAE6F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CFD576-D3A0-4395-B76E-1458335276C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5D3A7-EF16-4834-BF05-4EB3840E72F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13211-F4CE-4732-A923-30A6C4E4479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EA010-D430-4046-9D30-69930D792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C3D0-9BBE-4558-A812-C6F2DB3314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08C7A-7A26-43D1-983C-80C77B4AB97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4339F-723E-4939-BFA2-36F9BBF7586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11710-71A4-421D-B82A-ECC459D76A2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1B3C5-4E26-4DE4-B539-1A34A9EAA2E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9BEF-35C3-4904-B22A-A1E005C5DD2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6A7A-57A5-4797-9218-84D6CA68092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16B85-D152-4D63-98D8-875171020BC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B1A3-7334-43EF-B0C8-E546178A436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86C8-5810-41CC-A092-DDC4ACC6F1A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1433-6B98-41A7-B77F-A1BB272B8D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F352-8FC2-47CE-98A7-01F68AD2024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2C47-C935-422A-92D1-FFBD3233E0D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73480-B98F-4AC1-B46F-D050A3032B6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01CEC-CACE-40EF-A967-7FD4AC5956B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AB968-EADC-48B9-B1C0-597ACFC27DA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A4105-669B-4A04-AC4E-850E59C7559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65D9F-6C1D-4AD1-A6F5-799A4101149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86C0A-518B-42AD-BEF8-A66D1340EE1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E5A16-5A57-4704-B324-5CCC0ABD97E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34183-0D52-4028-B2B2-98EE3CE41A0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07207-81E3-4F5C-960A-0527CE3726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807-7378-47FD-9E37-FF5965BE9FE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1606D-AF8E-4677-A894-D64FCF5CBE4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FCBC5-8B43-432A-BA4D-0DB522DAA3A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8D45D-1F6D-4C08-9FE7-B97BC65EAF8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AAD57-E435-49E7-8BF9-30FAC9590EC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E539F-6449-40A3-81E3-54312B56917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D695C-DC6E-48CC-BDF5-7618B0900A5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D8DCD-2CA9-41A4-8D0D-75D2DB48B20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56BCD-D5F7-44B6-BC68-CAADDD99858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B63B7-820C-4E5D-8206-6D48F2F009E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C91F2-435F-4E30-9D3F-A8A9BB4400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04F-26F0-4A55-9A5F-CD473513E41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2DC53-A89E-40A5-A9BA-4B3ABAE4236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CF5B1-D48C-4E78-A34C-2CA741B79B2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4B412-FA58-42D7-BE96-81166DF1EE8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1216D-DDBA-4C13-9BEE-6E1F531B747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E535D-B980-4CE8-9C72-EF4DE4A3B78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C4C09-68DB-4E7A-BDDB-09AB32B999E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7760-4637-4966-82C8-41BFFACCB16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9C40D-EC36-46DD-ADF1-98E2AC84FC2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C49C7-358E-4E76-BD17-91C7C289707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8CF61-F026-46B3-954D-AD7C8E71B0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583-CF05-49F1-85A7-E375F9CE163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F6B3-1DD6-44A2-8F4F-09D0E5ECBEF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93BA-B70C-4E68-8E6A-C91392A91F8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CDD15-05AC-4A6E-AADC-97932CE93BC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B0E80-2BF2-477C-A309-5DB4E19ED28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9445-DA5C-4FB7-8F3E-58B0684DE5D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7E633-6295-4DE4-8C3A-822A835A44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C9A1-E45B-49C9-9CD9-F0ADEC2E23D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678A0-F476-4841-8F46-7D72035596E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2AB17-9EAF-4A61-87B1-4432C119CA6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7C4F9-FA4A-42F7-AE0B-D3966C1E9A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1F3-6C49-469C-8855-882691B2FDF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FC4A8-8766-43D2-B172-2DA60B4F3B1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58B22-1425-4EBE-90F3-B8AB5A8F078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9FEF9-CB90-4AAB-835D-2124512A7FD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92C73-D17B-4572-A761-792DF89C064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ADD40-37F5-4515-9277-9150ADE92E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ECB8E-3186-4A93-B70D-428AF168A45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8EEC5-7CE6-4D4C-A2EC-6E642341838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21F72-D862-4932-AEA4-54EC4BD75B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E0937-DF94-43FE-8CB8-7260A0684CD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CB00A-06B4-4E34-980C-DD157931CC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C96-532D-49C7-BF20-A59BC7F5E16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E6C7BD-FF52-40B8-8E2C-C045D522790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6D66C-7528-429B-B0E0-7B1969D7FDC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5F21BA-08D0-4B83-97F5-5CBFEF9305E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C3880-AA34-4B6C-A5B0-EA9E94515CB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76177-44B9-4F22-8390-7F80AC3EAD5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C086D6-85B6-4F6C-89CD-0ACC710C382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C90F4-1B4B-470C-9975-E6F0A9762D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4EEE8E-0B12-44C6-B3A8-82FA261DE07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78939D-4A4C-4D90-B8F5-852CF5844BD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FA6D68-D3A4-409A-B03A-784FE3775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0A9D-9D1B-479B-BADF-EA537A5448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A93-49C7-4996-A942-A7E106F631A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79502-7388-48D0-88CA-D9081659F05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5C8FB-1542-4D87-8CEB-9C24C6322A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5E2D-B430-42C1-82BD-5F062AA816E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84EF3-B45A-46AD-AFC3-698139B01D4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784A4-17E3-41D0-87F7-14403D9E420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EF84D-0403-496C-B92B-D565E1D6DB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D743C-65B2-4FEC-AC95-5AA5837A411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F4EDD-756F-4467-B43E-1BBDC0CE01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FA3E5-9857-426B-8DDB-31A12184FD8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EFFBA-4B3C-48E8-9D40-0BEAFDDD73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935-652D-4D5C-96C7-932D63E6B4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BC8A4-4950-4970-B613-9B5FF5B490D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C474D-C0F0-4A7C-A8B8-721995651B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F7B4B-403E-47C0-BE35-2D39DA2B7BE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CE279-629F-4739-91F3-A1775C02EA0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BCED2-62F5-42BE-96EA-74167B04762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EBD8DC-14EA-42C8-A055-46300C2359A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C7256E-25AB-46BD-85DC-F3D1C9785DD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B964F4-5CCD-4B73-B767-BAB861D21C4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BED7A5-E3C9-439F-8C69-6818DAB74F5E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F539B9-7282-4089-BDC5-C3DC28B9E5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EC7-E7D9-4E8B-8155-947EB2C01E5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D211D4-6660-4D63-9298-A30CA586EEB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28E6A5-E5B5-4270-A7EC-26B3D110F21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CC41FB-4175-42C9-9A29-FD5B9C2A880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17926B-BAA8-49BC-9D18-079F8CA13DE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162605-00E2-4D57-A659-BFC0723CEF2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4071BD-EB24-4A43-A2D8-C920755DF1B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1BEBD8-B660-48D7-9A80-78E8C1D224D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374389-7880-48EC-9E3F-F22DEE48BF5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1FA93D-E8B0-4A7F-AA1C-BDC9A3BEB32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30BB12-6AAE-41D6-8275-B1DF702313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2E7-E55E-42CF-AB84-CA36729EEF9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660E2A-45F9-42AC-B5FE-7D36EFE8FFD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2C8392-1C2E-447F-9C07-55E7A061B1B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8EDB0-F339-4495-AFBE-254A2017BDE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53BDFE-E1BB-4979-95F7-8947EC810E6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AD5EA-EDBA-43CA-83C3-12E8B5207C0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4EDE43-6AA6-4DAD-BF8B-C609435F1D4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B2075C-7EE7-4747-90A5-541900468FF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57153-F132-47F8-8B09-C74A1758126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B6CA-934C-492D-8EE6-6DEEB57CAA0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D7715-FBF7-49EB-94AB-2CB802C00D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F2-C621-404A-BD2C-8D14C5D7D5A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1336B-1A7B-474A-9716-25BC4C2C162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8C79-360A-4232-96D6-C38178689FC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8F68B-F300-4017-BFB5-1595D9F0BBC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12C21-5CD0-412F-ABBD-335A1477E9B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A25E-2414-4830-9C8C-038B4FB6133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73FB0-2789-4BFD-BCCC-950625D3B85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354B-60F6-4655-B00D-91C5D2A6263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4483B-3C1C-4065-ADB5-F7D82B39FB0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570A9-1D8F-4644-8EB7-88C67C4B942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A6D3D-913B-42B9-B714-920F5DF242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EB1-A120-4CC6-8171-83E393E032DF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36D2D-950B-4ACA-898B-F0456A299AB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3A997-5808-4DA4-AC22-495D5AA3DA3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5A98D-D071-4AC3-AE54-3BDD560FA60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F963D-6458-49D8-A910-40F27F56931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746ED-123A-42A6-8B96-80156F52FC6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D3632-CBA9-4C75-B9EB-1B0830BD865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C761A-232A-43CC-85AA-0A96C237BDE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65BDA-C18F-4EDD-AAB7-B84894AE11D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E61FA-FF14-4962-A601-1A8F8197AAA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DBA8D-58AB-47EC-A269-12453C5918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608-B0EB-4906-9F59-05A42449432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68AB6-1F0F-4A46-AD91-720C4CCC7C7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C252D4-DF85-4CAE-9169-9875603A12D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0B6413-4183-459F-8B44-976BFE14017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C41CC5-C490-4549-BB79-CF27E18191D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B92ACC-481E-4EAF-BE15-4C398353E5B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FA8509-E6D9-4358-B026-E7CA1D9E43F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2BF5CA-8241-45E7-8897-BAD2818FCE8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ADF965-CFAF-4773-966C-D0C2112A2CB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3007F9-81B6-455A-AD78-1C42D2D8E7A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21DDBA-CADE-4F87-9432-0EDCA5C6AE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B716C-E93E-4E26-BA0D-545014F09517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4A37BC-74EF-4336-808D-A121878E573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DCF383-7E9E-465A-8860-634624C64F3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529D53-FEBC-48BC-8B81-3A0EF0CA273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F38B7-6CDE-4485-8052-AAA4F54B3B0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A8ED8-0F6B-4206-B025-22A8D8C6CFD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17FE0-476E-4E6D-BC0A-22FCCD435CC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5D923-67C5-45A8-9E28-AE7C8EAF9DE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F74D2-17B0-4705-9E15-7D8C406CAF8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C2AF0-6983-43A1-B1CF-F2EAF709E09C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3E3F-61B7-4A63-A325-EB7F9B0AA1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C5AC-CF9E-4F00-8BBA-7F07D3C6DFA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5D4A0-635A-482C-956E-C118AB7DA60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0496-B06F-4D70-8838-C4429B11279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60604-A979-414A-88F0-0AD5AE6E1FF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2DDD0-2961-4657-A3B3-0180BA1D280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45B9F-13EE-4F7B-A888-3D141B80F25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26C58D-B575-4259-A596-F0D2C0E8EF8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A899A9-2D9A-494F-B527-761130B2584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AC458A-CD03-410A-8DD0-98BF6D7B014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00F0C8-8154-40A3-9E84-88D3C395DCA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E4F004-BACB-414C-A5D8-5272432715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2D8C-0327-4192-B434-CEF567D8D84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A83BC5-1975-4267-BA72-9871D26657E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1F4992-CDD6-458B-B807-2056582432B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D5DE36-956A-4104-918C-73A97009577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20625F-3505-4F20-835D-7D3C5636468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C60D24-EEFE-44A6-84E8-6D15A43C719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D1A347-CB81-4246-90F7-DAEB0DF05E1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826154-5A5B-44C9-9646-8CB1828607C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55E26-AC0B-408C-9BD9-AA8FDEC39A3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59E900-9666-4285-A5E4-1D5D7BFE037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B642E2-66DF-4F3C-B6F2-DFAB0E64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5F2D-7211-41F1-9694-50C642B1F3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21B50-4CAA-43E5-9B2A-D0788773710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00187D-0CE6-4E4A-A84E-92BC28B2FD3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BD9988-1430-4382-9CCF-D8073FFA87A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62ED1F-245B-4C3A-A0D5-AA57B0FFCBB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B84531-169B-42E1-9E89-3B214FEACEB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B164C9-BAA3-4EB0-8CDC-A5CB1949091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023C67-D1AD-49AD-A3FE-53C55563BF7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AE3599-D281-43DA-923E-2837ECDC5D1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B4C3A-D789-4D2D-8B89-6585B0E1696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716B56-8918-4CA4-9C18-D7E97B6A9B0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4933E-4F72-41B9-9BF0-D560AC5B88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99611-AA31-4903-936B-F675A92CFA7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2F379-20B2-4FA5-90A1-FD5CC019F80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FE540-569E-41BB-BD32-FA7D2BA414A0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624EA-3A67-4AA5-A73E-57F2651993C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A3D30-188F-4124-93FF-AEE760BB9083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132DC-893D-42BF-8E6E-E40345C0EE7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32759-5F5A-4134-AC14-8BECAD7EE41F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F1137-5668-4B98-AFBA-2F523718138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FBF1D-AC5D-4F8D-B5F6-23A5B7D7E2B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6791E-FE7A-49A0-81E6-E1222ECA725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6AE15-E76F-48A6-8B42-FF04FACC0E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3E221-9029-42A2-87C8-CDAB624690D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C195-DD00-42F3-9978-447DF705535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EB0A46-97B8-4987-892A-1794E26DE10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23931A-5C55-4231-BBB8-95235ADBD78F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9BF669-2A18-4BFD-A97C-E7EF1454BAA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32E1B7-1801-46AD-A474-39E30851A52C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E5AA68-3544-47D3-99FC-D768819A0D3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5775C4-1C3E-4187-84DF-01306FEDB92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84D9EF-3D13-474A-A503-F8EDC15FA87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990A6A-BDFA-4A22-836B-8FEA397BD4E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7F0932-13D0-489F-8F52-CB4FF74401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16671-B530-4C30-B27F-F2588623C48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DD6481-2BBD-4CCA-81CD-8E59B659D88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E3DC18-90C1-4D82-BA8E-86A77E998FE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1E1526-5C99-4A97-A234-20512EEC7BC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3EF7C3-1E34-4F7C-A5B5-59F2F965BDB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F31DEB-4406-40DC-97E1-E897CF17402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2930D0-E147-407C-9FB7-19C6B82D873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39B5F7-0C6D-41F8-837E-6B754DB0878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A9638B-65E8-457D-A828-BAE71753CC9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78C7AE-78D8-4423-BBFE-DAFEF000DB5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86561A-E419-47EC-88CA-9A4F09283A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E2B9-876C-4806-B6D3-8F3BB141006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1B6E62-2798-4CE1-8A92-B399A6D7044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E454F1-6095-48BD-BA1F-B389CA9B5F7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6B7BC4-4FD5-40F3-9BD3-DDCAEF6EAD2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1A2844-ECED-45AD-8EE4-EFBD43A8592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6E0042-504F-4AB8-8EFE-66B23096DE6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D9E69-50E6-4CBA-9F0D-DA8364DE8FD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0B866-12C8-480B-8991-5C6994C8BF5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CB050-C7E3-49D6-8EFB-60B6FD91DDC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39015-6E60-48F4-B7F1-FD0AD18F85C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D6B63-AD46-49E5-96CF-498BA1A6A3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2D568-1938-4162-AD86-8CAF071B7B8E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7412B-525D-4B2E-8FB2-00A7E077A98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B329E-CC1E-4FA8-ADB0-D8A17D1301F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1D8B7-3F55-44C5-BE0E-AA1F15AFC33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B96FA-F7A9-4745-933C-03DB0A0ABEC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C3605-3455-45C6-9667-5D50295E6D0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45127-FEA8-4E3F-84F2-94054D17801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CD9F2-F177-44FB-8C1B-D02ED422CAA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D0F7EA-B4FE-4ECA-928F-0B295DA6D798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4DD765-FA9E-4C49-8E85-CB7C3872C42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16D9EB-B997-4BB0-8D4D-7F0D4C2785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FCC9D-2155-4844-AEEA-31A3789453A8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19C550-18C7-4DBA-AE21-366281DF080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D1A73A-58E5-4E29-9DDE-DD9DE9A282E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60AA43-8D9F-4511-8C13-45F5724DFD4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583A4B-1D0F-43D5-BAEE-06DC1FDE817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64B26A-D844-4F94-A3F0-BEADAA931FA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1C98D4-E0FF-45F2-A780-8F409B6971C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119449-C955-4323-8D26-16308F66702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ACC932-4AD3-4B5D-B186-5269F99EBEC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65E00D-1C75-4F4C-BF39-11C53035770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574688-79C9-4D63-820C-E5D3B01B70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445B2-852E-4CC9-85F1-2B7473BE64D2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5F661F-6292-44E8-A97B-53D607855598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9A8885-DCA3-4721-AEB6-4CB486F2B9A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52B634-86E4-4A36-A635-96B9AD33C09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E6241E-A464-4276-AA94-F96D36C4245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16B064-B4E9-4693-A9BD-CE06F8A6EDF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831557-02F8-4C48-9721-FC8AA037F2E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070312-600A-4AF1-B016-2B0EC9DACC9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D8E337-00F3-4231-B660-F4805FB78B9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C1D789-34AC-4D24-AB85-D7FAEAE68EA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08811B-8299-4EA1-B38E-4631AE8EDF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770B-B583-4423-A725-411794D07A8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05210D-34FD-4790-B1A4-9603F73447D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0CAFB-DEBE-4C82-BC37-923CE63E4BA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661A7-DF78-4504-AE54-EACD855897C4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66DAA-FDC1-4C5E-97AD-57A335A7CE18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3691B-9101-4603-B2C5-7FA02FFB53C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358DC-2571-40CA-A8FF-1F3DE204D541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31C06-F57F-4F06-B571-A347FABAB91D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E7EE2-24CD-4E70-906E-03E15DD846D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DA4B7-B6F0-40F0-BA6C-AB7F52759BD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FE47D-FC3B-44A5-8E90-ED8D370594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B4609-F19C-446C-BA15-4583AC1FB27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3F045-3242-4065-80E2-23D670D8B4A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B4A47-0C46-4C9A-9F7A-C707471F7BD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B63C1-7F2C-4D23-99EE-D6248F69426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5CE663-637A-4264-9802-D603475E9B3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476A60-DA36-405E-A06D-0E04FAA65D7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4FE48D-BB52-4E31-AB7B-F07254B93D2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AB29FC-EE9C-4F3F-8467-0734D21749D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86A3AB-D2AB-4F05-B1D6-B139E8F8F2C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07C262-BD49-4A0C-89E5-3271BA2B252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4FB33E-6150-4E0F-8300-118900364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C0F8-0E10-408A-891A-92B1257614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395D4-ECE2-44CD-8475-F627482EB0B7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BC2346-16EE-4300-9969-B3EC281AA066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C5BCEE-7E98-4FD8-A647-9D6D46A2EF4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304572-33CA-4929-BEE0-FF22E5A7BB9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62AB8A-B0DF-4A43-A828-CC85725ED19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B21AD1-1433-4149-A380-7CBE43AE63C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B23496-5043-4D6C-A039-052B64A8A17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1B5445-C7FB-45CA-A4CB-3A1DDB61C135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40B675-3783-4430-AEC4-C9E15DC91C6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B6DEE1-4805-46C1-824A-4114364928A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DCE66D-A65D-4963-857E-2636966D57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4685-63F6-4AA5-A199-2D1D777114E3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147866-B70C-4CA4-A776-4A10D567A98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7123C3-9A05-4634-9FE7-6627A6E0587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7E4107-C2DE-49C3-BF56-CC1066680CF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036C74-3141-425A-8836-94ABBB5B8706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96DD19-C31B-4969-8E00-E998AF526E5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257761-08B9-4D2D-AE25-1ADAC0795F3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969ABC-F610-4F20-9DBC-03EF9DD604AD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2C0E5-D8F8-41C8-9E10-E2A771E469D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8A557-7722-4031-A237-12627FB6698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9CEF4-BE02-49FD-ADCF-5E14E81F9F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8954C-E247-41EE-9160-A3574430F64F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FBDA3-DB3B-448B-AE9B-27171E6EA51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B206C-F005-4DD0-82E0-06C669762B9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DC0B5-9039-45E1-905F-F10C8F896C16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48FC8-4BAA-4733-89D7-AA8B77C3CDB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47775-E525-4A47-B8B9-B485766E9D8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9093B-9FE6-40F8-A6D7-C611F1EB136C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B9F7B-F3BE-429B-BA8E-F43FA09106E4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59EE9-819B-4705-8D24-1C0104D30102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EE23E-DEB2-4EFA-B88E-2339AA97013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8EA78C-E051-46F2-BCD3-564C67F30A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2E01-1E4E-49F8-A4E1-01DD78D272C5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936825-34DD-46E8-AC96-C12249CB1774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D88529-1577-46BB-9C03-2936FDEFD0F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89FE53-919C-4B5A-9F8D-0663C1B2B6A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0F6518-A51C-4D13-AE98-5B5A631767A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DBA046-FE2C-4165-B020-F780304F4D6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3CEFAD-568C-4B3F-A7CA-30379E17F4B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5BB852-CAAB-40DD-9EEC-7CE70FD5D2B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CC26E8-36A9-40E3-A856-E5F09571D59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3FFB08-1012-40E9-A930-C54DEF574357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B62EC8-D3DE-42E1-BC6B-9C6F34F44C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C6C1C-4719-42E9-8007-7CF00C42DCC6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D32439-5B18-4391-8B73-E62D9A18237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0B0308-F146-4433-B550-51CB0F6A98C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E2934A-AC65-4299-8115-96E194AABC7D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2E5C37-94E3-4F83-A9D9-7A777FCDED9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FDA182-5078-4C46-A9DF-3239FADC56C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939A7E-5B69-428C-BCD8-2EB3CD461EB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3E0C0D-EFE3-4CA7-950E-70832AC66B2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C6BDD1-CE10-48B8-B0D5-EF285945DD5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DEE917-E623-425A-83F9-A1F4744E9B6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8B637B-9BF7-4835-A7D5-CB613B29CA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E67A8-9131-430A-84AF-E63B5468750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E0FDD7-DFA7-4159-9725-50A358E6900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A719A5-5D0A-43BE-B1BB-3D86A38A9DA1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7FF14B-EFE0-4415-9721-67099629E7F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F7A9F-FDF9-42F4-8E59-99DDE28BF5F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F4853-077A-46AC-A8FB-3DC67F12552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0165A-605E-4489-8467-561D28279ED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F8DD3-69D9-4B00-A01F-D9E6F4D5DC0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AA1FF-A2CC-4935-8DEA-0833A318470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0B32F-4345-4A82-A2B1-B8CDE59C64D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561CD-8B30-4850-B379-BF8200D65F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47545-CEA6-46A8-B929-8E43F7AC7BEE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780E3-402B-43E5-AB53-9D0207EC125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6BEE1-A59E-4BCA-8100-480B92C7990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4AC55-5F78-41D9-AD27-DEC9E541F1D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25AEA-5241-4AE2-A906-AC9AA0B8501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73CE0-3D35-4D88-B5A8-F104DADFAB8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CE0914-1B64-4648-B29E-CAAB909AF49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629E0B-EFDE-4B8F-96E7-55949C52944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8F83EC-9797-4C47-B3E7-FAB75393D103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C307E8-B677-47AA-AE81-5F71A4C12EC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474E69-63EF-4604-B298-1DEBFF3D56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E66E-0BD1-4CCD-9A0D-24DB571363D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6C9BFD-A1A2-4977-A630-6195F037021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F6CC96-998E-471A-891C-61741F46BCB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D441B1-02AF-4336-A934-41996B5C226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A889B7-F7B9-408B-83C0-903BD2CBAC46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8EC0B0-08FC-4564-85B2-93B35C90335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1488D3-AEFF-4C50-B703-CD91680A648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256594-225E-4DAA-AAC8-6E409C90B3C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F3FDA4-4E15-412D-8A15-6F6BC0F3514E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259660-1A83-4621-A3C8-396A949A1DBB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15B5DB-506A-44ED-8D98-C4206B2406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656E7-9551-40BB-B552-0D3CC7E2B977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EB0D3C-7BFB-4E64-8C49-A612B13BF094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B57670-EE54-4B70-8539-A032FCBDC65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7CF0E1-C402-4593-B62D-6E2FE0D741E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8B2134-B3D8-44C2-BD2E-AE2B6C27D16A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1C2AAD-3726-444F-A434-335236C347A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1A87A4-C14C-4A85-9F19-4378182BA22C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A2FAC6-A7FF-4905-9BBE-A4F56B4EEBC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52DD5F-8E34-40A0-9BFA-24A86891518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3F9668-5568-4D16-9B9C-DD4F5422D2E5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95449-00C8-40E5-9A8B-743CE23560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4EDCF-7DDB-4CB6-A58D-D31A39B43B2A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82615-A548-4E36-BD5B-332592ADA7D3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CFAF3-C671-48C5-A462-2952D22FA2B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5E15A-6735-4D1C-A7E6-2E5994558EA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C02E9-AC47-4AE4-BCF3-64BF93042FC1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9DE0E-D34E-45BD-A271-96C635BB76E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76E72-7FBD-4D22-8A1F-BDEE2D14842A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8FAA5-2F18-44E5-BB94-8F16743D88BC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8D074-E611-4DCA-AF12-881512BF2D5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81A79-5713-411F-8889-6627D80BC850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D2F24-9B14-4844-8321-DA087AB1C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2675-A1F0-4D74-A7A0-15EB4CCEAD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4651A-CB50-4A1D-8FC8-260E2DED9A2B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070E1-58A2-4160-864A-AEB20826DA08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4D5911-2B0F-4159-A756-459B1F51CC04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F13FE3-B851-4AC3-B232-0238457E836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60A41C-5CED-4703-8902-DA0E0FE17D5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258B32-3BAE-4E22-B04F-01893E7F025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9C90A7-5FAF-41AF-B8A8-D69A0BA9B74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74410F-A45D-450D-BD7B-800B5B20419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FA48FC-C3CD-495E-BE15-20529E46181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6C38C3-6E5D-42E7-9082-77FDD46CCC0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CF781E-82F5-4430-A5BC-12E45DF695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E7FBF-9AE1-4EC1-BBC4-55FBE07E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81440F-CC3E-4379-91E4-8FE55603485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1E7911-E382-4B74-B1B4-93BDC5B37769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36C0D7-5A43-4D12-9D20-24D9B71A771D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A2A98F-4997-4B9E-910D-43DCE1DDA503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017AE3-5A1F-41BD-8B06-7AAA65725C5B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C058B6-A247-460B-88F5-9006F59790C2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AE8290-2341-4F9D-88EE-3C293FEA29E0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05648A-422C-422F-AFFF-1BEB41CB88F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98595C-28B6-4EDB-AC89-2DB84022FCEC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BE7600-1352-41AB-8AA0-5C6F6B2AF0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49603-1654-406F-964F-6AC76CE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12CD5E-B439-4FAC-9061-A67F229843E4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60677B-00F1-488B-920B-CE5432DE613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ACC199-6DD9-48E7-A268-995F3E952AF5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721A86-D675-4054-8777-FBA23764D78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6136E9-700F-4587-BCD3-B51C0A6D55CD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C2A07-008A-4BDA-A909-E8D34630DD7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3676C-6306-4023-ADB7-C9550CAD47C7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A3A15-6F03-43B6-B5E3-3AD75224463E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622A8-7CB4-4E2B-B820-1E56A336362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8E1B7-A43B-440F-90D6-B610E902D6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83A9-FA34-4438-95D9-82FEA808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5062B-FAA6-4668-BF09-ADFC15F2C5EA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B2EE0-827F-4144-AC16-16EB98669C4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B8A8C-D45E-471A-9B8B-CF531C31466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BA8FF-656E-494B-8F75-1516E007726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A983E-568C-42FD-8184-F3A5CAF9B6E0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782AD-BF65-4812-979F-BFB16C8EAFB9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AAD9C-96F7-43DC-A2A4-7DD36765CC1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A00458-47FC-4870-8A2C-CDCDC36D164B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324709-C884-4E4C-BE47-9682520E8694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9D8091-AD06-4F2C-A52F-95CC5F5BFF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8180D-E29A-478C-BF33-FE50E70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30EB2A-7483-4ED8-B8D7-2014FA72D03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A003F4-B768-41C9-A3DE-6F2C10BF2B6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907E03-C7D7-4A5E-A737-04DD329D6F88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C910E2-FF4C-49EA-986C-1AB8E1405FC9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6F89E6-7692-40C0-9168-79719C3D051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CD8AE3-BC3A-42D3-AB96-1C64796A89F5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B50A3E-53D5-4061-A927-864FE80FCD75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728341-4432-41F7-9EBD-20E70FFCEF1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AD698F-05C3-4125-9D8C-EEDB3CFE264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28BB3D-5D33-4ED5-87F1-EEB16E31BD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9CCEE-41FC-4ECC-BE48-EF46816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EBDA17-0E90-4E5E-87E1-D1F1E24357CB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E1178C-707A-40C6-B7C7-586CA0FB1B6B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9AF9F3-D025-4BB8-ADB3-9F870609DD3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D47AC6-8A7C-4CCE-8645-A9A2BA43636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E9FB49-B9DF-4EC9-A847-9F21CA5EB91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24334E-8554-4662-AE57-E994CEC3C6D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FC482A-2342-422F-BE5E-C2A4A0673D2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6491BD-F83D-4103-AD6D-75AAC8158C5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324090-29E8-4703-8B19-354ECFABB6A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FF0A87-87FD-461B-89C8-7AFC6898B6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DFF91-1D47-41A5-9269-F0BC73E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03696D-A71C-4DBA-A5CA-0BB7CE61219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F3A07-D8F3-44D6-BB73-B06E118DBE9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D71EA-5D6B-4325-BBAC-FA80B6632AD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B2E88-9E71-4D9A-8709-BE5B3999DC2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C16F2-BFEB-423E-9305-65945FE5A0FA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A77C8-40D5-48BF-BF3A-9FDC578C372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A7E7A-C046-487F-B2AC-4E6B06A2B1F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DEE1B-677D-4D5D-9A97-E04E912724F3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B2455-D317-4540-918D-F8525B49771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3FA5B-7DA4-41ED-9339-A293C12869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3348D-D493-4350-8AE4-827F5F8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B0742-86A6-412B-A03A-6DB1B5204CD9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8F9EA-12EB-4548-B2DF-5A94C185629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35DD8-532B-4A5F-949D-4F95117CD15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0D74C9-02F3-4FD6-9126-1F6E3D5147D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294E98-FBBE-4B1F-99A2-F7EF2F617FB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8BAAE9-A83F-4351-9615-F7DE98A046F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D73C1D-4BF8-4098-9888-7300CAC241B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7062D1-7E6D-44D4-94C7-640E6A746A3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0A5FCE-1E48-42FB-8EC1-92816CD1E36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89D6F9-73B8-408D-A7C3-F7F6CFC38C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E406E-762F-47A4-AE2D-D1F0C58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38485B-775B-4BD1-904C-755748EBA04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8878E91-ABDE-4E0C-8561-6C04F18FDDC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BE9160F-018A-432B-8327-C47F12D187F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18FE9E-4441-4BE2-8AC1-F4334EA5BDA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B3A725-1E02-4DAC-B67D-9667CFF12FF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B48259-C330-4835-9075-70B88DCB0B2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E6A4A2-CAC9-4731-98B7-8BDAD826D6D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F61651-8BBD-4CAE-8BB0-8D7A817C86A0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D561A1C-B7ED-4C64-9084-FBD886C6400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62D6F2-14F9-47C9-9B9A-044697AC1D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94676-B831-432C-A727-4378AA8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6391B0-5FF9-4F0E-84C9-53A4EE053F6D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017CFF-DFC9-4072-8918-759DA607902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69C38F-FF60-4FA3-B381-976B51DA16C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739199-38EF-43AB-9198-FFB5994482CF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C275CB-9CDE-4B49-9C24-EBC484E0DA3C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B82EF3-F03A-4CB9-ADD8-42A997A65B46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04D0E6-155C-4C86-824A-F7851999974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AB3D2-A924-4D51-9023-BB3043894BC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262E9-9615-419A-96C8-6F4A246ADE2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BE0F1-ACAA-4D78-96C8-03B6A328D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FBFD-7463-4544-B2BA-275AEEB4D6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27EBB-F3C5-4802-B07C-1744AA8A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98F64-2E7B-44CF-A595-12DB0E0F1D4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620EA-5B79-4E76-9AB1-20C66631A22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ECCD2-A7BD-4E45-A7BA-E485BEABFD0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3E15B-0CD1-4A7D-840D-72D1892E7FA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27C66-99A1-4FB8-A718-A5B94840F52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FEED2-8B6F-47CD-9FD2-9F25A527323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2D225-7F8F-47DF-B3F3-F15B7C2BF95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154D8-CA73-4B9F-BB40-EE4C518B452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52DC7-BF41-46E9-8AB2-26866022244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253256-A4D4-4F58-A580-B24691D555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4A7AC-2373-4C44-A4DA-AF34025D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C315B7-CD78-47DF-AF2B-2A653FB0D730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480C0A-878D-4FDB-A4AB-10892879DD9B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BAE32C-2A97-48C0-9482-D0F6C8CBA1D1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6D7A3A-B9C8-4658-A3F7-7B7D41BF2DA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53E5FB-06A8-4693-8C9C-98FD930BFAB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EF887A-ADDB-4E65-8CAC-B900E1FCC635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2D6A5E-9EC5-414D-9E41-143FD82AD0E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39649A5-0B7E-4262-845C-EDA247F99BE3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F7109E0-5DA0-49CE-B80E-92427AFF7E3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5670ED-172D-4395-BD97-40EADA48826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6F3DC-7547-4965-8103-474B48BB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BF46BFC-0394-4A50-AC22-B3FB7953E49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380C4D-7EFA-430D-8A41-F1EBF5C9FCA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DF7A87-369A-4A4F-A7C8-E23C8D1EACA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672BC1A-69C5-4EC0-82DA-5739E35B897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EACA3D-0B88-424E-A379-B32651CE70C3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0CA91D-B408-4ABB-8A3F-5C70F2666BC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2F64292-0F0F-4058-8153-BBA5A6E30DF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2E72ED-624B-42FE-A6D0-C04FC0BAE0B9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2617A9-866C-4D5E-BBC8-20DEBE63DD21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2E4E4E-911F-4AEE-8C5C-7BC880E54A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2A278-1AF0-47B2-A925-B6083080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2B4CE0-BA64-48D8-8705-7F61F8D7E208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B26F31-7F20-4955-8EF2-CF49A74F87C2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CD63C5-51CE-4054-BA9F-E5475B71603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C05C36-1114-40CE-8DB0-BADE64F4D8E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D2C68-951F-4F10-95AD-9AD43D1E18D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A5C44-D0E6-4D53-9AEC-62C56DCEBD4F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8C3BC-C46A-4241-ACFE-90F93741468F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BB7C9-2594-4001-86A5-FC69CB41C4E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44B782-06AC-46C4-8CBA-089EA33B3336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3330FB-0B74-43B9-83D2-83B2362998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94F02-3D60-4D78-B3BC-BF8DD554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607D3-4367-48F8-AF73-7BD2B93E6232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F3A23-5A78-41AF-86BC-82DED8A97CEA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B820AA-5CD2-42A0-BECA-FE4004452E1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0618E-F1E4-4DDA-80CB-9BFB3A627AA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70BC2D-192A-4A92-B0E5-ECA8D6AE82EA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DF508-9CE8-4F0F-B75B-D51EDD89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60C29-A1EB-4778-ABE5-76D45CD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2EDA6-7BF9-44D5-B283-3ACD7F7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7940C-1AEF-439C-82FE-05ABBE23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CBE971-C06D-4EC5-B597-6A655BF0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F6ABA-2ABC-4A5C-8168-7BEEA70E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74488A-6C9E-4CBC-8917-285F6BF3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344D0E-737A-4262-81B4-E028AC1E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71C84-B85C-4A3F-BECE-A0169C1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ECC76-C39B-4D75-A374-133FDC0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FFF7F-D79D-4ED4-868A-3EA97621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1E891A-1EFF-4E8F-828F-D964569F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DA33F-B090-4808-8905-B1F99B2D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970F8-7775-4933-8968-EA5C6F6A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B684D-E76C-4859-95FE-7BBAEE7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2968B-143F-4205-8453-290A0B2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513C6-099D-4BE3-8601-1195FAE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41D708-8390-44EF-BA17-F0163EB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7D9BAF-087B-4678-A882-66047BEE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CDF89B-400F-4A90-9BC5-186D8BE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E5E43D-7BB3-4603-8DD6-D5691C8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049C89-DD74-4DD1-91F5-0A274B9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9E077-41A1-49E6-A1BA-BBC2939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BBC66-9C6F-47C8-8085-39EF86B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2C867-9D7F-4FDD-905E-65F4C449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D8240C-572A-4692-AD2C-6A3CB11F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CA9FCE-B526-4FD3-AD6D-B7293539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94E7C-FB43-4BC2-8DF8-5BF600E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FADDE9-0092-44EA-AC5E-A7203FA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44A5DF-FFC1-4E32-B9CA-AE35695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1E078C-9AFD-4D58-8E2B-E455B90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109DBA-DE58-487B-9DEE-8DA2D16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92453F-C07D-43D3-8EE6-7FB30AFB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414033-A081-473C-8AD4-CF20469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C07816-0A63-4236-B82D-B451F38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7E4776-700D-47B4-A70A-FDEC95B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FD06AF-37C8-41D1-B6B7-286099D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7A6918-1396-436B-92F1-E051169B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2114F-BB74-4762-BFC1-FD152D5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CCA2B-2F3B-4562-A177-AE7966B3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4F5CF8-FE08-41A2-BE95-23475784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EDD082-A8A7-428E-A1ED-51986F08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FE4670-84DA-4869-8098-1425B47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81D7F4-1EF8-4AF2-966F-3A3B7CAA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D4F2D9-8220-4A93-87B0-DD234F78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3F90DA-30FD-474D-A61F-9C0DFCB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2CB84B-F870-4335-98B0-3BDD6BF5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A2A6A4-2E36-4288-9F3A-2BF96505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D2389-0813-4806-A204-C71A8FB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1196E-FDDE-4955-B800-FFCAEF7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B78125-B9AD-45B5-8950-7BDEA200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59C7E7-1C8E-4E77-B16C-E305413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53FC75-0CF1-4959-A324-6098AB0B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16FB55-0169-44CA-9E3F-2FB08E81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C15462-32A7-4957-9053-026F498F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671FDD-898D-4959-8246-64C8E7E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96BB8B-B18F-4646-8EE1-76F289D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6D16C-3FF8-4448-B806-CAA1022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9FAB6C-51A8-4670-88B7-4BCC060C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51FE83-F170-4B4E-A863-A2242FB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CB8C-B1EE-43FC-9EAA-7743C1B806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193B7-902B-437D-B5BA-071495D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7B34BD-2BD2-4866-BFC8-4A561F78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6CA1C1-AA5D-4815-92F3-F921A2A3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090843-4A03-4325-ABA3-07AA20C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AB7D8D-6287-42E7-A651-0E885A10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87CC78-29B1-4729-98CA-F23159DC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A1765D-5254-4261-8BE6-16DF5516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31B721-6084-499E-90F0-071F573A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0A1099-42FE-4EDB-82FB-FE31A84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FDCE8D-ECE7-4853-B10E-29C7C9D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D340BD-94C9-496E-8097-9D03EFE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0EE98-71D5-47ED-A8D9-7D11CC5D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2707B-BA0B-417A-89FB-886B838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BD6C48-CF39-4582-90B8-F986FC6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38ADC5-D9BD-4968-8FF5-55D60DE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44B676-580D-479A-9E15-AF59540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5F51A6-C425-4590-842E-2F4E292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938B9D-40A7-48C0-A628-0CA98246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FB66DC-CC0A-4AB2-B857-F6554455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FCFED-0637-4C97-87E1-3684A1E7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E861E3-CDAB-4E7D-AE3B-4AC2188F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749421-35D2-49EC-8E57-4AE3F09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FB69A-549E-4834-81FC-993DF2D8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F9639E-E5A3-4E76-9E7E-EB8FDC7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4E2DCD-E2F7-4B47-9B99-AEA7EC4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C3FDE8-F1AF-4407-A1F5-B0218762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2B60ED-8D03-4D1A-84A2-F81C6515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90DAF-A6B1-4FDD-A64B-EF62F2F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F8A055-0492-4C21-AD0B-B82A2D1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9AF8C7-335C-491C-AA8A-0A643A8C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FC26C7-09E4-4299-B4FB-7634A253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A7E586-0811-4C33-96CD-26DD57C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CF1781-7EE4-4969-AD19-E9FF10AD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C78CD-FA4F-417D-AE59-9CC80E19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36A4D4-05BE-456C-ACD0-82FDF5F5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FC6E7-49B7-46CF-814A-88C4CD5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DE6B9B-3D23-4B3D-BB04-F3295CF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2D56FD-1180-4542-BB5B-AAA87020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26403F-E792-4D82-9BA2-5ED787E3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C40335-1D77-4875-80CD-9CA3EDD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9AB73C-7682-4479-9787-C483A55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E02884-528E-4F77-8E2C-650434A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94B1FD-5A70-4B06-B427-7B47229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CBAB42-0B67-4015-A025-0A0FB6F1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E595-1417-4558-9AEA-1569A2F4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5DEA6-6DDF-4706-BFE1-B39474E4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A0A70B-725F-4629-8014-ED711680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6C9BC7-D74F-4F2C-B8E0-B8339012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607923-816F-4F37-8C70-B47CEAB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109FBE-D932-4F20-9781-062079A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694081-1216-4DC3-81E7-4879E94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889300-0B40-4A95-8420-013ED48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6AE4E5-B9F4-45DF-8081-4402DF4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1F9D63-275C-4FD6-B3EA-1C24347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8D43F9-B6AB-474D-AB12-5FC3800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CEF8-51D3-4A23-AF4F-F561F209B652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5714D9-BD39-46A0-AB7B-5C306008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92CC3D-1965-4D01-99B5-2F3FC8E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55B3A5-3491-46C8-90EB-065B96F1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F3D9BF-A260-4720-87CA-EA17F0BA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AEDF02-459F-414C-9DCF-FD92D334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2FF570-0D98-47E6-A6E4-1B9C377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8F7387-2695-45AF-A9A8-771006AE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8F1409-EB59-4D50-81C6-8F74741E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FC1447-B7FF-4316-B369-4BCDBB5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031BF8-4F28-491D-96CF-CF61EB09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8BEC-BD0F-4DB4-BD58-BE1D80E19A9D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C33FEF-B4E3-4CC6-AC4A-D26CB9A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0E2126-997C-40DB-BDF6-7730C91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1E72BE-AFBE-4AAB-AF4E-93B8A17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613097-5152-44A0-93DC-917B2FBA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E9C388-A398-4924-8364-059C048E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89D7B6-926B-4090-9E7B-1A1F380C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0D4F45-C450-492E-A7A1-0EBE510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1560C3-169B-4AB4-AA53-406454BF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CFEB43-365A-4883-9624-117EE36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528CDB-BC35-43EA-A73F-51CA0865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38CC-7E6A-4755-919E-2E5FA119B649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9F124D-DB16-4A69-811C-4C168E3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9484FD-1D79-4509-BD85-80526EE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2C0E31-2632-4282-AE53-5C86D14C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E99A63-4A62-421E-90C9-C8EE828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0B3D8C-CA14-4208-90DB-475B3E0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7BA33B-775D-488D-B3C7-BC2267C6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907406-C924-41F6-809B-37DD03C5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B4B871-9022-4940-93B5-34F850B6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E04C15-0576-4DCD-A3E3-1AC27C3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E71DA1-01C2-4AB9-ADD2-C4276E5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B6F5-7AF4-430D-956E-4140BBCD43CF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5F215D-360F-4A35-B3B3-E0A46E5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7EBD2F-91C0-4866-9208-9CEBD97B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641691-4D3F-43E8-985E-0748DA7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21340C-6019-4A76-B764-E6EC6F0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936E1B-0549-414B-B68C-1014C98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2F9288-0D93-4FB7-BE03-E6C5E55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58C554-1C1A-4BFA-8F44-C332FE2D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6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4238F0-A1DD-49FB-BB8D-0D07BB3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0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1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2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3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C8F1C6-F23D-44BF-ABE1-35DE2C6C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1A7157-0B35-4FAF-B0A6-0F04C825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9A53-DADC-4B75-93C7-FED1835D1309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10EBA0-CD43-4AC7-8A8A-F5EE5AF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506FF5-3F23-40C4-8B12-F310EC1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34894F-36E0-4C6B-9E4F-AC18683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FF6487-7DD9-41EE-B561-5A6C5B8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49E7B0-5262-4596-84F0-98250D0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28A809-79B4-4304-A6E6-2F4EE39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C93635-9D76-4400-9659-4C6A066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01D678-BDCF-4570-8B34-048EFF6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C59A8B-54D6-4DB9-8D8C-3046751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7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FBA8A0-3008-44DF-AD14-28A2D75A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C6C9-5D36-4D70-A9DF-43C4E26AEC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408B-07A0-423B-8F44-94BB8D9DB09B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0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1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2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3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4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702ED5-CC4D-4206-8B73-A122A929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6D9298-AC7E-450C-B009-9157CCB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60BF89-651D-462B-8942-C2D528A3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DDBB6C-AC3C-4177-90E1-1BF00673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A391C9-61F2-4086-828E-F06CB4E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2B2557-7375-401C-928F-C594AE2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ABFAE2-5C58-410B-9457-07653AC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377111-248A-4214-A777-02D0704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6A6A16-660A-4FCF-81CD-BD42659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49B6A3-C738-4DB8-A4B8-DAE98FE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1A3A-61D7-4A9B-BD93-C6856B1B552C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45201B-244C-4E1A-BCED-E3EF697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8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19268B-B7E2-49B7-8E39-2BCAE79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1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2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3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4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5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1F9CC9-4194-44CC-BB3F-EB117414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D3864B-3EE1-4614-BCFF-DFB5D9DD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2E419F-7FEA-4331-81F8-2AB40FE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CD7046-C4D6-4AE6-8766-C684273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8A3713-461B-43FD-A78B-603DA99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106B57-9E4C-4AD5-9B70-B467204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581DA7-B7EC-420C-989A-AA4C3DFD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9F9199-A45A-4639-9F46-D5EF488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1352-A425-4F83-A3C3-C0093AA6CB05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DC6CBF4-2B43-466C-87FD-CA1508C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4324E5-6F6B-47EA-B5D6-0F70D2D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E6E1C9-4FB3-41C0-B3E4-6EF43CF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9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F3C480-BDE1-4576-9710-A85F3CB3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4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5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6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3D7455-A1BA-47AE-87D8-D2976E47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E88A5E-AF55-4BFE-AF7F-C92A24D1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E75D11-24E5-4E40-A863-155CE52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6CA710-F1B2-45BA-89AF-05D67BB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6C5A7E-4C77-4307-8FF6-335607B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0699E1-856B-4243-AF6F-B2EE73A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656D-D7C6-411A-9258-1DF209F43F3A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AB7F72-8B83-4F75-ABB2-CC44059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D57F2A-ADEC-4905-A0BC-32308CE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0FC408-1158-4A04-B1B6-4207B72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143641-C4F9-4BBE-BF39-A6D4337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AB0ABA-1B08-4709-9F53-513B3376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638437-31D4-407D-AB0F-44FD262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6F4A60-E8EE-4920-9C25-7F8ED57E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1A1AB8-CBFD-4E79-8511-A511F13B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75B0CC-8709-4E6F-87B8-5996702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D6202B-D894-431A-BA0E-3EF6521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8CF4-C1CB-476B-8980-CC0713DCCEC2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43A731-0523-4678-BC41-C7A431A2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C74915-F123-4F87-A4AE-CB01DF6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557B92-8F02-4B2D-96A5-1120CC7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D3F1F1-AAAB-485B-AC44-B2B36B4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BA4A94-680A-48BF-9112-7D46D05E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E49E4F-84B2-4267-BD31-139B953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17A419-934F-43D8-AB90-8B96824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5430CB-49B1-41A5-844B-2B7AFD56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F2DA0A-5DC9-4652-B62C-5E13BA03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0257FD-5683-495A-9AD6-2DC5DFD7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011C-9C33-49CF-AAC7-67DE2094CF16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6873E7-2AE2-4A0B-88E3-4A6A10C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8BAC40-C2D3-4DF9-80E8-329A85C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193AAF-E42F-4117-989D-6837502B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91F99F-53ED-47DD-82E3-910535E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F53044-B709-4C05-B07B-B3632A6C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A8F5F8-E919-4FBF-8E53-D4CCBCD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74B013-5715-46D6-B3A4-DF96289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6D2928-2A24-44B4-AF58-E71348D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31A936-F5AB-417C-B044-CE4BB7A2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2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CC23FC-FC8E-4A06-B4AA-14AFB262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6B83-E889-4627-ABE5-9806C8410090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6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7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8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9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8DDCBC-851D-47FB-984D-4E02F1D6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BEE088-5864-4D5B-B867-CCADB0BC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763F44-8F5E-47E7-860B-BAFBB455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E8C427-49F8-405C-85C4-2C257C1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7686AA-1B1B-4CBA-9A20-B1C8A0A7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8B7D76-9B17-4003-973F-1F154C2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9A6F25-3F6A-42D2-AF91-7E2D891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547CD8-4CFF-420D-BA85-D09C29A4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966F09-FAA2-4CF1-A8BE-65826DD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776565-3B09-423E-95A6-3DF6A8E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53C64-884A-4A62-9394-ECAC6A1DEC75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D17B30-11BC-49D0-9087-69CB6A27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9760C5-DD8A-45C3-8AA7-4FD382A7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8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9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0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69C615-A191-4E0A-8A9C-EAB25C18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55FD89-C406-4EC6-AA0A-FBBB3E6A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1EDF55-3B2C-431B-92E1-545622A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1FE85E-3F4E-4973-BB23-D7819AC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B2D206-7D06-4623-89E2-C1EDBF2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89F2010-179B-4C4E-8259-DD3767D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EE99DA-3DA3-441A-A683-2A4332B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233A55-694C-4E8A-8F58-71FAA93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7FA88-2267-4034-ACED-46CFC190E182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7E910E-64F2-4595-8077-2007175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EDED3B-2EF1-4C3C-9BF5-36BDD20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E15535-455C-401D-8834-73A10A2B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4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CDC431-AF4F-47B3-92A5-7DDD7A9E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0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1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1F81F1-E131-4FAD-BB04-845EC71E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33C10B-129C-468E-9CA2-36EC35B3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2738DE-A892-42B2-B81C-EBBB2235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DDDD84-D09A-471D-AFB1-F76FAC3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DC7C34-79A8-407D-9AE2-131D1DFC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BF31045-1C94-4A70-82C2-79AC4C63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EE43FA-45B7-445A-8062-D812AEADBFF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B3F5A2-AF30-4DC7-BD35-55D68AD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E6A5AF-3487-466C-B265-B0F0951E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565390-58CE-4B3F-A6ED-4979526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12CFC0-B1A6-4B4B-8471-E92A7FA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57200" y="320436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5BD5E7-EDF5-452F-9BD8-86AC06D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4674240" y="123480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45720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5" name="PlaceHolder 5"/>
          <p:cNvSpPr>
            <a:spLocks noGrp="1"/>
          </p:cNvSpPr>
          <p:nvPr>
            <p:ph/>
          </p:nvPr>
        </p:nvSpPr>
        <p:spPr>
          <a:xfrm>
            <a:off x="4674240" y="320436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BEC670-1D89-4040-85C8-8CCC2405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323964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6022080" y="123480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0" name="PlaceHolder 5"/>
          <p:cNvSpPr>
            <a:spLocks noGrp="1"/>
          </p:cNvSpPr>
          <p:nvPr>
            <p:ph/>
          </p:nvPr>
        </p:nvSpPr>
        <p:spPr>
          <a:xfrm>
            <a:off x="45720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1" name="PlaceHolder 6"/>
          <p:cNvSpPr>
            <a:spLocks noGrp="1"/>
          </p:cNvSpPr>
          <p:nvPr>
            <p:ph/>
          </p:nvPr>
        </p:nvSpPr>
        <p:spPr>
          <a:xfrm>
            <a:off x="323964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2" name="PlaceHolder 7"/>
          <p:cNvSpPr>
            <a:spLocks noGrp="1"/>
          </p:cNvSpPr>
          <p:nvPr>
            <p:ph/>
          </p:nvPr>
        </p:nvSpPr>
        <p:spPr>
          <a:xfrm>
            <a:off x="6022080" y="320436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5C7F07-1529-45A1-BE58-EF910507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5597F2-F0BB-4B64-9293-F801B54C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 type="subTitle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FADA7A-CFB8-4B19-A705-14DD15F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5772CB-2778-4912-B60C-B8E551B3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959280"/>
            <a:ext cx="9144000" cy="17604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6105600" y="0"/>
            <a:ext cx="3038400" cy="5715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5715000"/>
              <a:gd name="textAreaBottom" fmla="*/ 5715360 h 5715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57200" y="5311800"/>
            <a:ext cx="21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5311800"/>
            <a:ext cx="28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3ED55-7B18-45BC-9233-79DA92BEFE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14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F6F75-184E-4A1B-9F50-BAF441501B9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15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2876D-B0F2-46B4-B5DF-9F60A5145DD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6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C116C-F64D-48E9-96CB-66272E46009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7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B6BC0-4228-4989-84A5-1887DD3A03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18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14604-701F-481F-8FCA-A4C721E01AA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19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18CE7-B9CA-4CE9-A3B2-31A1C02F86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20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F46B3-1029-42B1-A7A8-56F7AE3C46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21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13B45-B0D2-4CFF-8DE5-86388E5E2EE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2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2F50C-E647-426B-81B4-39219FDE1C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2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41AE5-72AB-42D9-9EDC-0AB51FAB291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0" y="3959280"/>
            <a:ext cx="9144000" cy="17604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6105600" y="0"/>
            <a:ext cx="3038400" cy="5715000"/>
          </a:xfrm>
          <a:custGeom>
            <a:avLst/>
            <a:gdLst>
              <a:gd name="textAreaLeft" fmla="*/ 0 w 3038400"/>
              <a:gd name="textAreaRight" fmla="*/ 3038760 w 3038400"/>
              <a:gd name="textAreaTop" fmla="*/ 0 h 5715000"/>
              <a:gd name="textAreaBottom" fmla="*/ 5715360 h 5715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57200" y="5311800"/>
            <a:ext cx="21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124080" y="5311800"/>
            <a:ext cx="28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A6EB8-D233-484B-BB4E-CA48104840A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24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7AC4B-3766-49C5-9ADE-2C927579C1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sldNum" idx="25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2BDB0-1947-48AD-B422-E17B3725098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Num" idx="26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014D3-B471-4064-9EF2-FC14F44B71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27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37B6-C8F2-4320-941E-894E7462CE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28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897EE-F421-45DF-A3A5-18E614C37D6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29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CAB01-710F-4B32-9DF0-2116801D90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Num" idx="30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094BC-5A39-4654-8B5C-97C0E167C27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Num" idx="31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E1AC6-E5D5-4551-A3A1-2EB87A38F6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3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78D40-5626-4085-9258-ECEAA29E0CA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3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11A10-C6E6-495D-9144-BD8147F1CDD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5311800"/>
            <a:ext cx="21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5311800"/>
            <a:ext cx="28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D2C6B-C13B-4E30-8DC0-76C3CFA9CA6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sldNum" idx="34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23DA6-244E-4099-BCE9-2C2B057C489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sldNum" idx="35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E562B-EA6B-4FDA-9CF8-E9354880FD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36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5DC1D-444D-4CED-A569-D7D7B844613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7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A6D85-0106-467B-8EBE-9F6C38477B4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38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02E1C-371E-4314-85D6-976E12AE272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sldNum" idx="39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B3464-709E-4471-A523-177B598A1DF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sldNum" idx="40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48FF3-CDCC-4A05-A417-713CB3FE55C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41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4D75-674F-4C66-AD9F-0678461481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sldNum" idx="4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72B47-B5A4-4994-BED1-1F90A2BCE9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sldNum" idx="4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A34FD-14DA-45DE-9D10-41D496BF470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"/>
          <p:cNvSpPr/>
          <p:nvPr/>
        </p:nvSpPr>
        <p:spPr>
          <a:xfrm>
            <a:off x="0" y="3959280"/>
            <a:ext cx="9144000" cy="17604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7315200" y="0"/>
            <a:ext cx="1828800" cy="5715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715000"/>
              <a:gd name="textAreaBottom" fmla="*/ 5715360 h 5715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5311800"/>
            <a:ext cx="21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124080" y="5311800"/>
            <a:ext cx="28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73067-CE77-4739-9EA4-19A0C233FD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sldNum" idx="44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989B8-64AF-487E-A64C-E0B7BDBA38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Num" idx="45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348A1-B1D4-4093-AE37-1B5D919AF06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46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0E5D0-03E9-400C-B365-19B8C7E94F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47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09B81-FF56-42E4-B2D7-6C320C4BF2D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sldNum" idx="48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B1D63-535B-437A-A173-172624CD6C7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Num" idx="49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1B160-0588-42DF-8014-FE9FD1C8F9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sldNum" idx="50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B6662-CD9D-4DEF-92EF-482AEF8E6F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sldNum" idx="51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E64DC-0C97-496E-A87B-225C0FC543F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sldNum" idx="52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EC172-19FA-4FDF-BA8B-1E772321695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sldNum" idx="53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DE6BB-446B-4C59-819E-D0B208A251C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7200" y="5311800"/>
            <a:ext cx="213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124080" y="5311800"/>
            <a:ext cx="28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5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469E7-DD9C-4686-8249-ED0A60A418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sldNum" idx="54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7224A-67B4-469F-BEB7-757D79788D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Num" idx="55"/>
          </p:nvPr>
        </p:nvSpPr>
        <p:spPr>
          <a:xfrm>
            <a:off x="8156520" y="5349960"/>
            <a:ext cx="7603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DA22B-9DED-4964-8D82-BB78315EC2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sldNum" idx="56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49414-A38F-412D-AE3C-983D9B6F50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sldNum" idx="57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83818-4D4E-4F7B-8601-DB42A5FC5B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sldNum" idx="58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0DEE3-A8BC-497A-8B38-F6DCB89DE9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sldNum" idx="59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1F032-9B8B-4CF3-BC50-01E6F071D4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sldNum" idx="60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A1DBB-A8BE-4955-9DE3-B82BD364EC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sldNum" idx="61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CC3B3-99A2-4676-8736-BB3F385158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sldNum" idx="6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4A875-996A-46AB-9169-0C47D8A672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 type="sldNum" idx="6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95B18-947F-4D5A-9490-451B0ADCD0C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12"/>
          <p:cNvSpPr/>
          <p:nvPr/>
        </p:nvSpPr>
        <p:spPr>
          <a:xfrm>
            <a:off x="716040" y="4168800"/>
            <a:ext cx="3801960" cy="12016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11"/>
          <p:cNvSpPr/>
          <p:nvPr/>
        </p:nvSpPr>
        <p:spPr>
          <a:xfrm>
            <a:off x="-54000" y="4821120"/>
            <a:ext cx="3801960" cy="69876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Right Triangle 13"/>
          <p:cNvGrpSpPr/>
          <p:nvPr/>
        </p:nvGrpSpPr>
        <p:grpSpPr>
          <a:xfrm>
            <a:off x="-12600" y="4821120"/>
            <a:ext cx="3414600" cy="909720"/>
            <a:chOff x="-12600" y="4821120"/>
            <a:chExt cx="3414600" cy="909720"/>
          </a:xfrm>
        </p:grpSpPr>
        <p:pic>
          <p:nvPicPr>
            <p:cNvPr id="2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4821120"/>
              <a:ext cx="34146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7920" y="5351400"/>
              <a:ext cx="17002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Straight Connector 14" descr=""/>
          <p:cNvPicPr/>
          <p:nvPr/>
        </p:nvPicPr>
        <p:blipFill>
          <a:blip r:embed="rId3"/>
          <a:stretch/>
        </p:blipFill>
        <p:spPr>
          <a:xfrm>
            <a:off x="-19080" y="4809960"/>
            <a:ext cx="3421080" cy="925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6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97605-B025-432B-B3AC-6814D5B6350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7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8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3A9BC-F41E-4067-B1B5-2985DF0FF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64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06640-D7BE-4EBF-A9B5-4F1B327113E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 type="sldNum" idx="65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499E9-8EC9-4CFB-94C9-3B982432BD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 type="sldNum" idx="66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15662-FA0E-4FA4-831D-028FDFD380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ight Triangle 10"/>
          <p:cNvSpPr/>
          <p:nvPr/>
        </p:nvSpPr>
        <p:spPr>
          <a:xfrm>
            <a:off x="0" y="388620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5" name="Group 15"/>
          <p:cNvGrpSpPr/>
          <p:nvPr/>
        </p:nvGrpSpPr>
        <p:grpSpPr>
          <a:xfrm>
            <a:off x="-3240" y="4127400"/>
            <a:ext cx="9147240" cy="1592280"/>
            <a:chOff x="-3240" y="4127400"/>
            <a:chExt cx="9147240" cy="1592280"/>
          </a:xfrm>
        </p:grpSpPr>
        <p:sp>
          <p:nvSpPr>
            <p:cNvPr id="2446" name="Freeform 16"/>
            <p:cNvSpPr/>
            <p:nvPr/>
          </p:nvSpPr>
          <p:spPr>
            <a:xfrm>
              <a:off x="1693440" y="4127400"/>
              <a:ext cx="7444440" cy="40536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Freeform 18"/>
            <p:cNvSpPr/>
            <p:nvPr/>
          </p:nvSpPr>
          <p:spPr>
            <a:xfrm>
              <a:off x="45360" y="4363200"/>
              <a:ext cx="9092880" cy="65556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8" name="Freeform 19"/>
            <p:cNvGrpSpPr/>
            <p:nvPr/>
          </p:nvGrpSpPr>
          <p:grpSpPr>
            <a:xfrm>
              <a:off x="2520" y="4163040"/>
              <a:ext cx="9141480" cy="1556640"/>
              <a:chOff x="2520" y="4163040"/>
              <a:chExt cx="9141480" cy="1556640"/>
            </a:xfrm>
          </p:grpSpPr>
          <p:pic>
            <p:nvPicPr>
              <p:cNvPr id="244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163040"/>
                <a:ext cx="9141480" cy="155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0" name=""/>
              <p:cNvSpPr/>
              <p:nvPr/>
            </p:nvSpPr>
            <p:spPr>
              <a:xfrm>
                <a:off x="9000" y="41666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45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151160"/>
              <a:ext cx="9147240" cy="68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 type="dt" idx="67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CAE60-2E26-4502-A9A9-A1097BD4745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 type="ftr" idx="68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 type="sldNum" idx="69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8D32A-6178-4927-83BE-6D9D0489D9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 type="dt" idx="70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7E637-A78F-4CA7-9403-020BDA26F18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 type="ftr" idx="71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 type="sldNum" idx="72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E0733-9C2A-410C-8D85-C3467D64C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Chevron 10"/>
          <p:cNvSpPr/>
          <p:nvPr/>
        </p:nvSpPr>
        <p:spPr>
          <a:xfrm>
            <a:off x="3637080" y="2505240"/>
            <a:ext cx="182520" cy="190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Chevron 15"/>
          <p:cNvSpPr/>
          <p:nvPr/>
        </p:nvSpPr>
        <p:spPr>
          <a:xfrm>
            <a:off x="3449520" y="2505240"/>
            <a:ext cx="184320" cy="1904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 type="dt" idx="73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F06E5-E023-4700-A7F1-5216E05EF58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 type="ftr" idx="74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 type="sldNum" idx="75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4229C-34B2-43E0-A62B-14E5F424C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 type="dt" idx="76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C2B16-A92F-4FBC-BA9F-F92D771CF1B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 type="ftr" idx="77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PlaceHolder 5"/>
          <p:cNvSpPr>
            <a:spLocks noGrp="1"/>
          </p:cNvSpPr>
          <p:nvPr>
            <p:ph type="sldNum" idx="78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92F6F-D5D3-4A6F-A341-4040256A2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 type="dt" idx="79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AB537-47CD-48F6-8A83-13D4F5C0ED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 type="ftr" idx="80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5"/>
          <p:cNvSpPr>
            <a:spLocks noGrp="1"/>
          </p:cNvSpPr>
          <p:nvPr>
            <p:ph type="sldNum" idx="81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46E43-CE15-4116-83BA-5CE88F3DBA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dt" idx="82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A4652-E5D9-4889-A603-47726D4AED8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 type="ftr" idx="83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 type="sldNum" idx="84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37BA9-8D41-4358-B53B-35FDDDBF9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 type="dt" idx="85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339BE-5D09-4AFE-A331-E1B072A2F64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 type="ftr" idx="86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 type="sldNum" idx="87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222A3-A84C-4F15-9F9D-7AE0F5C3E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9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B2611-B869-47F2-A4AB-201DC6B97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0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1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7567F-102F-4FC1-AD89-4F2A544FE1B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 type="dt" idx="88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7DB23-D8E1-4277-B3D1-29CC74CCF4F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 type="ftr" idx="89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5"/>
          <p:cNvSpPr>
            <a:spLocks noGrp="1"/>
          </p:cNvSpPr>
          <p:nvPr>
            <p:ph type="sldNum" idx="90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0BA0C-0388-4DFD-89B1-624EC4775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Freeform 10"/>
          <p:cNvSpPr/>
          <p:nvPr/>
        </p:nvSpPr>
        <p:spPr>
          <a:xfrm>
            <a:off x="716040" y="4168800"/>
            <a:ext cx="3801960" cy="12016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Freeform 15"/>
          <p:cNvSpPr/>
          <p:nvPr/>
        </p:nvSpPr>
        <p:spPr>
          <a:xfrm>
            <a:off x="-54000" y="4821120"/>
            <a:ext cx="3801960" cy="69876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4" name="Right Triangle 16"/>
          <p:cNvGrpSpPr/>
          <p:nvPr/>
        </p:nvGrpSpPr>
        <p:grpSpPr>
          <a:xfrm>
            <a:off x="-12600" y="4821120"/>
            <a:ext cx="3414600" cy="909720"/>
            <a:chOff x="-12600" y="4821120"/>
            <a:chExt cx="3414600" cy="909720"/>
          </a:xfrm>
        </p:grpSpPr>
        <p:pic>
          <p:nvPicPr>
            <p:cNvPr id="2785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4821120"/>
              <a:ext cx="34146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6" name=""/>
            <p:cNvSpPr/>
            <p:nvPr/>
          </p:nvSpPr>
          <p:spPr>
            <a:xfrm>
              <a:off x="277920" y="5351400"/>
              <a:ext cx="17002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87" name="Straight Connector 18" descr=""/>
          <p:cNvPicPr/>
          <p:nvPr/>
        </p:nvPicPr>
        <p:blipFill>
          <a:blip r:embed="rId3"/>
          <a:stretch/>
        </p:blipFill>
        <p:spPr>
          <a:xfrm>
            <a:off x="-19080" y="4809960"/>
            <a:ext cx="3421080" cy="925560"/>
          </a:xfrm>
          <a:prstGeom prst="rect">
            <a:avLst/>
          </a:prstGeom>
          <a:ln w="0">
            <a:noFill/>
          </a:ln>
        </p:spPr>
      </p:pic>
      <p:sp>
        <p:nvSpPr>
          <p:cNvPr id="2788" name="Chevron 19"/>
          <p:cNvSpPr/>
          <p:nvPr/>
        </p:nvSpPr>
        <p:spPr>
          <a:xfrm>
            <a:off x="8664480" y="4156200"/>
            <a:ext cx="182520" cy="190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Chevron 20"/>
          <p:cNvSpPr/>
          <p:nvPr/>
        </p:nvSpPr>
        <p:spPr>
          <a:xfrm>
            <a:off x="8477280" y="4156200"/>
            <a:ext cx="182520" cy="190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dt" idx="91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20025-BBE3-4249-A16A-A1EEF4055E7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92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 type="sldNum" idx="93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B58D8-4FB5-405F-B5EF-FD666953DA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 type="dt" idx="94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D9EE9-73DA-4C64-BF83-2A893FC625A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 type="ftr" idx="95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 type="sldNum" idx="96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90789-6E68-4235-81A7-4CD2AC382F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 type="body"/>
          </p:nvPr>
        </p:nvSpPr>
        <p:spPr>
          <a:xfrm>
            <a:off x="457200" y="123480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 type="dt" idx="97"/>
          </p:nvPr>
        </p:nvSpPr>
        <p:spPr>
          <a:xfrm>
            <a:off x="6727680" y="5339880"/>
            <a:ext cx="19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6BFDD-803F-4255-9A4A-C9F98B47720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 type="ftr" idx="98"/>
          </p:nvPr>
        </p:nvSpPr>
        <p:spPr>
          <a:xfrm>
            <a:off x="4379400" y="5339880"/>
            <a:ext cx="235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 type="sldNum" idx="99"/>
          </p:nvPr>
        </p:nvSpPr>
        <p:spPr>
          <a:xfrm>
            <a:off x="8647200" y="5339880"/>
            <a:ext cx="366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5428A-7FBE-496E-A64E-BD2BA2BBDB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dt" idx="100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3307F-45B7-4336-9847-7D123AEE2B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 type="ftr" idx="101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 type="sldNum" idx="102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56DEC-4A43-4FC2-9BE8-EAB737655EF5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 type="dt" idx="103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47771-3944-4A2D-9F49-13571042BD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 type="ftr" idx="104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 type="sldNum" idx="105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C1E0B-579E-4435-9A24-790D0DD2F4CA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 type="dt" idx="106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79CC9-094F-4F3C-9609-876B9C111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 type="ftr" idx="107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 type="sldNum" idx="108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C5742-EB32-47CB-BDE0-CDC5884FFF45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 type="dt" idx="109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02980-B455-4C2E-B220-D59C42E15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 type="ftr" idx="110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 type="sldNum" idx="111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290E9-075D-4ABD-8AEA-EA0106E7B8EE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dt" idx="112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72C1D-F55B-4F96-919A-1DF5C531D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ftr" idx="113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 type="sldNum" idx="114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2A9EF-EE5E-4EF5-AF9A-3C4733560F32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 type="dt" idx="115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1E06E-FF38-4061-816C-02FCAE0F78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 type="ftr" idx="116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 type="sldNum" idx="117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5718-3354-4FE0-A549-4952A69C8C88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2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B5683-F35D-4E78-986D-FC3DEE91AA1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 type="dt" idx="118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5C986-A3E7-4837-8184-22250F773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 type="ftr" idx="119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 type="sldNum" idx="120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F2034-0C88-4110-ACE3-E72EC55397FE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 type="dt" idx="121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CEA1E-D9DD-4EAE-BE35-C322FFDDF6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 type="ftr" idx="122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 type="sldNum" idx="123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DE70E-5EB3-4C38-B8FB-1E7AFAB76776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 type="dt" idx="124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906C7-15FE-4079-81B9-25D953A4A4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 type="ftr" idx="125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 type="sldNum" idx="126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B57A7-7410-439B-AF3D-855F362773D5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 type="dt" idx="127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65556-7942-4B00-B4F6-BC9EDEEFF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 type="ftr" idx="128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5"/>
          <p:cNvSpPr>
            <a:spLocks noGrp="1"/>
          </p:cNvSpPr>
          <p:nvPr>
            <p:ph type="sldNum" idx="129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435B9-C248-476F-8097-9F33C353AAAC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628560" y="306000"/>
            <a:ext cx="7886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 type="body"/>
          </p:nvPr>
        </p:nvSpPr>
        <p:spPr>
          <a:xfrm>
            <a:off x="628560" y="1522440"/>
            <a:ext cx="78868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 type="dt" idx="130"/>
          </p:nvPr>
        </p:nvSpPr>
        <p:spPr>
          <a:xfrm>
            <a:off x="62820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07DCA-24A6-491F-B927-A70ABD376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 type="ftr" idx="131"/>
          </p:nvPr>
        </p:nvSpPr>
        <p:spPr>
          <a:xfrm>
            <a:off x="3029040" y="5297040"/>
            <a:ext cx="308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 type="sldNum" idx="132"/>
          </p:nvPr>
        </p:nvSpPr>
        <p:spPr>
          <a:xfrm>
            <a:off x="6457680" y="52970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00397-EC5D-4C47-B595-CCF7BFA9E264}" type="slidenum">
              <a:rPr b="0" lang="en-I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82440"/>
            <a:ext cx="7466040" cy="124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333080"/>
            <a:ext cx="74660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3"/>
          </p:nvPr>
        </p:nvSpPr>
        <p:spPr>
          <a:xfrm>
            <a:off x="8152920" y="5349960"/>
            <a:ext cx="76068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47FB0-FA14-4E89-9123-120E3DB8913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7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5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ourses.engr.illinois.edu/ece498/al/syllabus.html" TargetMode="External"/><Relationship Id="rId2" Type="http://schemas.openxmlformats.org/officeDocument/2006/relationships/hyperlink" Target="http://www.nvidia.com/docs/IO/47906/220401_Reprint.pdf" TargetMode="External"/><Relationship Id="rId3" Type="http://schemas.openxmlformats.org/officeDocument/2006/relationships/slideLayout" Target="../slideLayouts/slideLayout8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Text Box 2"/>
          <p:cNvSpPr/>
          <p:nvPr/>
        </p:nvSpPr>
        <p:spPr>
          <a:xfrm>
            <a:off x="6553080" y="5203800"/>
            <a:ext cx="213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D1E8D-660B-42C6-8BA4-2E45018EAE5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4" name="TextBox 8"/>
          <p:cNvSpPr/>
          <p:nvPr/>
        </p:nvSpPr>
        <p:spPr>
          <a:xfrm>
            <a:off x="1600200" y="88884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Arial"/>
              </a:rPr>
              <a:t>GPGPU and CUD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Text Box 1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2A38-17FC-448F-A1E6-6069FB2EF5D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2" name="Picture 2" descr=""/>
          <p:cNvPicPr/>
          <p:nvPr/>
        </p:nvPicPr>
        <p:blipFill>
          <a:blip r:embed="rId1"/>
          <a:stretch/>
        </p:blipFill>
        <p:spPr>
          <a:xfrm>
            <a:off x="6145200" y="3005280"/>
            <a:ext cx="2998800" cy="2230200"/>
          </a:xfrm>
          <a:prstGeom prst="rect">
            <a:avLst/>
          </a:prstGeom>
          <a:ln w="0">
            <a:noFill/>
          </a:ln>
        </p:spPr>
      </p:pic>
      <p:pic>
        <p:nvPicPr>
          <p:cNvPr id="3523" name="Picture 3" descr=""/>
          <p:cNvPicPr/>
          <p:nvPr/>
        </p:nvPicPr>
        <p:blipFill>
          <a:blip r:embed="rId2"/>
          <a:stretch/>
        </p:blipFill>
        <p:spPr>
          <a:xfrm>
            <a:off x="6145200" y="888840"/>
            <a:ext cx="2998800" cy="2124360"/>
          </a:xfrm>
          <a:prstGeom prst="rect">
            <a:avLst/>
          </a:prstGeom>
          <a:ln w="0">
            <a:noFill/>
          </a:ln>
        </p:spPr>
      </p:pic>
      <p:sp>
        <p:nvSpPr>
          <p:cNvPr id="3524" name="Rectangle 4"/>
          <p:cNvSpPr/>
          <p:nvPr/>
        </p:nvSpPr>
        <p:spPr>
          <a:xfrm>
            <a:off x="76320" y="1206360"/>
            <a:ext cx="601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GPUs contain hundreds of arithmetic units, and their power can be used to accelerate a lot of compute-intensive ap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isting generation of GPUs have a flexible archite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transistors in CPU are dedicated for data caching and controlling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5" name="Rectangle 5"/>
          <p:cNvSpPr/>
          <p:nvPr/>
        </p:nvSpPr>
        <p:spPr>
          <a:xfrm>
            <a:off x="1817640" y="266760"/>
            <a:ext cx="3568680" cy="627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GPU Versus CP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6" name="Picture 1026" descr=""/>
          <p:cNvPicPr/>
          <p:nvPr/>
        </p:nvPicPr>
        <p:blipFill>
          <a:blip r:embed="rId1"/>
          <a:stretch/>
        </p:blipFill>
        <p:spPr>
          <a:xfrm>
            <a:off x="4114800" y="1141560"/>
            <a:ext cx="5029200" cy="3741480"/>
          </a:xfrm>
          <a:prstGeom prst="rect">
            <a:avLst/>
          </a:prstGeom>
          <a:ln w="0">
            <a:noFill/>
          </a:ln>
        </p:spPr>
      </p:pic>
      <p:grpSp>
        <p:nvGrpSpPr>
          <p:cNvPr id="3527" name="Group 1027"/>
          <p:cNvGrpSpPr/>
          <p:nvPr/>
        </p:nvGrpSpPr>
        <p:grpSpPr>
          <a:xfrm>
            <a:off x="2743200" y="581040"/>
            <a:ext cx="5636880" cy="4939920"/>
            <a:chOff x="2743200" y="581040"/>
            <a:chExt cx="5636880" cy="4939920"/>
          </a:xfrm>
        </p:grpSpPr>
        <p:sp>
          <p:nvSpPr>
            <p:cNvPr id="3528" name="Freeform 1028"/>
            <p:cNvSpPr/>
            <p:nvPr/>
          </p:nvSpPr>
          <p:spPr>
            <a:xfrm>
              <a:off x="2743200" y="581040"/>
              <a:ext cx="4341960" cy="4051800"/>
            </a:xfrm>
            <a:custGeom>
              <a:avLst/>
              <a:gdLst>
                <a:gd name="textAreaLeft" fmla="*/ 0 w 4341960"/>
                <a:gd name="textAreaRight" fmla="*/ 4342320 w 4341960"/>
                <a:gd name="textAreaTop" fmla="*/ 0 h 4051800"/>
                <a:gd name="textAreaBottom" fmla="*/ 4052160 h 405180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9" name="Freeform 1029"/>
            <p:cNvSpPr/>
            <p:nvPr/>
          </p:nvSpPr>
          <p:spPr>
            <a:xfrm>
              <a:off x="3962160" y="708120"/>
              <a:ext cx="4341960" cy="4051440"/>
            </a:xfrm>
            <a:custGeom>
              <a:avLst/>
              <a:gdLst>
                <a:gd name="textAreaLeft" fmla="*/ 0 w 4341960"/>
                <a:gd name="textAreaRight" fmla="*/ 4342320 w 4341960"/>
                <a:gd name="textAreaTop" fmla="*/ 0 h 4051440"/>
                <a:gd name="textAreaBottom" fmla="*/ 4051800 h 405144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0" name="Freeform 1030"/>
            <p:cNvSpPr/>
            <p:nvPr/>
          </p:nvSpPr>
          <p:spPr>
            <a:xfrm>
              <a:off x="3047760" y="1469520"/>
              <a:ext cx="4341960" cy="4051440"/>
            </a:xfrm>
            <a:custGeom>
              <a:avLst/>
              <a:gdLst>
                <a:gd name="textAreaLeft" fmla="*/ 0 w 4341960"/>
                <a:gd name="textAreaRight" fmla="*/ 4342320 w 4341960"/>
                <a:gd name="textAreaTop" fmla="*/ 0 h 4051440"/>
                <a:gd name="textAreaBottom" fmla="*/ 4051800 h 405144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1" name="Freeform 1031"/>
            <p:cNvSpPr/>
            <p:nvPr/>
          </p:nvSpPr>
          <p:spPr>
            <a:xfrm>
              <a:off x="4038120" y="1406160"/>
              <a:ext cx="4341960" cy="4051440"/>
            </a:xfrm>
            <a:custGeom>
              <a:avLst/>
              <a:gdLst>
                <a:gd name="textAreaLeft" fmla="*/ 0 w 4341960"/>
                <a:gd name="textAreaRight" fmla="*/ 4342320 w 4341960"/>
                <a:gd name="textAreaTop" fmla="*/ 0 h 4051440"/>
                <a:gd name="textAreaBottom" fmla="*/ 4051800 h 405144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2" name="Text Box 1033"/>
          <p:cNvSpPr/>
          <p:nvPr/>
        </p:nvSpPr>
        <p:spPr>
          <a:xfrm>
            <a:off x="1600200" y="3238560"/>
            <a:ext cx="3581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Thread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Text Box 1035"/>
          <p:cNvSpPr/>
          <p:nvPr/>
        </p:nvSpPr>
        <p:spPr>
          <a:xfrm>
            <a:off x="380880" y="952560"/>
            <a:ext cx="28958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Writing Code on Multi-core Process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4" name="Picture 1026" descr=""/>
          <p:cNvPicPr/>
          <p:nvPr/>
        </p:nvPicPr>
        <p:blipFill>
          <a:blip r:embed="rId1"/>
          <a:stretch/>
        </p:blipFill>
        <p:spPr>
          <a:xfrm>
            <a:off x="2971800" y="380880"/>
            <a:ext cx="6095880" cy="4762800"/>
          </a:xfrm>
          <a:prstGeom prst="rect">
            <a:avLst/>
          </a:prstGeom>
          <a:ln w="0">
            <a:noFill/>
          </a:ln>
        </p:spPr>
      </p:pic>
      <p:grpSp>
        <p:nvGrpSpPr>
          <p:cNvPr id="3535" name="Group 1027"/>
          <p:cNvGrpSpPr/>
          <p:nvPr/>
        </p:nvGrpSpPr>
        <p:grpSpPr>
          <a:xfrm>
            <a:off x="0" y="-254160"/>
            <a:ext cx="8915400" cy="6921360"/>
            <a:chOff x="0" y="-254160"/>
            <a:chExt cx="8915400" cy="6921360"/>
          </a:xfrm>
        </p:grpSpPr>
        <p:grpSp>
          <p:nvGrpSpPr>
            <p:cNvPr id="3536" name="Group 1028"/>
            <p:cNvGrpSpPr/>
            <p:nvPr/>
          </p:nvGrpSpPr>
          <p:grpSpPr>
            <a:xfrm>
              <a:off x="0" y="-254160"/>
              <a:ext cx="8915400" cy="6412680"/>
              <a:chOff x="0" y="-254160"/>
              <a:chExt cx="8915400" cy="6412680"/>
            </a:xfrm>
          </p:grpSpPr>
          <p:grpSp>
            <p:nvGrpSpPr>
              <p:cNvPr id="3537" name="Group 1029"/>
              <p:cNvGrpSpPr/>
              <p:nvPr/>
            </p:nvGrpSpPr>
            <p:grpSpPr>
              <a:xfrm>
                <a:off x="0" y="63000"/>
                <a:ext cx="8077320" cy="5142960"/>
                <a:chOff x="0" y="63000"/>
                <a:chExt cx="8077320" cy="5142960"/>
              </a:xfrm>
            </p:grpSpPr>
            <p:sp>
              <p:nvSpPr>
                <p:cNvPr id="3538" name="Freeform 1030"/>
                <p:cNvSpPr/>
                <p:nvPr/>
              </p:nvSpPr>
              <p:spPr>
                <a:xfrm>
                  <a:off x="0" y="4334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9" name="Freeform 1031"/>
                <p:cNvSpPr/>
                <p:nvPr/>
              </p:nvSpPr>
              <p:spPr>
                <a:xfrm>
                  <a:off x="171360" y="5882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1032"/>
                <p:cNvSpPr/>
                <p:nvPr/>
              </p:nvSpPr>
              <p:spPr>
                <a:xfrm>
                  <a:off x="343080" y="740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1" name="Freeform 1033"/>
                <p:cNvSpPr/>
                <p:nvPr/>
              </p:nvSpPr>
              <p:spPr>
                <a:xfrm>
                  <a:off x="515880" y="8949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1034"/>
                <p:cNvSpPr/>
                <p:nvPr/>
              </p:nvSpPr>
              <p:spPr>
                <a:xfrm>
                  <a:off x="687240" y="104868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3" name="Freeform 1035"/>
                <p:cNvSpPr/>
                <p:nvPr/>
              </p:nvSpPr>
              <p:spPr>
                <a:xfrm>
                  <a:off x="858960" y="12020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4" name="Freeform 1036"/>
                <p:cNvSpPr/>
                <p:nvPr/>
              </p:nvSpPr>
              <p:spPr>
                <a:xfrm>
                  <a:off x="1030320" y="135540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5" name="Freeform 1037"/>
                <p:cNvSpPr/>
                <p:nvPr/>
              </p:nvSpPr>
              <p:spPr>
                <a:xfrm>
                  <a:off x="1203480" y="15087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6" name="Freeform 1038"/>
                <p:cNvSpPr/>
                <p:nvPr/>
              </p:nvSpPr>
              <p:spPr>
                <a:xfrm>
                  <a:off x="858960" y="4334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7" name="Freeform 1039"/>
                <p:cNvSpPr/>
                <p:nvPr/>
              </p:nvSpPr>
              <p:spPr>
                <a:xfrm>
                  <a:off x="430200" y="4334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8" name="Freeform 1040"/>
                <p:cNvSpPr/>
                <p:nvPr/>
              </p:nvSpPr>
              <p:spPr>
                <a:xfrm>
                  <a:off x="452520" y="216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9" name="Freeform 1041"/>
                <p:cNvSpPr/>
                <p:nvPr/>
              </p:nvSpPr>
              <p:spPr>
                <a:xfrm>
                  <a:off x="601560" y="6300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0" name="Freeform 1042"/>
                <p:cNvSpPr/>
                <p:nvPr/>
              </p:nvSpPr>
              <p:spPr>
                <a:xfrm>
                  <a:off x="430200" y="63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1043"/>
                <p:cNvSpPr/>
                <p:nvPr/>
              </p:nvSpPr>
              <p:spPr>
                <a:xfrm>
                  <a:off x="0" y="63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2" name="Freeform 1044"/>
                <p:cNvSpPr/>
                <p:nvPr/>
              </p:nvSpPr>
              <p:spPr>
                <a:xfrm>
                  <a:off x="257040" y="29304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3" name="Freeform 1045"/>
                <p:cNvSpPr/>
                <p:nvPr/>
              </p:nvSpPr>
              <p:spPr>
                <a:xfrm>
                  <a:off x="944640" y="5882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4" name="Freeform 1046"/>
                <p:cNvSpPr/>
                <p:nvPr/>
              </p:nvSpPr>
              <p:spPr>
                <a:xfrm>
                  <a:off x="1116000" y="740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5" name="Freeform 1047"/>
                <p:cNvSpPr/>
                <p:nvPr/>
              </p:nvSpPr>
              <p:spPr>
                <a:xfrm>
                  <a:off x="1289160" y="8949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6" name="Freeform 1048"/>
                <p:cNvSpPr/>
                <p:nvPr/>
              </p:nvSpPr>
              <p:spPr>
                <a:xfrm>
                  <a:off x="1460520" y="10486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7" name="Freeform 1049"/>
                <p:cNvSpPr/>
                <p:nvPr/>
              </p:nvSpPr>
              <p:spPr>
                <a:xfrm>
                  <a:off x="1631880" y="12020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8" name="Freeform 1050"/>
                <p:cNvSpPr/>
                <p:nvPr/>
              </p:nvSpPr>
              <p:spPr>
                <a:xfrm>
                  <a:off x="1805040" y="135540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9" name="Freeform 1051"/>
                <p:cNvSpPr/>
                <p:nvPr/>
              </p:nvSpPr>
              <p:spPr>
                <a:xfrm>
                  <a:off x="1976400" y="15087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1052"/>
                <p:cNvSpPr/>
                <p:nvPr/>
              </p:nvSpPr>
              <p:spPr>
                <a:xfrm>
                  <a:off x="2147760" y="166248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1" name="Freeform 1053"/>
                <p:cNvSpPr/>
                <p:nvPr/>
              </p:nvSpPr>
              <p:spPr>
                <a:xfrm>
                  <a:off x="1805040" y="5882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2" name="Freeform 1054"/>
                <p:cNvSpPr/>
                <p:nvPr/>
              </p:nvSpPr>
              <p:spPr>
                <a:xfrm>
                  <a:off x="1374840" y="5882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3" name="Freeform 1055"/>
                <p:cNvSpPr/>
                <p:nvPr/>
              </p:nvSpPr>
              <p:spPr>
                <a:xfrm>
                  <a:off x="1398600" y="3697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4" name="Freeform 1056"/>
                <p:cNvSpPr/>
                <p:nvPr/>
              </p:nvSpPr>
              <p:spPr>
                <a:xfrm>
                  <a:off x="1546200" y="216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5" name="Freeform 1057"/>
                <p:cNvSpPr/>
                <p:nvPr/>
              </p:nvSpPr>
              <p:spPr>
                <a:xfrm>
                  <a:off x="1374840" y="216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6" name="Freeform 1058"/>
                <p:cNvSpPr/>
                <p:nvPr/>
              </p:nvSpPr>
              <p:spPr>
                <a:xfrm>
                  <a:off x="944640" y="216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Freeform 1059"/>
                <p:cNvSpPr/>
                <p:nvPr/>
              </p:nvSpPr>
              <p:spPr>
                <a:xfrm>
                  <a:off x="1203480" y="4464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8" name="Group 1060"/>
              <p:cNvGrpSpPr/>
              <p:nvPr/>
            </p:nvGrpSpPr>
            <p:grpSpPr>
              <a:xfrm>
                <a:off x="838080" y="634680"/>
                <a:ext cx="8077320" cy="5142960"/>
                <a:chOff x="838080" y="634680"/>
                <a:chExt cx="8077320" cy="5142960"/>
              </a:xfrm>
            </p:grpSpPr>
            <p:sp>
              <p:nvSpPr>
                <p:cNvPr id="3569" name="Freeform 1061"/>
                <p:cNvSpPr/>
                <p:nvPr/>
              </p:nvSpPr>
              <p:spPr>
                <a:xfrm>
                  <a:off x="838080" y="10051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1062"/>
                <p:cNvSpPr/>
                <p:nvPr/>
              </p:nvSpPr>
              <p:spPr>
                <a:xfrm>
                  <a:off x="1009800" y="1159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Freeform 1063"/>
                <p:cNvSpPr/>
                <p:nvPr/>
              </p:nvSpPr>
              <p:spPr>
                <a:xfrm>
                  <a:off x="1181160" y="13118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Freeform 1064"/>
                <p:cNvSpPr/>
                <p:nvPr/>
              </p:nvSpPr>
              <p:spPr>
                <a:xfrm>
                  <a:off x="1353960" y="14666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Freeform 1065"/>
                <p:cNvSpPr/>
                <p:nvPr/>
              </p:nvSpPr>
              <p:spPr>
                <a:xfrm>
                  <a:off x="1525680" y="162036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1066"/>
                <p:cNvSpPr/>
                <p:nvPr/>
              </p:nvSpPr>
              <p:spPr>
                <a:xfrm>
                  <a:off x="1697040" y="17737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Freeform 1067"/>
                <p:cNvSpPr/>
                <p:nvPr/>
              </p:nvSpPr>
              <p:spPr>
                <a:xfrm>
                  <a:off x="1868400" y="192708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Freeform 1068"/>
                <p:cNvSpPr/>
                <p:nvPr/>
              </p:nvSpPr>
              <p:spPr>
                <a:xfrm>
                  <a:off x="2041560" y="20804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1069"/>
                <p:cNvSpPr/>
                <p:nvPr/>
              </p:nvSpPr>
              <p:spPr>
                <a:xfrm>
                  <a:off x="1697040" y="10051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Freeform 1070"/>
                <p:cNvSpPr/>
                <p:nvPr/>
              </p:nvSpPr>
              <p:spPr>
                <a:xfrm>
                  <a:off x="1266840" y="10051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Freeform 1071"/>
                <p:cNvSpPr/>
                <p:nvPr/>
              </p:nvSpPr>
              <p:spPr>
                <a:xfrm>
                  <a:off x="1290600" y="7880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1072"/>
                <p:cNvSpPr/>
                <p:nvPr/>
              </p:nvSpPr>
              <p:spPr>
                <a:xfrm>
                  <a:off x="1440000" y="6346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Freeform 1073"/>
                <p:cNvSpPr/>
                <p:nvPr/>
              </p:nvSpPr>
              <p:spPr>
                <a:xfrm>
                  <a:off x="1266840" y="6346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1074"/>
                <p:cNvSpPr/>
                <p:nvPr/>
              </p:nvSpPr>
              <p:spPr>
                <a:xfrm>
                  <a:off x="838080" y="63468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Freeform 1075"/>
                <p:cNvSpPr/>
                <p:nvPr/>
              </p:nvSpPr>
              <p:spPr>
                <a:xfrm>
                  <a:off x="1095480" y="86472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Freeform 1076"/>
                <p:cNvSpPr/>
                <p:nvPr/>
              </p:nvSpPr>
              <p:spPr>
                <a:xfrm>
                  <a:off x="1782720" y="1159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Freeform 1077"/>
                <p:cNvSpPr/>
                <p:nvPr/>
              </p:nvSpPr>
              <p:spPr>
                <a:xfrm>
                  <a:off x="1954080" y="13118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Freeform 1078"/>
                <p:cNvSpPr/>
                <p:nvPr/>
              </p:nvSpPr>
              <p:spPr>
                <a:xfrm>
                  <a:off x="2127240" y="14666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Freeform 1079"/>
                <p:cNvSpPr/>
                <p:nvPr/>
              </p:nvSpPr>
              <p:spPr>
                <a:xfrm>
                  <a:off x="2298600" y="162036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Freeform 1080"/>
                <p:cNvSpPr/>
                <p:nvPr/>
              </p:nvSpPr>
              <p:spPr>
                <a:xfrm>
                  <a:off x="2470320" y="17737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Freeform 1081"/>
                <p:cNvSpPr/>
                <p:nvPr/>
              </p:nvSpPr>
              <p:spPr>
                <a:xfrm>
                  <a:off x="2643120" y="192708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Freeform 1082"/>
                <p:cNvSpPr/>
                <p:nvPr/>
              </p:nvSpPr>
              <p:spPr>
                <a:xfrm>
                  <a:off x="2814480" y="20804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Freeform 1083"/>
                <p:cNvSpPr/>
                <p:nvPr/>
              </p:nvSpPr>
              <p:spPr>
                <a:xfrm>
                  <a:off x="2986200" y="223416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Freeform 1084"/>
                <p:cNvSpPr/>
                <p:nvPr/>
              </p:nvSpPr>
              <p:spPr>
                <a:xfrm>
                  <a:off x="2643120" y="11599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Freeform 1085"/>
                <p:cNvSpPr/>
                <p:nvPr/>
              </p:nvSpPr>
              <p:spPr>
                <a:xfrm>
                  <a:off x="2212920" y="1159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Freeform 1086"/>
                <p:cNvSpPr/>
                <p:nvPr/>
              </p:nvSpPr>
              <p:spPr>
                <a:xfrm>
                  <a:off x="2235240" y="9414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Freeform 1087"/>
                <p:cNvSpPr/>
                <p:nvPr/>
              </p:nvSpPr>
              <p:spPr>
                <a:xfrm>
                  <a:off x="2384280" y="7880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Freeform 1088"/>
                <p:cNvSpPr/>
                <p:nvPr/>
              </p:nvSpPr>
              <p:spPr>
                <a:xfrm>
                  <a:off x="2212920" y="7880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Freeform 1089"/>
                <p:cNvSpPr/>
                <p:nvPr/>
              </p:nvSpPr>
              <p:spPr>
                <a:xfrm>
                  <a:off x="1782720" y="7880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Freeform 1090"/>
                <p:cNvSpPr/>
                <p:nvPr/>
              </p:nvSpPr>
              <p:spPr>
                <a:xfrm>
                  <a:off x="2041560" y="10180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9" name="Group 1091"/>
              <p:cNvGrpSpPr/>
              <p:nvPr/>
            </p:nvGrpSpPr>
            <p:grpSpPr>
              <a:xfrm>
                <a:off x="838080" y="1015560"/>
                <a:ext cx="8077320" cy="5142960"/>
                <a:chOff x="838080" y="1015560"/>
                <a:chExt cx="8077320" cy="5142960"/>
              </a:xfrm>
            </p:grpSpPr>
            <p:sp>
              <p:nvSpPr>
                <p:cNvPr id="3600" name="Freeform 1092"/>
                <p:cNvSpPr/>
                <p:nvPr/>
              </p:nvSpPr>
              <p:spPr>
                <a:xfrm>
                  <a:off x="838080" y="138600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Freeform 1093"/>
                <p:cNvSpPr/>
                <p:nvPr/>
              </p:nvSpPr>
              <p:spPr>
                <a:xfrm>
                  <a:off x="1009800" y="1540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Freeform 1094"/>
                <p:cNvSpPr/>
                <p:nvPr/>
              </p:nvSpPr>
              <p:spPr>
                <a:xfrm>
                  <a:off x="1181160" y="16927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Freeform 1095"/>
                <p:cNvSpPr/>
                <p:nvPr/>
              </p:nvSpPr>
              <p:spPr>
                <a:xfrm>
                  <a:off x="1353960" y="18475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Freeform 1096"/>
                <p:cNvSpPr/>
                <p:nvPr/>
              </p:nvSpPr>
              <p:spPr>
                <a:xfrm>
                  <a:off x="1525680" y="20012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Freeform 1097"/>
                <p:cNvSpPr/>
                <p:nvPr/>
              </p:nvSpPr>
              <p:spPr>
                <a:xfrm>
                  <a:off x="1697040" y="21546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Freeform 1098"/>
                <p:cNvSpPr/>
                <p:nvPr/>
              </p:nvSpPr>
              <p:spPr>
                <a:xfrm>
                  <a:off x="1868400" y="230796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Freeform 1099"/>
                <p:cNvSpPr/>
                <p:nvPr/>
              </p:nvSpPr>
              <p:spPr>
                <a:xfrm>
                  <a:off x="2041560" y="24613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Freeform 1100"/>
                <p:cNvSpPr/>
                <p:nvPr/>
              </p:nvSpPr>
              <p:spPr>
                <a:xfrm>
                  <a:off x="1697040" y="1386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Freeform 1101"/>
                <p:cNvSpPr/>
                <p:nvPr/>
              </p:nvSpPr>
              <p:spPr>
                <a:xfrm>
                  <a:off x="1266840" y="1386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Freeform 1102"/>
                <p:cNvSpPr/>
                <p:nvPr/>
              </p:nvSpPr>
              <p:spPr>
                <a:xfrm>
                  <a:off x="1290600" y="1168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Freeform 1103"/>
                <p:cNvSpPr/>
                <p:nvPr/>
              </p:nvSpPr>
              <p:spPr>
                <a:xfrm>
                  <a:off x="1440000" y="10155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Freeform 1104"/>
                <p:cNvSpPr/>
                <p:nvPr/>
              </p:nvSpPr>
              <p:spPr>
                <a:xfrm>
                  <a:off x="1266840" y="10155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Freeform 1105"/>
                <p:cNvSpPr/>
                <p:nvPr/>
              </p:nvSpPr>
              <p:spPr>
                <a:xfrm>
                  <a:off x="838080" y="10155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Freeform 1106"/>
                <p:cNvSpPr/>
                <p:nvPr/>
              </p:nvSpPr>
              <p:spPr>
                <a:xfrm>
                  <a:off x="1095480" y="124560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Freeform 1107"/>
                <p:cNvSpPr/>
                <p:nvPr/>
              </p:nvSpPr>
              <p:spPr>
                <a:xfrm>
                  <a:off x="1782720" y="1540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6" name="Freeform 1108"/>
                <p:cNvSpPr/>
                <p:nvPr/>
              </p:nvSpPr>
              <p:spPr>
                <a:xfrm>
                  <a:off x="1954080" y="16927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7" name="Freeform 1109"/>
                <p:cNvSpPr/>
                <p:nvPr/>
              </p:nvSpPr>
              <p:spPr>
                <a:xfrm>
                  <a:off x="2127240" y="18475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8" name="Freeform 1110"/>
                <p:cNvSpPr/>
                <p:nvPr/>
              </p:nvSpPr>
              <p:spPr>
                <a:xfrm>
                  <a:off x="2298600" y="200124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9" name="Freeform 1111"/>
                <p:cNvSpPr/>
                <p:nvPr/>
              </p:nvSpPr>
              <p:spPr>
                <a:xfrm>
                  <a:off x="2470320" y="21546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Freeform 1112"/>
                <p:cNvSpPr/>
                <p:nvPr/>
              </p:nvSpPr>
              <p:spPr>
                <a:xfrm>
                  <a:off x="2643120" y="230796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1" name="Freeform 1113"/>
                <p:cNvSpPr/>
                <p:nvPr/>
              </p:nvSpPr>
              <p:spPr>
                <a:xfrm>
                  <a:off x="2814480" y="24613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2" name="Freeform 1114"/>
                <p:cNvSpPr/>
                <p:nvPr/>
              </p:nvSpPr>
              <p:spPr>
                <a:xfrm>
                  <a:off x="2986200" y="26150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Freeform 1115"/>
                <p:cNvSpPr/>
                <p:nvPr/>
              </p:nvSpPr>
              <p:spPr>
                <a:xfrm>
                  <a:off x="2643120" y="154080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4" name="Freeform 1116"/>
                <p:cNvSpPr/>
                <p:nvPr/>
              </p:nvSpPr>
              <p:spPr>
                <a:xfrm>
                  <a:off x="2212920" y="1540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5" name="Freeform 1117"/>
                <p:cNvSpPr/>
                <p:nvPr/>
              </p:nvSpPr>
              <p:spPr>
                <a:xfrm>
                  <a:off x="2235240" y="13222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6" name="Freeform 1118"/>
                <p:cNvSpPr/>
                <p:nvPr/>
              </p:nvSpPr>
              <p:spPr>
                <a:xfrm>
                  <a:off x="2384280" y="116892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7" name="Freeform 1119"/>
                <p:cNvSpPr/>
                <p:nvPr/>
              </p:nvSpPr>
              <p:spPr>
                <a:xfrm>
                  <a:off x="2212920" y="1168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8" name="Freeform 1120"/>
                <p:cNvSpPr/>
                <p:nvPr/>
              </p:nvSpPr>
              <p:spPr>
                <a:xfrm>
                  <a:off x="1782720" y="116892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9" name="Freeform 1121"/>
                <p:cNvSpPr/>
                <p:nvPr/>
              </p:nvSpPr>
              <p:spPr>
                <a:xfrm>
                  <a:off x="2041560" y="13989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0" name="Group 1122"/>
              <p:cNvGrpSpPr/>
              <p:nvPr/>
            </p:nvGrpSpPr>
            <p:grpSpPr>
              <a:xfrm>
                <a:off x="838080" y="-254160"/>
                <a:ext cx="8077320" cy="5142960"/>
                <a:chOff x="838080" y="-254160"/>
                <a:chExt cx="8077320" cy="5142960"/>
              </a:xfrm>
            </p:grpSpPr>
            <p:sp>
              <p:nvSpPr>
                <p:cNvPr id="3631" name="Freeform 1123"/>
                <p:cNvSpPr/>
                <p:nvPr/>
              </p:nvSpPr>
              <p:spPr>
                <a:xfrm>
                  <a:off x="838080" y="1173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2" name="Freeform 1124"/>
                <p:cNvSpPr/>
                <p:nvPr/>
              </p:nvSpPr>
              <p:spPr>
                <a:xfrm>
                  <a:off x="1009800" y="2710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3" name="Freeform 1125"/>
                <p:cNvSpPr/>
                <p:nvPr/>
              </p:nvSpPr>
              <p:spPr>
                <a:xfrm>
                  <a:off x="1181160" y="4240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Freeform 1126"/>
                <p:cNvSpPr/>
                <p:nvPr/>
              </p:nvSpPr>
              <p:spPr>
                <a:xfrm>
                  <a:off x="1353960" y="57780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Freeform 1127"/>
                <p:cNvSpPr/>
                <p:nvPr/>
              </p:nvSpPr>
              <p:spPr>
                <a:xfrm>
                  <a:off x="1525680" y="731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Freeform 1128"/>
                <p:cNvSpPr/>
                <p:nvPr/>
              </p:nvSpPr>
              <p:spPr>
                <a:xfrm>
                  <a:off x="1697040" y="8848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Freeform 1129"/>
                <p:cNvSpPr/>
                <p:nvPr/>
              </p:nvSpPr>
              <p:spPr>
                <a:xfrm>
                  <a:off x="1868400" y="103788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Freeform 1130"/>
                <p:cNvSpPr/>
                <p:nvPr/>
              </p:nvSpPr>
              <p:spPr>
                <a:xfrm>
                  <a:off x="2041560" y="119160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Freeform 1131"/>
                <p:cNvSpPr/>
                <p:nvPr/>
              </p:nvSpPr>
              <p:spPr>
                <a:xfrm>
                  <a:off x="1697040" y="117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Freeform 1132"/>
                <p:cNvSpPr/>
                <p:nvPr/>
              </p:nvSpPr>
              <p:spPr>
                <a:xfrm>
                  <a:off x="1266840" y="117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1" name="Freeform 1133"/>
                <p:cNvSpPr/>
                <p:nvPr/>
              </p:nvSpPr>
              <p:spPr>
                <a:xfrm>
                  <a:off x="1290600" y="-1004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2" name="Freeform 1134"/>
                <p:cNvSpPr/>
                <p:nvPr/>
              </p:nvSpPr>
              <p:spPr>
                <a:xfrm>
                  <a:off x="1440000" y="-254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3" name="Freeform 1135"/>
                <p:cNvSpPr/>
                <p:nvPr/>
              </p:nvSpPr>
              <p:spPr>
                <a:xfrm>
                  <a:off x="1266840" y="-254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4" name="Freeform 1136"/>
                <p:cNvSpPr/>
                <p:nvPr/>
              </p:nvSpPr>
              <p:spPr>
                <a:xfrm>
                  <a:off x="838080" y="-2541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5" name="Freeform 1137"/>
                <p:cNvSpPr/>
                <p:nvPr/>
              </p:nvSpPr>
              <p:spPr>
                <a:xfrm>
                  <a:off x="1095480" y="-237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6" name="Freeform 1138"/>
                <p:cNvSpPr/>
                <p:nvPr/>
              </p:nvSpPr>
              <p:spPr>
                <a:xfrm>
                  <a:off x="1782720" y="2710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7" name="Freeform 1139"/>
                <p:cNvSpPr/>
                <p:nvPr/>
              </p:nvSpPr>
              <p:spPr>
                <a:xfrm>
                  <a:off x="1954080" y="42408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Freeform 1140"/>
                <p:cNvSpPr/>
                <p:nvPr/>
              </p:nvSpPr>
              <p:spPr>
                <a:xfrm>
                  <a:off x="2127240" y="57780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Freeform 1141"/>
                <p:cNvSpPr/>
                <p:nvPr/>
              </p:nvSpPr>
              <p:spPr>
                <a:xfrm>
                  <a:off x="2298600" y="7311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Freeform 1142"/>
                <p:cNvSpPr/>
                <p:nvPr/>
              </p:nvSpPr>
              <p:spPr>
                <a:xfrm>
                  <a:off x="2470320" y="8848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1" name="Freeform 1143"/>
                <p:cNvSpPr/>
                <p:nvPr/>
              </p:nvSpPr>
              <p:spPr>
                <a:xfrm>
                  <a:off x="2643120" y="103788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2" name="Freeform 1144"/>
                <p:cNvSpPr/>
                <p:nvPr/>
              </p:nvSpPr>
              <p:spPr>
                <a:xfrm>
                  <a:off x="2814480" y="119160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3" name="Freeform 1145"/>
                <p:cNvSpPr/>
                <p:nvPr/>
              </p:nvSpPr>
              <p:spPr>
                <a:xfrm>
                  <a:off x="2986200" y="13449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4" name="Freeform 1146"/>
                <p:cNvSpPr/>
                <p:nvPr/>
              </p:nvSpPr>
              <p:spPr>
                <a:xfrm>
                  <a:off x="2643120" y="27108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5" name="Freeform 1147"/>
                <p:cNvSpPr/>
                <p:nvPr/>
              </p:nvSpPr>
              <p:spPr>
                <a:xfrm>
                  <a:off x="2212920" y="2710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6" name="Freeform 1148"/>
                <p:cNvSpPr/>
                <p:nvPr/>
              </p:nvSpPr>
              <p:spPr>
                <a:xfrm>
                  <a:off x="2235240" y="525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7" name="Freeform 1149"/>
                <p:cNvSpPr/>
                <p:nvPr/>
              </p:nvSpPr>
              <p:spPr>
                <a:xfrm>
                  <a:off x="2384280" y="-100440"/>
                  <a:ext cx="5929560" cy="354348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8" name="Freeform 1150"/>
                <p:cNvSpPr/>
                <p:nvPr/>
              </p:nvSpPr>
              <p:spPr>
                <a:xfrm>
                  <a:off x="2212920" y="-1004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9" name="Freeform 1151"/>
                <p:cNvSpPr/>
                <p:nvPr/>
              </p:nvSpPr>
              <p:spPr>
                <a:xfrm>
                  <a:off x="1782720" y="-1004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0" name="Freeform 1152"/>
                <p:cNvSpPr/>
                <p:nvPr/>
              </p:nvSpPr>
              <p:spPr>
                <a:xfrm>
                  <a:off x="2041560" y="12924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1" name="Group 1153"/>
              <p:cNvGrpSpPr/>
              <p:nvPr/>
            </p:nvGrpSpPr>
            <p:grpSpPr>
              <a:xfrm>
                <a:off x="762120" y="761760"/>
                <a:ext cx="8076960" cy="5142960"/>
                <a:chOff x="762120" y="761760"/>
                <a:chExt cx="8076960" cy="5142960"/>
              </a:xfrm>
            </p:grpSpPr>
            <p:sp>
              <p:nvSpPr>
                <p:cNvPr id="3662" name="Freeform 1154"/>
                <p:cNvSpPr/>
                <p:nvPr/>
              </p:nvSpPr>
              <p:spPr>
                <a:xfrm>
                  <a:off x="762120" y="11318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3" name="Freeform 1155"/>
                <p:cNvSpPr/>
                <p:nvPr/>
              </p:nvSpPr>
              <p:spPr>
                <a:xfrm>
                  <a:off x="933480" y="12866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4" name="Freeform 1156"/>
                <p:cNvSpPr/>
                <p:nvPr/>
              </p:nvSpPr>
              <p:spPr>
                <a:xfrm>
                  <a:off x="1104840" y="1440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5" name="Freeform 1157"/>
                <p:cNvSpPr/>
                <p:nvPr/>
              </p:nvSpPr>
              <p:spPr>
                <a:xfrm>
                  <a:off x="1278000" y="15933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6" name="Freeform 1158"/>
                <p:cNvSpPr/>
                <p:nvPr/>
              </p:nvSpPr>
              <p:spPr>
                <a:xfrm>
                  <a:off x="1449360" y="17470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7" name="Freeform 1159"/>
                <p:cNvSpPr/>
                <p:nvPr/>
              </p:nvSpPr>
              <p:spPr>
                <a:xfrm>
                  <a:off x="1620720" y="19004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8" name="Freeform 1160"/>
                <p:cNvSpPr/>
                <p:nvPr/>
              </p:nvSpPr>
              <p:spPr>
                <a:xfrm>
                  <a:off x="1793880" y="2053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9" name="Freeform 1161"/>
                <p:cNvSpPr/>
                <p:nvPr/>
              </p:nvSpPr>
              <p:spPr>
                <a:xfrm>
                  <a:off x="1965240" y="22071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0" name="Freeform 1162"/>
                <p:cNvSpPr/>
                <p:nvPr/>
              </p:nvSpPr>
              <p:spPr>
                <a:xfrm>
                  <a:off x="1620720" y="11318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1" name="Freeform 1163"/>
                <p:cNvSpPr/>
                <p:nvPr/>
              </p:nvSpPr>
              <p:spPr>
                <a:xfrm>
                  <a:off x="1192320" y="11318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2" name="Freeform 1164"/>
                <p:cNvSpPr/>
                <p:nvPr/>
              </p:nvSpPr>
              <p:spPr>
                <a:xfrm>
                  <a:off x="1214280" y="9147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3" name="Freeform 1165"/>
                <p:cNvSpPr/>
                <p:nvPr/>
              </p:nvSpPr>
              <p:spPr>
                <a:xfrm>
                  <a:off x="1363680" y="76176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4" name="Freeform 1166"/>
                <p:cNvSpPr/>
                <p:nvPr/>
              </p:nvSpPr>
              <p:spPr>
                <a:xfrm>
                  <a:off x="1192320" y="76176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5" name="Freeform 1167"/>
                <p:cNvSpPr/>
                <p:nvPr/>
              </p:nvSpPr>
              <p:spPr>
                <a:xfrm>
                  <a:off x="762120" y="76176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6" name="Freeform 1168"/>
                <p:cNvSpPr/>
                <p:nvPr/>
              </p:nvSpPr>
              <p:spPr>
                <a:xfrm>
                  <a:off x="1019160" y="991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7" name="Freeform 1169"/>
                <p:cNvSpPr/>
                <p:nvPr/>
              </p:nvSpPr>
              <p:spPr>
                <a:xfrm>
                  <a:off x="1706400" y="12866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8" name="Freeform 1170"/>
                <p:cNvSpPr/>
                <p:nvPr/>
              </p:nvSpPr>
              <p:spPr>
                <a:xfrm>
                  <a:off x="1879560" y="14400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9" name="Freeform 1171"/>
                <p:cNvSpPr/>
                <p:nvPr/>
              </p:nvSpPr>
              <p:spPr>
                <a:xfrm>
                  <a:off x="2050920" y="15933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0" name="Freeform 1172"/>
                <p:cNvSpPr/>
                <p:nvPr/>
              </p:nvSpPr>
              <p:spPr>
                <a:xfrm>
                  <a:off x="2222640" y="17470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1" name="Freeform 1173"/>
                <p:cNvSpPr/>
                <p:nvPr/>
              </p:nvSpPr>
              <p:spPr>
                <a:xfrm>
                  <a:off x="2394000" y="19004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2" name="Freeform 1174"/>
                <p:cNvSpPr/>
                <p:nvPr/>
              </p:nvSpPr>
              <p:spPr>
                <a:xfrm>
                  <a:off x="2567160" y="205380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3" name="Freeform 1175"/>
                <p:cNvSpPr/>
                <p:nvPr/>
              </p:nvSpPr>
              <p:spPr>
                <a:xfrm>
                  <a:off x="2738520" y="22071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4" name="Freeform 1176"/>
                <p:cNvSpPr/>
                <p:nvPr/>
              </p:nvSpPr>
              <p:spPr>
                <a:xfrm>
                  <a:off x="2909880" y="236088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5" name="Freeform 1177"/>
                <p:cNvSpPr/>
                <p:nvPr/>
              </p:nvSpPr>
              <p:spPr>
                <a:xfrm>
                  <a:off x="2567160" y="128664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6" name="Freeform 1178"/>
                <p:cNvSpPr/>
                <p:nvPr/>
              </p:nvSpPr>
              <p:spPr>
                <a:xfrm>
                  <a:off x="2136600" y="128664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7" name="Freeform 1179"/>
                <p:cNvSpPr/>
                <p:nvPr/>
              </p:nvSpPr>
              <p:spPr>
                <a:xfrm>
                  <a:off x="2160720" y="1068480"/>
                  <a:ext cx="5929200" cy="354348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480"/>
                    <a:gd name="textAreaBottom" fmla="*/ 3543840 h 3543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8" name="Freeform 1180"/>
                <p:cNvSpPr/>
                <p:nvPr/>
              </p:nvSpPr>
              <p:spPr>
                <a:xfrm>
                  <a:off x="2308320" y="914760"/>
                  <a:ext cx="5929200" cy="3543840"/>
                </a:xfrm>
                <a:custGeom>
                  <a:avLst/>
                  <a:gdLst>
                    <a:gd name="textAreaLeft" fmla="*/ 0 w 5929200"/>
                    <a:gd name="textAreaRight" fmla="*/ 5929560 w 592920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9" name="Freeform 1181"/>
                <p:cNvSpPr/>
                <p:nvPr/>
              </p:nvSpPr>
              <p:spPr>
                <a:xfrm>
                  <a:off x="2136600" y="9147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0" name="Freeform 1182"/>
                <p:cNvSpPr/>
                <p:nvPr/>
              </p:nvSpPr>
              <p:spPr>
                <a:xfrm>
                  <a:off x="1706400" y="91476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1" name="Freeform 1183"/>
                <p:cNvSpPr/>
                <p:nvPr/>
              </p:nvSpPr>
              <p:spPr>
                <a:xfrm>
                  <a:off x="1965240" y="1144800"/>
                  <a:ext cx="5929560" cy="3543840"/>
                </a:xfrm>
                <a:custGeom>
                  <a:avLst/>
                  <a:gdLst>
                    <a:gd name="textAreaLeft" fmla="*/ 0 w 5929560"/>
                    <a:gd name="textAreaRight" fmla="*/ 5929920 w 5929560"/>
                    <a:gd name="textAreaTop" fmla="*/ 0 h 3543840"/>
                    <a:gd name="textAreaBottom" fmla="*/ 3544200 h 3543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2" name="Group 1184"/>
              <p:cNvGrpSpPr/>
              <p:nvPr/>
            </p:nvGrpSpPr>
            <p:grpSpPr>
              <a:xfrm>
                <a:off x="533520" y="1650600"/>
                <a:ext cx="5867280" cy="3364920"/>
                <a:chOff x="533520" y="1650600"/>
                <a:chExt cx="5867280" cy="3364920"/>
              </a:xfrm>
            </p:grpSpPr>
            <p:sp>
              <p:nvSpPr>
                <p:cNvPr id="3693" name="Freeform 1185"/>
                <p:cNvSpPr/>
                <p:nvPr/>
              </p:nvSpPr>
              <p:spPr>
                <a:xfrm>
                  <a:off x="533520" y="189252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4" name="Freeform 1186"/>
                <p:cNvSpPr/>
                <p:nvPr/>
              </p:nvSpPr>
              <p:spPr>
                <a:xfrm>
                  <a:off x="658800" y="199296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5" name="Freeform 1187"/>
                <p:cNvSpPr/>
                <p:nvPr/>
              </p:nvSpPr>
              <p:spPr>
                <a:xfrm>
                  <a:off x="782640" y="2093400"/>
                  <a:ext cx="4307040" cy="231912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9120"/>
                    <a:gd name="textAreaBottom" fmla="*/ 2319480 h 2319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6" name="Freeform 1188"/>
                <p:cNvSpPr/>
                <p:nvPr/>
              </p:nvSpPr>
              <p:spPr>
                <a:xfrm>
                  <a:off x="907920" y="2193840"/>
                  <a:ext cx="4307040" cy="231912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9120"/>
                    <a:gd name="textAreaBottom" fmla="*/ 2319480 h 2319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7" name="Freeform 1189"/>
                <p:cNvSpPr/>
                <p:nvPr/>
              </p:nvSpPr>
              <p:spPr>
                <a:xfrm>
                  <a:off x="1031760" y="22946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8" name="Freeform 1190"/>
                <p:cNvSpPr/>
                <p:nvPr/>
              </p:nvSpPr>
              <p:spPr>
                <a:xfrm>
                  <a:off x="1157400" y="239544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9" name="Freeform 1191"/>
                <p:cNvSpPr/>
                <p:nvPr/>
              </p:nvSpPr>
              <p:spPr>
                <a:xfrm>
                  <a:off x="1282680" y="249588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0" name="Freeform 1192"/>
                <p:cNvSpPr/>
                <p:nvPr/>
              </p:nvSpPr>
              <p:spPr>
                <a:xfrm>
                  <a:off x="1406520" y="259632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1" name="Freeform 1193"/>
                <p:cNvSpPr/>
                <p:nvPr/>
              </p:nvSpPr>
              <p:spPr>
                <a:xfrm>
                  <a:off x="1157400" y="189252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2" name="Freeform 1194"/>
                <p:cNvSpPr/>
                <p:nvPr/>
              </p:nvSpPr>
              <p:spPr>
                <a:xfrm>
                  <a:off x="844560" y="189252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3" name="Freeform 1195"/>
                <p:cNvSpPr/>
                <p:nvPr/>
              </p:nvSpPr>
              <p:spPr>
                <a:xfrm>
                  <a:off x="861840" y="17510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Freeform 1196"/>
                <p:cNvSpPr/>
                <p:nvPr/>
              </p:nvSpPr>
              <p:spPr>
                <a:xfrm>
                  <a:off x="969840" y="165060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Freeform 1197"/>
                <p:cNvSpPr/>
                <p:nvPr/>
              </p:nvSpPr>
              <p:spPr>
                <a:xfrm>
                  <a:off x="844560" y="165060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Freeform 1198"/>
                <p:cNvSpPr/>
                <p:nvPr/>
              </p:nvSpPr>
              <p:spPr>
                <a:xfrm>
                  <a:off x="533520" y="165060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199"/>
                <p:cNvSpPr/>
                <p:nvPr/>
              </p:nvSpPr>
              <p:spPr>
                <a:xfrm>
                  <a:off x="720720" y="18014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Freeform 1200"/>
                <p:cNvSpPr/>
                <p:nvPr/>
              </p:nvSpPr>
              <p:spPr>
                <a:xfrm>
                  <a:off x="1220760" y="199296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Freeform 1201"/>
                <p:cNvSpPr/>
                <p:nvPr/>
              </p:nvSpPr>
              <p:spPr>
                <a:xfrm>
                  <a:off x="1344600" y="2093400"/>
                  <a:ext cx="4307040" cy="231912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9120"/>
                    <a:gd name="textAreaBottom" fmla="*/ 2319480 h 2319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Freeform 1202"/>
                <p:cNvSpPr/>
                <p:nvPr/>
              </p:nvSpPr>
              <p:spPr>
                <a:xfrm>
                  <a:off x="1469880" y="2193840"/>
                  <a:ext cx="4307040" cy="231912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9120"/>
                    <a:gd name="textAreaBottom" fmla="*/ 2319480 h 2319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203"/>
                <p:cNvSpPr/>
                <p:nvPr/>
              </p:nvSpPr>
              <p:spPr>
                <a:xfrm>
                  <a:off x="1593720" y="22946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Freeform 1204"/>
                <p:cNvSpPr/>
                <p:nvPr/>
              </p:nvSpPr>
              <p:spPr>
                <a:xfrm>
                  <a:off x="1719360" y="239544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Freeform 1205"/>
                <p:cNvSpPr/>
                <p:nvPr/>
              </p:nvSpPr>
              <p:spPr>
                <a:xfrm>
                  <a:off x="1844640" y="249588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206"/>
                <p:cNvSpPr/>
                <p:nvPr/>
              </p:nvSpPr>
              <p:spPr>
                <a:xfrm>
                  <a:off x="1968480" y="259632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Freeform 1207"/>
                <p:cNvSpPr/>
                <p:nvPr/>
              </p:nvSpPr>
              <p:spPr>
                <a:xfrm>
                  <a:off x="2093760" y="269676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Freeform 1208"/>
                <p:cNvSpPr/>
                <p:nvPr/>
              </p:nvSpPr>
              <p:spPr>
                <a:xfrm>
                  <a:off x="1844640" y="199296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209"/>
                <p:cNvSpPr/>
                <p:nvPr/>
              </p:nvSpPr>
              <p:spPr>
                <a:xfrm>
                  <a:off x="1531800" y="199296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Freeform 1210"/>
                <p:cNvSpPr/>
                <p:nvPr/>
              </p:nvSpPr>
              <p:spPr>
                <a:xfrm>
                  <a:off x="1549440" y="1851480"/>
                  <a:ext cx="4306680" cy="231912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9120"/>
                    <a:gd name="textAreaBottom" fmla="*/ 2319480 h 2319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211"/>
                <p:cNvSpPr/>
                <p:nvPr/>
              </p:nvSpPr>
              <p:spPr>
                <a:xfrm>
                  <a:off x="1657440" y="1751040"/>
                  <a:ext cx="4306680" cy="2318760"/>
                </a:xfrm>
                <a:custGeom>
                  <a:avLst/>
                  <a:gdLst>
                    <a:gd name="textAreaLeft" fmla="*/ 0 w 4306680"/>
                    <a:gd name="textAreaRight" fmla="*/ 4307040 w 430668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Freeform 1212"/>
                <p:cNvSpPr/>
                <p:nvPr/>
              </p:nvSpPr>
              <p:spPr>
                <a:xfrm>
                  <a:off x="1531800" y="17510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Freeform 1213"/>
                <p:cNvSpPr/>
                <p:nvPr/>
              </p:nvSpPr>
              <p:spPr>
                <a:xfrm>
                  <a:off x="1220760" y="175104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Freeform 1214"/>
                <p:cNvSpPr/>
                <p:nvPr/>
              </p:nvSpPr>
              <p:spPr>
                <a:xfrm>
                  <a:off x="1406520" y="1901880"/>
                  <a:ext cx="4307040" cy="2318760"/>
                </a:xfrm>
                <a:custGeom>
                  <a:avLst/>
                  <a:gdLst>
                    <a:gd name="textAreaLeft" fmla="*/ 0 w 4307040"/>
                    <a:gd name="textAreaRight" fmla="*/ 4307400 w 4307040"/>
                    <a:gd name="textAreaTop" fmla="*/ 0 h 2318760"/>
                    <a:gd name="textAreaBottom" fmla="*/ 2319120 h 2318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3" name="Group 1215"/>
              <p:cNvGrpSpPr/>
              <p:nvPr/>
            </p:nvGrpSpPr>
            <p:grpSpPr>
              <a:xfrm>
                <a:off x="3352680" y="126720"/>
                <a:ext cx="5562720" cy="3745800"/>
                <a:chOff x="3352680" y="126720"/>
                <a:chExt cx="5562720" cy="3745800"/>
              </a:xfrm>
            </p:grpSpPr>
            <p:sp>
              <p:nvSpPr>
                <p:cNvPr id="3724" name="Freeform 1216"/>
                <p:cNvSpPr/>
                <p:nvPr/>
              </p:nvSpPr>
              <p:spPr>
                <a:xfrm>
                  <a:off x="3352680" y="39636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Freeform 1217"/>
                <p:cNvSpPr/>
                <p:nvPr/>
              </p:nvSpPr>
              <p:spPr>
                <a:xfrm>
                  <a:off x="3470400" y="508680"/>
                  <a:ext cx="4082760" cy="258084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Freeform 1218"/>
                <p:cNvSpPr/>
                <p:nvPr/>
              </p:nvSpPr>
              <p:spPr>
                <a:xfrm>
                  <a:off x="3589200" y="61992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Freeform 1219"/>
                <p:cNvSpPr/>
                <p:nvPr/>
              </p:nvSpPr>
              <p:spPr>
                <a:xfrm>
                  <a:off x="3708360" y="73260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Freeform 1220"/>
                <p:cNvSpPr/>
                <p:nvPr/>
              </p:nvSpPr>
              <p:spPr>
                <a:xfrm>
                  <a:off x="3825720" y="84348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Freeform 1221"/>
                <p:cNvSpPr/>
                <p:nvPr/>
              </p:nvSpPr>
              <p:spPr>
                <a:xfrm>
                  <a:off x="3944880" y="95616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Freeform 1222"/>
                <p:cNvSpPr/>
                <p:nvPr/>
              </p:nvSpPr>
              <p:spPr>
                <a:xfrm>
                  <a:off x="4062240" y="106704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Freeform 1223"/>
                <p:cNvSpPr/>
                <p:nvPr/>
              </p:nvSpPr>
              <p:spPr>
                <a:xfrm>
                  <a:off x="4181400" y="117936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Freeform 1224"/>
                <p:cNvSpPr/>
                <p:nvPr/>
              </p:nvSpPr>
              <p:spPr>
                <a:xfrm>
                  <a:off x="3944880" y="39636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Freeform 1225"/>
                <p:cNvSpPr/>
                <p:nvPr/>
              </p:nvSpPr>
              <p:spPr>
                <a:xfrm>
                  <a:off x="3648240" y="396360"/>
                  <a:ext cx="4082760" cy="258048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Freeform 1226"/>
                <p:cNvSpPr/>
                <p:nvPr/>
              </p:nvSpPr>
              <p:spPr>
                <a:xfrm>
                  <a:off x="3664080" y="239040"/>
                  <a:ext cx="4082760" cy="258048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Freeform 1227"/>
                <p:cNvSpPr/>
                <p:nvPr/>
              </p:nvSpPr>
              <p:spPr>
                <a:xfrm>
                  <a:off x="3767040" y="12672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Freeform 1228"/>
                <p:cNvSpPr/>
                <p:nvPr/>
              </p:nvSpPr>
              <p:spPr>
                <a:xfrm>
                  <a:off x="3648240" y="126720"/>
                  <a:ext cx="4082760" cy="258048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Freeform 1229"/>
                <p:cNvSpPr/>
                <p:nvPr/>
              </p:nvSpPr>
              <p:spPr>
                <a:xfrm>
                  <a:off x="3352680" y="12672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Freeform 1230"/>
                <p:cNvSpPr/>
                <p:nvPr/>
              </p:nvSpPr>
              <p:spPr>
                <a:xfrm>
                  <a:off x="3530520" y="29448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Freeform 1231"/>
                <p:cNvSpPr/>
                <p:nvPr/>
              </p:nvSpPr>
              <p:spPr>
                <a:xfrm>
                  <a:off x="4003560" y="50868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Freeform 1232"/>
                <p:cNvSpPr/>
                <p:nvPr/>
              </p:nvSpPr>
              <p:spPr>
                <a:xfrm>
                  <a:off x="4121280" y="619920"/>
                  <a:ext cx="4082760" cy="258048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Freeform 1233"/>
                <p:cNvSpPr/>
                <p:nvPr/>
              </p:nvSpPr>
              <p:spPr>
                <a:xfrm>
                  <a:off x="4240080" y="73260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Freeform 1234"/>
                <p:cNvSpPr/>
                <p:nvPr/>
              </p:nvSpPr>
              <p:spPr>
                <a:xfrm>
                  <a:off x="4359240" y="84348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Freeform 1235"/>
                <p:cNvSpPr/>
                <p:nvPr/>
              </p:nvSpPr>
              <p:spPr>
                <a:xfrm>
                  <a:off x="4476600" y="95616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Freeform 1236"/>
                <p:cNvSpPr/>
                <p:nvPr/>
              </p:nvSpPr>
              <p:spPr>
                <a:xfrm>
                  <a:off x="4595760" y="106704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Freeform 1237"/>
                <p:cNvSpPr/>
                <p:nvPr/>
              </p:nvSpPr>
              <p:spPr>
                <a:xfrm>
                  <a:off x="4713120" y="117936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Freeform 1238"/>
                <p:cNvSpPr/>
                <p:nvPr/>
              </p:nvSpPr>
              <p:spPr>
                <a:xfrm>
                  <a:off x="4832280" y="129204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Freeform 1239"/>
                <p:cNvSpPr/>
                <p:nvPr/>
              </p:nvSpPr>
              <p:spPr>
                <a:xfrm>
                  <a:off x="4595760" y="50868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Freeform 1240"/>
                <p:cNvSpPr/>
                <p:nvPr/>
              </p:nvSpPr>
              <p:spPr>
                <a:xfrm>
                  <a:off x="4299120" y="508680"/>
                  <a:ext cx="4082760" cy="258084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Freeform 1241"/>
                <p:cNvSpPr/>
                <p:nvPr/>
              </p:nvSpPr>
              <p:spPr>
                <a:xfrm>
                  <a:off x="4314960" y="349920"/>
                  <a:ext cx="4082760" cy="258084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Freeform 1242"/>
                <p:cNvSpPr/>
                <p:nvPr/>
              </p:nvSpPr>
              <p:spPr>
                <a:xfrm>
                  <a:off x="4417920" y="23904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Freeform 1243"/>
                <p:cNvSpPr/>
                <p:nvPr/>
              </p:nvSpPr>
              <p:spPr>
                <a:xfrm>
                  <a:off x="4299120" y="239040"/>
                  <a:ext cx="4082760" cy="2580480"/>
                </a:xfrm>
                <a:custGeom>
                  <a:avLst/>
                  <a:gdLst>
                    <a:gd name="textAreaLeft" fmla="*/ 0 w 4082760"/>
                    <a:gd name="textAreaRight" fmla="*/ 4083120 w 408276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Freeform 1244"/>
                <p:cNvSpPr/>
                <p:nvPr/>
              </p:nvSpPr>
              <p:spPr>
                <a:xfrm>
                  <a:off x="4003560" y="239040"/>
                  <a:ext cx="4083120" cy="258048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480"/>
                    <a:gd name="textAreaBottom" fmla="*/ 2580480 h 258048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3" name="Freeform 1245"/>
                <p:cNvSpPr/>
                <p:nvPr/>
              </p:nvSpPr>
              <p:spPr>
                <a:xfrm>
                  <a:off x="4181400" y="405360"/>
                  <a:ext cx="4083120" cy="2580840"/>
                </a:xfrm>
                <a:custGeom>
                  <a:avLst/>
                  <a:gdLst>
                    <a:gd name="textAreaLeft" fmla="*/ 0 w 4083120"/>
                    <a:gd name="textAreaRight" fmla="*/ 4083480 w 4083120"/>
                    <a:gd name="textAreaTop" fmla="*/ 0 h 2580840"/>
                    <a:gd name="textAreaBottom" fmla="*/ 2581200 h 2580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4" name="Group 1246"/>
              <p:cNvGrpSpPr/>
              <p:nvPr/>
            </p:nvGrpSpPr>
            <p:grpSpPr>
              <a:xfrm>
                <a:off x="228600" y="317160"/>
                <a:ext cx="3962520" cy="3301560"/>
                <a:chOff x="228600" y="317160"/>
                <a:chExt cx="3962520" cy="3301560"/>
              </a:xfrm>
            </p:grpSpPr>
            <p:sp>
              <p:nvSpPr>
                <p:cNvPr id="3755" name="Freeform 1247"/>
                <p:cNvSpPr/>
                <p:nvPr/>
              </p:nvSpPr>
              <p:spPr>
                <a:xfrm>
                  <a:off x="228600" y="555120"/>
                  <a:ext cx="2908440" cy="227484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4840"/>
                    <a:gd name="textAreaBottom" fmla="*/ 2275200 h 2274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6" name="Freeform 1248"/>
                <p:cNvSpPr/>
                <p:nvPr/>
              </p:nvSpPr>
              <p:spPr>
                <a:xfrm>
                  <a:off x="312840" y="654120"/>
                  <a:ext cx="2908080" cy="227412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4120"/>
                    <a:gd name="textAreaBottom" fmla="*/ 2274480 h 2274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Freeform 1249"/>
                <p:cNvSpPr/>
                <p:nvPr/>
              </p:nvSpPr>
              <p:spPr>
                <a:xfrm>
                  <a:off x="396720" y="75240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8" name="Freeform 1250"/>
                <p:cNvSpPr/>
                <p:nvPr/>
              </p:nvSpPr>
              <p:spPr>
                <a:xfrm>
                  <a:off x="480960" y="85140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9" name="Freeform 1251"/>
                <p:cNvSpPr/>
                <p:nvPr/>
              </p:nvSpPr>
              <p:spPr>
                <a:xfrm>
                  <a:off x="565200" y="949320"/>
                  <a:ext cx="2909880" cy="2275200"/>
                </a:xfrm>
                <a:custGeom>
                  <a:avLst/>
                  <a:gdLst>
                    <a:gd name="textAreaLeft" fmla="*/ 0 w 2909880"/>
                    <a:gd name="textAreaRight" fmla="*/ 2910240 w 290988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Freeform 1252"/>
                <p:cNvSpPr/>
                <p:nvPr/>
              </p:nvSpPr>
              <p:spPr>
                <a:xfrm>
                  <a:off x="650880" y="104868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1" name="Freeform 1253"/>
                <p:cNvSpPr/>
                <p:nvPr/>
              </p:nvSpPr>
              <p:spPr>
                <a:xfrm>
                  <a:off x="735120" y="1146600"/>
                  <a:ext cx="2908080" cy="227520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2" name="Freeform 1254"/>
                <p:cNvSpPr/>
                <p:nvPr/>
              </p:nvSpPr>
              <p:spPr>
                <a:xfrm>
                  <a:off x="819000" y="124560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3" name="Freeform 1255"/>
                <p:cNvSpPr/>
                <p:nvPr/>
              </p:nvSpPr>
              <p:spPr>
                <a:xfrm>
                  <a:off x="650880" y="555120"/>
                  <a:ext cx="2908440" cy="227484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4840"/>
                    <a:gd name="textAreaBottom" fmla="*/ 2275200 h 2274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4" name="Freeform 1256"/>
                <p:cNvSpPr/>
                <p:nvPr/>
              </p:nvSpPr>
              <p:spPr>
                <a:xfrm>
                  <a:off x="439560" y="555120"/>
                  <a:ext cx="2908440" cy="227484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4840"/>
                    <a:gd name="textAreaBottom" fmla="*/ 2275200 h 22748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5" name="Freeform 1257"/>
                <p:cNvSpPr/>
                <p:nvPr/>
              </p:nvSpPr>
              <p:spPr>
                <a:xfrm>
                  <a:off x="450720" y="41616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6" name="Freeform 1258"/>
                <p:cNvSpPr/>
                <p:nvPr/>
              </p:nvSpPr>
              <p:spPr>
                <a:xfrm>
                  <a:off x="523800" y="31716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7" name="Freeform 1259"/>
                <p:cNvSpPr/>
                <p:nvPr/>
              </p:nvSpPr>
              <p:spPr>
                <a:xfrm>
                  <a:off x="439560" y="31716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8" name="Freeform 1260"/>
                <p:cNvSpPr/>
                <p:nvPr/>
              </p:nvSpPr>
              <p:spPr>
                <a:xfrm>
                  <a:off x="228600" y="31716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9" name="Freeform 1261"/>
                <p:cNvSpPr/>
                <p:nvPr/>
              </p:nvSpPr>
              <p:spPr>
                <a:xfrm>
                  <a:off x="355680" y="465120"/>
                  <a:ext cx="2908080" cy="227520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0" name="Freeform 1262"/>
                <p:cNvSpPr/>
                <p:nvPr/>
              </p:nvSpPr>
              <p:spPr>
                <a:xfrm>
                  <a:off x="692280" y="654120"/>
                  <a:ext cx="2908080" cy="227412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4120"/>
                    <a:gd name="textAreaBottom" fmla="*/ 2274480 h 2274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1" name="Freeform 1263"/>
                <p:cNvSpPr/>
                <p:nvPr/>
              </p:nvSpPr>
              <p:spPr>
                <a:xfrm>
                  <a:off x="776160" y="75240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2" name="Freeform 1264"/>
                <p:cNvSpPr/>
                <p:nvPr/>
              </p:nvSpPr>
              <p:spPr>
                <a:xfrm>
                  <a:off x="860400" y="85140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Freeform 1265"/>
                <p:cNvSpPr/>
                <p:nvPr/>
              </p:nvSpPr>
              <p:spPr>
                <a:xfrm>
                  <a:off x="944640" y="949320"/>
                  <a:ext cx="2909880" cy="2275200"/>
                </a:xfrm>
                <a:custGeom>
                  <a:avLst/>
                  <a:gdLst>
                    <a:gd name="textAreaLeft" fmla="*/ 0 w 2909880"/>
                    <a:gd name="textAreaRight" fmla="*/ 2910240 w 290988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Freeform 1266"/>
                <p:cNvSpPr/>
                <p:nvPr/>
              </p:nvSpPr>
              <p:spPr>
                <a:xfrm>
                  <a:off x="1030320" y="104868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Freeform 1267"/>
                <p:cNvSpPr/>
                <p:nvPr/>
              </p:nvSpPr>
              <p:spPr>
                <a:xfrm>
                  <a:off x="1114560" y="1146600"/>
                  <a:ext cx="2908080" cy="227520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6" name="Freeform 1268"/>
                <p:cNvSpPr/>
                <p:nvPr/>
              </p:nvSpPr>
              <p:spPr>
                <a:xfrm>
                  <a:off x="1198440" y="124560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7" name="Freeform 1269"/>
                <p:cNvSpPr/>
                <p:nvPr/>
              </p:nvSpPr>
              <p:spPr>
                <a:xfrm>
                  <a:off x="1282680" y="134352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8" name="Freeform 1270"/>
                <p:cNvSpPr/>
                <p:nvPr/>
              </p:nvSpPr>
              <p:spPr>
                <a:xfrm>
                  <a:off x="1114560" y="654120"/>
                  <a:ext cx="2908080" cy="227412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4120"/>
                    <a:gd name="textAreaBottom" fmla="*/ 2274480 h 2274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9" name="Freeform 1271"/>
                <p:cNvSpPr/>
                <p:nvPr/>
              </p:nvSpPr>
              <p:spPr>
                <a:xfrm>
                  <a:off x="903240" y="654120"/>
                  <a:ext cx="2908440" cy="227412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4120"/>
                    <a:gd name="textAreaBottom" fmla="*/ 2274480 h 227412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0" name="Freeform 1272"/>
                <p:cNvSpPr/>
                <p:nvPr/>
              </p:nvSpPr>
              <p:spPr>
                <a:xfrm>
                  <a:off x="914400" y="51408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1" name="Freeform 1273"/>
                <p:cNvSpPr/>
                <p:nvPr/>
              </p:nvSpPr>
              <p:spPr>
                <a:xfrm>
                  <a:off x="987480" y="416160"/>
                  <a:ext cx="2908080" cy="227376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2" name="Freeform 1274"/>
                <p:cNvSpPr/>
                <p:nvPr/>
              </p:nvSpPr>
              <p:spPr>
                <a:xfrm>
                  <a:off x="903240" y="416160"/>
                  <a:ext cx="2908440" cy="227376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3" name="Freeform 1275"/>
                <p:cNvSpPr/>
                <p:nvPr/>
              </p:nvSpPr>
              <p:spPr>
                <a:xfrm>
                  <a:off x="692280" y="416160"/>
                  <a:ext cx="2908080" cy="2273760"/>
                </a:xfrm>
                <a:custGeom>
                  <a:avLst/>
                  <a:gdLst>
                    <a:gd name="textAreaLeft" fmla="*/ 0 w 2908080"/>
                    <a:gd name="textAreaRight" fmla="*/ 2908440 w 2908080"/>
                    <a:gd name="textAreaTop" fmla="*/ 0 h 2273760"/>
                    <a:gd name="textAreaBottom" fmla="*/ 2274120 h 227376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4" name="Freeform 1276"/>
                <p:cNvSpPr/>
                <p:nvPr/>
              </p:nvSpPr>
              <p:spPr>
                <a:xfrm>
                  <a:off x="819000" y="563040"/>
                  <a:ext cx="2908440" cy="2275200"/>
                </a:xfrm>
                <a:custGeom>
                  <a:avLst/>
                  <a:gdLst>
                    <a:gd name="textAreaLeft" fmla="*/ 0 w 2908440"/>
                    <a:gd name="textAreaRight" fmla="*/ 2908800 w 2908440"/>
                    <a:gd name="textAreaTop" fmla="*/ 0 h 2275200"/>
                    <a:gd name="textAreaBottom" fmla="*/ 2275560 h 22752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5" name="Group 1277"/>
              <p:cNvGrpSpPr/>
              <p:nvPr/>
            </p:nvGrpSpPr>
            <p:grpSpPr>
              <a:xfrm>
                <a:off x="2971800" y="2276640"/>
                <a:ext cx="4191120" cy="2802600"/>
                <a:chOff x="2971800" y="2276640"/>
                <a:chExt cx="4191120" cy="2802600"/>
              </a:xfrm>
            </p:grpSpPr>
            <p:sp>
              <p:nvSpPr>
                <p:cNvPr id="3786" name="Freeform 1278"/>
                <p:cNvSpPr/>
                <p:nvPr/>
              </p:nvSpPr>
              <p:spPr>
                <a:xfrm>
                  <a:off x="2971800" y="2478600"/>
                  <a:ext cx="3076560" cy="193140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400"/>
                    <a:gd name="textAreaBottom" fmla="*/ 1931760 h 19314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7" name="Freeform 1279"/>
                <p:cNvSpPr/>
                <p:nvPr/>
              </p:nvSpPr>
              <p:spPr>
                <a:xfrm>
                  <a:off x="3060720" y="25621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8" name="Freeform 1280"/>
                <p:cNvSpPr/>
                <p:nvPr/>
              </p:nvSpPr>
              <p:spPr>
                <a:xfrm>
                  <a:off x="3149640" y="26452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9" name="Freeform 1281"/>
                <p:cNvSpPr/>
                <p:nvPr/>
              </p:nvSpPr>
              <p:spPr>
                <a:xfrm>
                  <a:off x="3238560" y="27288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0" name="Freeform 1282"/>
                <p:cNvSpPr/>
                <p:nvPr/>
              </p:nvSpPr>
              <p:spPr>
                <a:xfrm>
                  <a:off x="3328920" y="28134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1" name="Freeform 1283"/>
                <p:cNvSpPr/>
                <p:nvPr/>
              </p:nvSpPr>
              <p:spPr>
                <a:xfrm>
                  <a:off x="3417840" y="28969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2" name="Freeform 1284"/>
                <p:cNvSpPr/>
                <p:nvPr/>
              </p:nvSpPr>
              <p:spPr>
                <a:xfrm>
                  <a:off x="3506760" y="29800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3" name="Freeform 1285"/>
                <p:cNvSpPr/>
                <p:nvPr/>
              </p:nvSpPr>
              <p:spPr>
                <a:xfrm>
                  <a:off x="3595680" y="30646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4" name="Freeform 1286"/>
                <p:cNvSpPr/>
                <p:nvPr/>
              </p:nvSpPr>
              <p:spPr>
                <a:xfrm>
                  <a:off x="3417840" y="2478600"/>
                  <a:ext cx="3076560" cy="193140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400"/>
                    <a:gd name="textAreaBottom" fmla="*/ 1931760 h 19314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5" name="Freeform 1287"/>
                <p:cNvSpPr/>
                <p:nvPr/>
              </p:nvSpPr>
              <p:spPr>
                <a:xfrm>
                  <a:off x="3193920" y="2478600"/>
                  <a:ext cx="3076560" cy="193140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400"/>
                    <a:gd name="textAreaBottom" fmla="*/ 1931760 h 193140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6" name="Freeform 1288"/>
                <p:cNvSpPr/>
                <p:nvPr/>
              </p:nvSpPr>
              <p:spPr>
                <a:xfrm>
                  <a:off x="3206880" y="23598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7" name="Freeform 1289"/>
                <p:cNvSpPr/>
                <p:nvPr/>
              </p:nvSpPr>
              <p:spPr>
                <a:xfrm>
                  <a:off x="3282840" y="227664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8" name="Freeform 1290"/>
                <p:cNvSpPr/>
                <p:nvPr/>
              </p:nvSpPr>
              <p:spPr>
                <a:xfrm>
                  <a:off x="3193920" y="227664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9" name="Freeform 1291"/>
                <p:cNvSpPr/>
                <p:nvPr/>
              </p:nvSpPr>
              <p:spPr>
                <a:xfrm>
                  <a:off x="2971800" y="227664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0" name="Freeform 1292"/>
                <p:cNvSpPr/>
                <p:nvPr/>
              </p:nvSpPr>
              <p:spPr>
                <a:xfrm>
                  <a:off x="3105000" y="24022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1" name="Freeform 1293"/>
                <p:cNvSpPr/>
                <p:nvPr/>
              </p:nvSpPr>
              <p:spPr>
                <a:xfrm>
                  <a:off x="3462480" y="25621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2" name="Freeform 1294"/>
                <p:cNvSpPr/>
                <p:nvPr/>
              </p:nvSpPr>
              <p:spPr>
                <a:xfrm>
                  <a:off x="3551400" y="26452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3" name="Freeform 1295"/>
                <p:cNvSpPr/>
                <p:nvPr/>
              </p:nvSpPr>
              <p:spPr>
                <a:xfrm>
                  <a:off x="3639960" y="2728800"/>
                  <a:ext cx="3076920" cy="1931040"/>
                </a:xfrm>
                <a:custGeom>
                  <a:avLst/>
                  <a:gdLst>
                    <a:gd name="textAreaLeft" fmla="*/ 0 w 3076920"/>
                    <a:gd name="textAreaRight" fmla="*/ 3077280 w 307692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4" name="Freeform 1296"/>
                <p:cNvSpPr/>
                <p:nvPr/>
              </p:nvSpPr>
              <p:spPr>
                <a:xfrm>
                  <a:off x="3728880" y="28134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5" name="Freeform 1297"/>
                <p:cNvSpPr/>
                <p:nvPr/>
              </p:nvSpPr>
              <p:spPr>
                <a:xfrm>
                  <a:off x="3817800" y="28969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6" name="Freeform 1298"/>
                <p:cNvSpPr/>
                <p:nvPr/>
              </p:nvSpPr>
              <p:spPr>
                <a:xfrm>
                  <a:off x="3908520" y="29800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7" name="Freeform 1299"/>
                <p:cNvSpPr/>
                <p:nvPr/>
              </p:nvSpPr>
              <p:spPr>
                <a:xfrm>
                  <a:off x="3997440" y="306468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8" name="Freeform 1300"/>
                <p:cNvSpPr/>
                <p:nvPr/>
              </p:nvSpPr>
              <p:spPr>
                <a:xfrm>
                  <a:off x="4086360" y="31482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9" name="Freeform 1301"/>
                <p:cNvSpPr/>
                <p:nvPr/>
              </p:nvSpPr>
              <p:spPr>
                <a:xfrm>
                  <a:off x="3908520" y="25621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0" name="Freeform 1302"/>
                <p:cNvSpPr/>
                <p:nvPr/>
              </p:nvSpPr>
              <p:spPr>
                <a:xfrm>
                  <a:off x="3684600" y="256212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1" name="Freeform 1303"/>
                <p:cNvSpPr/>
                <p:nvPr/>
              </p:nvSpPr>
              <p:spPr>
                <a:xfrm>
                  <a:off x="3697200" y="24444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2" name="Freeform 1304"/>
                <p:cNvSpPr/>
                <p:nvPr/>
              </p:nvSpPr>
              <p:spPr>
                <a:xfrm>
                  <a:off x="3773520" y="23598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3" name="Freeform 1305"/>
                <p:cNvSpPr/>
                <p:nvPr/>
              </p:nvSpPr>
              <p:spPr>
                <a:xfrm>
                  <a:off x="3684600" y="23598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4" name="Freeform 1306"/>
                <p:cNvSpPr/>
                <p:nvPr/>
              </p:nvSpPr>
              <p:spPr>
                <a:xfrm>
                  <a:off x="3462480" y="235980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5" name="Freeform 1307"/>
                <p:cNvSpPr/>
                <p:nvPr/>
              </p:nvSpPr>
              <p:spPr>
                <a:xfrm>
                  <a:off x="3595680" y="2485440"/>
                  <a:ext cx="3076560" cy="1931040"/>
                </a:xfrm>
                <a:custGeom>
                  <a:avLst/>
                  <a:gdLst>
                    <a:gd name="textAreaLeft" fmla="*/ 0 w 3076560"/>
                    <a:gd name="textAreaRight" fmla="*/ 3076920 w 3076560"/>
                    <a:gd name="textAreaTop" fmla="*/ 0 h 1931040"/>
                    <a:gd name="textAreaBottom" fmla="*/ 1931400 h 1931040"/>
                  </a:gdLst>
                  <a:ahLst/>
                  <a:rect l="textAreaLeft" t="textAreaTop" r="textAreaRight" b="textAreaBottom"/>
                  <a:pathLst>
                    <a:path w="3312" h="2216">
                      <a:moveTo>
                        <a:pt x="0" y="2216"/>
                      </a:moveTo>
                      <a:cubicBezTo>
                        <a:pt x="684" y="1404"/>
                        <a:pt x="1368" y="592"/>
                        <a:pt x="1920" y="296"/>
                      </a:cubicBezTo>
                      <a:cubicBezTo>
                        <a:pt x="2472" y="0"/>
                        <a:pt x="3080" y="416"/>
                        <a:pt x="3312" y="44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6" name="Text Box 1308"/>
            <p:cNvSpPr/>
            <p:nvPr/>
          </p:nvSpPr>
          <p:spPr>
            <a:xfrm>
              <a:off x="228600" y="3465720"/>
              <a:ext cx="3048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ERNEL LAUNCH (DEVICE FUNCTIO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1309"/>
            <p:cNvSpPr/>
            <p:nvPr/>
          </p:nvSpPr>
          <p:spPr>
            <a:xfrm>
              <a:off x="2819520" y="2539800"/>
              <a:ext cx="4343400" cy="405360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4053600"/>
                <a:gd name="textAreaBottom" fmla="*/ 4053960 h 405360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1310"/>
            <p:cNvSpPr/>
            <p:nvPr/>
          </p:nvSpPr>
          <p:spPr>
            <a:xfrm>
              <a:off x="1828800" y="2613600"/>
              <a:ext cx="4343400" cy="405360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4053600"/>
                <a:gd name="textAreaBottom" fmla="*/ 4053960 h 405360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Freeform 1311"/>
            <p:cNvSpPr/>
            <p:nvPr/>
          </p:nvSpPr>
          <p:spPr>
            <a:xfrm>
              <a:off x="3886200" y="2613600"/>
              <a:ext cx="4343400" cy="405360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4053600"/>
                <a:gd name="textAreaBottom" fmla="*/ 4053960 h 405360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Freeform 1312"/>
            <p:cNvSpPr/>
            <p:nvPr/>
          </p:nvSpPr>
          <p:spPr>
            <a:xfrm>
              <a:off x="3048120" y="2550600"/>
              <a:ext cx="4343400" cy="405324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4053240"/>
                <a:gd name="textAreaBottom" fmla="*/ 4053600 h 4053240"/>
              </a:gdLst>
              <a:ahLst/>
              <a:rect l="textAreaLeft" t="textAreaTop" r="textAreaRight" b="textAreaBottom"/>
              <a:pathLst>
                <a:path w="3312" h="2216">
                  <a:moveTo>
                    <a:pt x="0" y="2216"/>
                  </a:moveTo>
                  <a:cubicBezTo>
                    <a:pt x="684" y="1404"/>
                    <a:pt x="1368" y="592"/>
                    <a:pt x="1920" y="296"/>
                  </a:cubicBezTo>
                  <a:cubicBezTo>
                    <a:pt x="2472" y="0"/>
                    <a:pt x="3080" y="416"/>
                    <a:pt x="3312" y="44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1" name="Text Box 1313"/>
          <p:cNvSpPr/>
          <p:nvPr/>
        </p:nvSpPr>
        <p:spPr>
          <a:xfrm>
            <a:off x="380880" y="1650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a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Text Box 1314"/>
          <p:cNvSpPr/>
          <p:nvPr/>
        </p:nvSpPr>
        <p:spPr>
          <a:xfrm>
            <a:off x="5105520" y="50799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42800"/>
                </a:solidFill>
                <a:latin typeface="Arial"/>
              </a:rPr>
              <a:t>Launches thousands of threads simultaneous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Text Box 1315"/>
          <p:cNvSpPr/>
          <p:nvPr/>
        </p:nvSpPr>
        <p:spPr>
          <a:xfrm>
            <a:off x="-76320" y="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 U D 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4" name="Picture 2" descr=""/>
          <p:cNvPicPr/>
          <p:nvPr/>
        </p:nvPicPr>
        <p:blipFill>
          <a:blip r:embed="rId1"/>
          <a:stretch/>
        </p:blipFill>
        <p:spPr>
          <a:xfrm>
            <a:off x="4451400" y="762120"/>
            <a:ext cx="4692600" cy="4952880"/>
          </a:xfrm>
          <a:prstGeom prst="rect">
            <a:avLst/>
          </a:prstGeom>
          <a:ln w="0">
            <a:noFill/>
          </a:ln>
        </p:spPr>
      </p:pic>
      <p:sp>
        <p:nvSpPr>
          <p:cNvPr id="3825" name="Freeform 6"/>
          <p:cNvSpPr/>
          <p:nvPr/>
        </p:nvSpPr>
        <p:spPr>
          <a:xfrm flipV="1">
            <a:off x="1676520" y="2655360"/>
            <a:ext cx="6476760" cy="836640"/>
          </a:xfrm>
          <a:custGeom>
            <a:avLst/>
            <a:gdLst>
              <a:gd name="textAreaLeft" fmla="*/ 0 w 6476760"/>
              <a:gd name="textAreaRight" fmla="*/ 6477120 w 6476760"/>
              <a:gd name="textAreaTop" fmla="*/ 360 h 836640"/>
              <a:gd name="textAreaBottom" fmla="*/ 837360 h 836640"/>
            </a:gdLst>
            <a:ahLst/>
            <a:rect l="textAreaLeft" t="textAreaTop" r="textAreaRight" b="textAreaBottom"/>
            <a:pathLst>
              <a:path w="3312" h="2216">
                <a:moveTo>
                  <a:pt x="0" y="2216"/>
                </a:moveTo>
                <a:cubicBezTo>
                  <a:pt x="684" y="1404"/>
                  <a:pt x="1368" y="592"/>
                  <a:pt x="1920" y="296"/>
                </a:cubicBezTo>
                <a:cubicBezTo>
                  <a:pt x="2472" y="0"/>
                  <a:pt x="3080" y="416"/>
                  <a:pt x="3312" y="440"/>
                </a:cubicBezTo>
              </a:path>
            </a:pathLst>
          </a:custGeom>
          <a:noFill/>
          <a:ln w="6048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6" name="Rectangle 17"/>
          <p:cNvSpPr/>
          <p:nvPr/>
        </p:nvSpPr>
        <p:spPr>
          <a:xfrm>
            <a:off x="87480" y="2476440"/>
            <a:ext cx="441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ngle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Issued by Instruction Un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fetched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ared Mem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Text Box 18"/>
          <p:cNvSpPr/>
          <p:nvPr/>
        </p:nvSpPr>
        <p:spPr>
          <a:xfrm>
            <a:off x="380880" y="495360"/>
            <a:ext cx="3581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500" spc="-1" strike="noStrike">
                <a:solidFill>
                  <a:srgbClr val="ff0000"/>
                </a:solidFill>
                <a:latin typeface="Arial"/>
              </a:rPr>
              <a:t>S  I  M  D!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8" name="Line 19"/>
          <p:cNvSpPr/>
          <p:nvPr/>
        </p:nvSpPr>
        <p:spPr>
          <a:xfrm flipV="1">
            <a:off x="1905120" y="3301560"/>
            <a:ext cx="274320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Line 20"/>
          <p:cNvSpPr/>
          <p:nvPr/>
        </p:nvSpPr>
        <p:spPr>
          <a:xfrm flipV="1">
            <a:off x="1981080" y="3492000"/>
            <a:ext cx="37339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 flipV="1">
            <a:off x="2057400" y="3492000"/>
            <a:ext cx="5257800" cy="44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1" name="Picture 2" descr=""/>
          <p:cNvPicPr/>
          <p:nvPr/>
        </p:nvPicPr>
        <p:blipFill>
          <a:blip r:embed="rId1"/>
          <a:stretch/>
        </p:blipFill>
        <p:spPr>
          <a:xfrm>
            <a:off x="990720" y="698400"/>
            <a:ext cx="7391160" cy="4160880"/>
          </a:xfrm>
          <a:prstGeom prst="rect">
            <a:avLst/>
          </a:prstGeom>
          <a:ln w="0">
            <a:noFill/>
          </a:ln>
        </p:spPr>
      </p:pic>
      <p:sp>
        <p:nvSpPr>
          <p:cNvPr id="3832" name="Rectangle 2"/>
          <p:cNvSpPr/>
          <p:nvPr/>
        </p:nvSpPr>
        <p:spPr>
          <a:xfrm>
            <a:off x="152280" y="0"/>
            <a:ext cx="10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UDA platform for parallel processing on Nvidia GP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TextBox 3"/>
          <p:cNvSpPr/>
          <p:nvPr/>
        </p:nvSpPr>
        <p:spPr>
          <a:xfrm>
            <a:off x="2362320" y="4826160"/>
            <a:ext cx="678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27a8f"/>
                </a:solidFill>
                <a:latin typeface="Arial"/>
              </a:rPr>
              <a:t>Source: PARALLEL PROCESSING WITH CU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27a8f"/>
                </a:solidFill>
                <a:latin typeface="Arial"/>
              </a:rPr>
              <a:t>Nvidia’s High-Performance Computing Platform Uses Massive Multithreading By Tom R.Halfhill {01/28/08-01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4" name="Object 2"/>
          <p:cNvGraphicFramePr/>
          <p:nvPr/>
        </p:nvGraphicFramePr>
        <p:xfrm>
          <a:off x="2362320" y="1762200"/>
          <a:ext cx="6324480" cy="368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62200"/>
                    <a:ext cx="63244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6" name="Rectangle 4"/>
          <p:cNvSpPr/>
          <p:nvPr/>
        </p:nvSpPr>
        <p:spPr>
          <a:xfrm>
            <a:off x="533520" y="735120"/>
            <a:ext cx="86104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host+device app C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rial or modestly parallel parts in host C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40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ighly parallel parts in device SPMD kernel C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Freeform 5"/>
          <p:cNvSpPr/>
          <p:nvPr/>
        </p:nvSpPr>
        <p:spPr>
          <a:xfrm>
            <a:off x="6705720" y="2933640"/>
            <a:ext cx="73080" cy="596880"/>
          </a:xfrm>
          <a:custGeom>
            <a:avLst/>
            <a:gdLst>
              <a:gd name="textAreaLeft" fmla="*/ 0 w 73080"/>
              <a:gd name="textAreaRight" fmla="*/ 73440 w 730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Freeform 6"/>
          <p:cNvSpPr/>
          <p:nvPr/>
        </p:nvSpPr>
        <p:spPr>
          <a:xfrm>
            <a:off x="6705720" y="4152960"/>
            <a:ext cx="73080" cy="520560"/>
          </a:xfrm>
          <a:custGeom>
            <a:avLst/>
            <a:gdLst>
              <a:gd name="textAreaLeft" fmla="*/ 0 w 73080"/>
              <a:gd name="textAreaRight" fmla="*/ 73440 w 730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Left Brace 6"/>
          <p:cNvSpPr/>
          <p:nvPr/>
        </p:nvSpPr>
        <p:spPr>
          <a:xfrm>
            <a:off x="2286000" y="2857680"/>
            <a:ext cx="380880" cy="2222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222280"/>
              <a:gd name="textAreaBottom" fmla="*/ 2212560 h 22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TextBox 7"/>
          <p:cNvSpPr/>
          <p:nvPr/>
        </p:nvSpPr>
        <p:spPr>
          <a:xfrm>
            <a:off x="152280" y="26668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1faecd"/>
                </a:solidFill>
                <a:latin typeface="Arial"/>
              </a:rPr>
              <a:t>CUDA launches threads in blocks and gr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Text Box 1"/>
          <p:cNvSpPr/>
          <p:nvPr/>
        </p:nvSpPr>
        <p:spPr>
          <a:xfrm>
            <a:off x="8153280" y="478008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8E086-6484-45BA-9D01-3FED882CA98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2" name="Picture 2" descr=""/>
          <p:cNvPicPr/>
          <p:nvPr/>
        </p:nvPicPr>
        <p:blipFill>
          <a:blip r:embed="rId1"/>
          <a:srcRect l="14004" t="2662" r="17998" b="18673"/>
          <a:stretch/>
        </p:blipFill>
        <p:spPr>
          <a:xfrm>
            <a:off x="4381560" y="909720"/>
            <a:ext cx="4762440" cy="4233960"/>
          </a:xfrm>
          <a:prstGeom prst="rect">
            <a:avLst/>
          </a:prstGeom>
          <a:ln w="0">
            <a:noFill/>
          </a:ln>
        </p:spPr>
      </p:pic>
      <p:sp>
        <p:nvSpPr>
          <p:cNvPr id="3843" name="Rectangle 3"/>
          <p:cNvSpPr/>
          <p:nvPr/>
        </p:nvSpPr>
        <p:spPr>
          <a:xfrm>
            <a:off x="838080" y="-12708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lock IDs and Thread 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Rectangle 4"/>
          <p:cNvSpPr/>
          <p:nvPr/>
        </p:nvSpPr>
        <p:spPr>
          <a:xfrm>
            <a:off x="304920" y="190440"/>
            <a:ext cx="41148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uses IDs to decide what data to work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01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Block ID: 1D or 2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01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read ID: 1D, 2D, or 3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mem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when proces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dimension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01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mage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01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olving PDEs on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01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Matrix, 2D and 3D ar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99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Line 5"/>
          <p:cNvSpPr/>
          <p:nvPr/>
        </p:nvSpPr>
        <p:spPr>
          <a:xfrm>
            <a:off x="3657600" y="1650960"/>
            <a:ext cx="2590920" cy="63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Line 6"/>
          <p:cNvSpPr/>
          <p:nvPr/>
        </p:nvSpPr>
        <p:spPr>
          <a:xfrm>
            <a:off x="4267080" y="2031840"/>
            <a:ext cx="1447920" cy="17780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Rectangle 1"/>
          <p:cNvSpPr/>
          <p:nvPr/>
        </p:nvSpPr>
        <p:spPr>
          <a:xfrm>
            <a:off x="380880" y="952560"/>
            <a:ext cx="822960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current code and associated state executed on the CUDA device (in parallel with other threa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3080" indent="-40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he unit of parallelism in CU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group of threads execu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llel in any GPU, basic unit of scheduling hardware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dware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group of threads that are executed together and form the unit of resource assignment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ming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25640"/>
                <a:tab algn="l" pos="1940040"/>
                <a:tab algn="l" pos="2854440"/>
                <a:tab algn="l" pos="3768840"/>
                <a:tab algn="l" pos="4683240"/>
                <a:tab algn="l" pos="5597640"/>
                <a:tab algn="l" pos="6512040"/>
                <a:tab algn="l" pos="7426440"/>
                <a:tab algn="l" pos="8340840"/>
                <a:tab algn="l" pos="9255240"/>
                <a:tab algn="l" pos="1016964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group of thread blocks that must all complete before the next kernel call of the program can take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Rectangle 2"/>
          <p:cNvSpPr/>
          <p:nvPr/>
        </p:nvSpPr>
        <p:spPr>
          <a:xfrm>
            <a:off x="2895480" y="31752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read Block Algebr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Text Box 1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EFBA7-B879-4410-9D5B-8BD6D3E86B2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Rectangle 2"/>
          <p:cNvSpPr/>
          <p:nvPr/>
        </p:nvSpPr>
        <p:spPr>
          <a:xfrm>
            <a:off x="838080" y="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DA Device Memory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Rectangle 3"/>
          <p:cNvSpPr/>
          <p:nvPr/>
        </p:nvSpPr>
        <p:spPr>
          <a:xfrm>
            <a:off x="0" y="800280"/>
            <a:ext cx="51055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daMalloc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llocates object in the dev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Global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quires two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Address of a poi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 to the allocate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iz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of allocate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daFre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Frees object from device Global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ointer to freed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Text Box 4"/>
          <p:cNvSpPr/>
          <p:nvPr/>
        </p:nvSpPr>
        <p:spPr>
          <a:xfrm>
            <a:off x="5437080" y="2031840"/>
            <a:ext cx="3706920" cy="279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Text Box 5"/>
          <p:cNvSpPr/>
          <p:nvPr/>
        </p:nvSpPr>
        <p:spPr>
          <a:xfrm>
            <a:off x="5452920" y="3767040"/>
            <a:ext cx="3605400" cy="35424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Text Box 6"/>
          <p:cNvSpPr/>
          <p:nvPr/>
        </p:nvSpPr>
        <p:spPr>
          <a:xfrm>
            <a:off x="5451480" y="1870200"/>
            <a:ext cx="1771560" cy="18018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Block (0, 0)</a:t>
            </a:r>
            <a:r>
              <a:rPr b="1" lang="ar-SA" sz="12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Text Box 7"/>
          <p:cNvSpPr/>
          <p:nvPr/>
        </p:nvSpPr>
        <p:spPr>
          <a:xfrm>
            <a:off x="5500800" y="2295360"/>
            <a:ext cx="1682640" cy="290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hared 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Text Box 8"/>
          <p:cNvSpPr/>
          <p:nvPr/>
        </p:nvSpPr>
        <p:spPr>
          <a:xfrm>
            <a:off x="549108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0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Text Box 9"/>
          <p:cNvSpPr/>
          <p:nvPr/>
        </p:nvSpPr>
        <p:spPr>
          <a:xfrm>
            <a:off x="5491080" y="2714760"/>
            <a:ext cx="6224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Line 10"/>
          <p:cNvSpPr/>
          <p:nvPr/>
        </p:nvSpPr>
        <p:spPr>
          <a:xfrm flipV="1">
            <a:off x="621036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Line 11"/>
          <p:cNvSpPr/>
          <p:nvPr/>
        </p:nvSpPr>
        <p:spPr>
          <a:xfrm flipV="1">
            <a:off x="5802480" y="2955600"/>
            <a:ext cx="144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Line 12"/>
          <p:cNvSpPr/>
          <p:nvPr/>
        </p:nvSpPr>
        <p:spPr>
          <a:xfrm>
            <a:off x="608976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Text Box 13"/>
          <p:cNvSpPr/>
          <p:nvPr/>
        </p:nvSpPr>
        <p:spPr>
          <a:xfrm>
            <a:off x="636264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1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Text Box 14"/>
          <p:cNvSpPr/>
          <p:nvPr/>
        </p:nvSpPr>
        <p:spPr>
          <a:xfrm>
            <a:off x="636264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Line 15"/>
          <p:cNvSpPr/>
          <p:nvPr/>
        </p:nvSpPr>
        <p:spPr>
          <a:xfrm flipV="1">
            <a:off x="708012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Line 16"/>
          <p:cNvSpPr/>
          <p:nvPr/>
        </p:nvSpPr>
        <p:spPr>
          <a:xfrm flipV="1">
            <a:off x="6673680" y="2955600"/>
            <a:ext cx="180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5" name="Line 17"/>
          <p:cNvSpPr/>
          <p:nvPr/>
        </p:nvSpPr>
        <p:spPr>
          <a:xfrm>
            <a:off x="696132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Text Box 18"/>
          <p:cNvSpPr/>
          <p:nvPr/>
        </p:nvSpPr>
        <p:spPr>
          <a:xfrm>
            <a:off x="7288200" y="1870200"/>
            <a:ext cx="1771560" cy="18018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Block (1, 0)</a:t>
            </a:r>
            <a:r>
              <a:rPr b="1" lang="ar-SA" sz="12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7" name="Text Box 19"/>
          <p:cNvSpPr/>
          <p:nvPr/>
        </p:nvSpPr>
        <p:spPr>
          <a:xfrm>
            <a:off x="7335720" y="2295360"/>
            <a:ext cx="1684440" cy="290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hared 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Text Box 20"/>
          <p:cNvSpPr/>
          <p:nvPr/>
        </p:nvSpPr>
        <p:spPr>
          <a:xfrm>
            <a:off x="732780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0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Text Box 21"/>
          <p:cNvSpPr/>
          <p:nvPr/>
        </p:nvSpPr>
        <p:spPr>
          <a:xfrm>
            <a:off x="732780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Line 22"/>
          <p:cNvSpPr/>
          <p:nvPr/>
        </p:nvSpPr>
        <p:spPr>
          <a:xfrm flipV="1">
            <a:off x="804528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Line 23"/>
          <p:cNvSpPr/>
          <p:nvPr/>
        </p:nvSpPr>
        <p:spPr>
          <a:xfrm flipV="1">
            <a:off x="7639200" y="2955600"/>
            <a:ext cx="144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Line 24"/>
          <p:cNvSpPr/>
          <p:nvPr/>
        </p:nvSpPr>
        <p:spPr>
          <a:xfrm>
            <a:off x="792648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Text Box 25"/>
          <p:cNvSpPr/>
          <p:nvPr/>
        </p:nvSpPr>
        <p:spPr>
          <a:xfrm>
            <a:off x="819936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1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Text Box 26"/>
          <p:cNvSpPr/>
          <p:nvPr/>
        </p:nvSpPr>
        <p:spPr>
          <a:xfrm>
            <a:off x="819936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Line 27"/>
          <p:cNvSpPr/>
          <p:nvPr/>
        </p:nvSpPr>
        <p:spPr>
          <a:xfrm flipV="1">
            <a:off x="891684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Line 28"/>
          <p:cNvSpPr/>
          <p:nvPr/>
        </p:nvSpPr>
        <p:spPr>
          <a:xfrm flipV="1">
            <a:off x="8508960" y="2955600"/>
            <a:ext cx="180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Line 29"/>
          <p:cNvSpPr/>
          <p:nvPr/>
        </p:nvSpPr>
        <p:spPr>
          <a:xfrm>
            <a:off x="879804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Text Box 30"/>
          <p:cNvSpPr/>
          <p:nvPr/>
        </p:nvSpPr>
        <p:spPr>
          <a:xfrm>
            <a:off x="4572000" y="3762360"/>
            <a:ext cx="56340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Line 31"/>
          <p:cNvSpPr/>
          <p:nvPr/>
        </p:nvSpPr>
        <p:spPr>
          <a:xfrm>
            <a:off x="5135400" y="3940200"/>
            <a:ext cx="316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0" name="Line 32"/>
          <p:cNvSpPr/>
          <p:nvPr/>
        </p:nvSpPr>
        <p:spPr>
          <a:xfrm>
            <a:off x="4800600" y="2095560"/>
            <a:ext cx="762120" cy="17143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TextBox 34"/>
          <p:cNvSpPr/>
          <p:nvPr/>
        </p:nvSpPr>
        <p:spPr>
          <a:xfrm>
            <a:off x="914400" y="254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800" spc="-1" strike="noStrike">
                <a:solidFill>
                  <a:srgbClr val="da1f28"/>
                </a:solidFill>
                <a:latin typeface="Arial"/>
              </a:rPr>
              <a:t>Essentials--  CUDA Device Memory Al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Rectangle 11"/>
          <p:cNvSpPr/>
          <p:nvPr/>
        </p:nvSpPr>
        <p:spPr>
          <a:xfrm>
            <a:off x="685800" y="317520"/>
            <a:ext cx="8458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Lucida Sans Unicode"/>
              </a:rPr>
              <a:t>CUDA Device Memory Allocation (2)</a:t>
            </a:r>
            <a:r>
              <a:rPr b="1" lang="ar-SA" sz="3400" spc="-1" strike="noStrike">
                <a:solidFill>
                  <a:srgbClr val="ff0000"/>
                </a:solidFill>
                <a:latin typeface="Lucida Sans Unicode"/>
                <a:ea typeface="Arial"/>
              </a:rPr>
              <a:t>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3" name="Rectangle 12"/>
          <p:cNvSpPr/>
          <p:nvPr/>
        </p:nvSpPr>
        <p:spPr>
          <a:xfrm>
            <a:off x="685800" y="1333440"/>
            <a:ext cx="82296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ode exampl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DejaVu Sans"/>
              </a:rPr>
              <a:t>Allocate a  32* 32 single precision float arr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DejaVu Sans"/>
              </a:rPr>
              <a:t>Attach the allocated storage to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DejaVu Sans"/>
              </a:rPr>
              <a:t>d” is often used to indicate a device data structure (“h” is used to indicate ho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Text Box 13"/>
          <p:cNvSpPr/>
          <p:nvPr/>
        </p:nvSpPr>
        <p:spPr>
          <a:xfrm>
            <a:off x="1066680" y="3924360"/>
            <a:ext cx="83059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_WIDTH = 3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*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ize = TILE_WIDTH * TILE_WIDTH * sizeof(floa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aMalloc((void**)&amp;Md, siz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aFree(M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TextBox 6"/>
          <p:cNvSpPr/>
          <p:nvPr/>
        </p:nvSpPr>
        <p:spPr>
          <a:xfrm>
            <a:off x="380880" y="254160"/>
            <a:ext cx="83822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GPU Compu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6" name="TextBox 10"/>
          <p:cNvSpPr/>
          <p:nvPr/>
        </p:nvSpPr>
        <p:spPr>
          <a:xfrm>
            <a:off x="609480" y="825480"/>
            <a:ext cx="4953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Processing Unit (GPU), intially designed for gam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nd 2000, general purpose GPGPU-s develop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icient in matrix calc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7" name="Picture 10" descr="Image result for gpu vs cpu"/>
          <p:cNvPicPr/>
          <p:nvPr/>
        </p:nvPicPr>
        <p:blipFill>
          <a:blip r:embed="rId1"/>
          <a:srcRect l="8838" t="26189" r="1671" b="3108"/>
          <a:stretch/>
        </p:blipFill>
        <p:spPr>
          <a:xfrm>
            <a:off x="0" y="2921040"/>
            <a:ext cx="7543800" cy="2793960"/>
          </a:xfrm>
          <a:prstGeom prst="rect">
            <a:avLst/>
          </a:prstGeom>
          <a:ln w="0">
            <a:noFill/>
          </a:ln>
        </p:spPr>
      </p:pic>
      <p:pic>
        <p:nvPicPr>
          <p:cNvPr id="3378" name="Picture 8" descr=""/>
          <p:cNvPicPr/>
          <p:nvPr/>
        </p:nvPicPr>
        <p:blipFill>
          <a:blip r:embed="rId2"/>
          <a:stretch/>
        </p:blipFill>
        <p:spPr>
          <a:xfrm>
            <a:off x="5715000" y="50796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79" name="TextBox 6"/>
          <p:cNvSpPr/>
          <p:nvPr/>
        </p:nvSpPr>
        <p:spPr>
          <a:xfrm>
            <a:off x="6781680" y="3556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PU -vs- CPU performance, NVI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Text Box 1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6D381-4480-411A-8BB1-EA450ECE744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Rectangle 2"/>
          <p:cNvSpPr/>
          <p:nvPr/>
        </p:nvSpPr>
        <p:spPr>
          <a:xfrm>
            <a:off x="838080" y="0"/>
            <a:ext cx="83059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DA Host-Device Data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Rectangle 3"/>
          <p:cNvSpPr/>
          <p:nvPr/>
        </p:nvSpPr>
        <p:spPr>
          <a:xfrm>
            <a:off x="457200" y="127080"/>
            <a:ext cx="480060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daMemcpy(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four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inter to dest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inter to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bytes cop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ransf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st to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to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to 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st to H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ynchronous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Text Box 4"/>
          <p:cNvSpPr/>
          <p:nvPr/>
        </p:nvSpPr>
        <p:spPr>
          <a:xfrm>
            <a:off x="5437080" y="1905120"/>
            <a:ext cx="3706920" cy="2797200"/>
          </a:xfrm>
          <a:prstGeom prst="rect">
            <a:avLst/>
          </a:prstGeom>
          <a:solidFill>
            <a:srgbClr val="99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9" name="Text Box 5"/>
          <p:cNvSpPr/>
          <p:nvPr/>
        </p:nvSpPr>
        <p:spPr>
          <a:xfrm>
            <a:off x="5452920" y="3767040"/>
            <a:ext cx="3605400" cy="35424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Text Box 6"/>
          <p:cNvSpPr/>
          <p:nvPr/>
        </p:nvSpPr>
        <p:spPr>
          <a:xfrm>
            <a:off x="5451480" y="1870200"/>
            <a:ext cx="1771560" cy="18018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Block (0, 0)</a:t>
            </a:r>
            <a:r>
              <a:rPr b="1" lang="ar-SA" sz="12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Text Box 7"/>
          <p:cNvSpPr/>
          <p:nvPr/>
        </p:nvSpPr>
        <p:spPr>
          <a:xfrm>
            <a:off x="5500800" y="2295360"/>
            <a:ext cx="1682640" cy="290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hared 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Text Box 8"/>
          <p:cNvSpPr/>
          <p:nvPr/>
        </p:nvSpPr>
        <p:spPr>
          <a:xfrm>
            <a:off x="549108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0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Text Box 9"/>
          <p:cNvSpPr/>
          <p:nvPr/>
        </p:nvSpPr>
        <p:spPr>
          <a:xfrm>
            <a:off x="5491080" y="2714760"/>
            <a:ext cx="6224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4" name="Line 10"/>
          <p:cNvSpPr/>
          <p:nvPr/>
        </p:nvSpPr>
        <p:spPr>
          <a:xfrm flipV="1">
            <a:off x="621036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Line 11"/>
          <p:cNvSpPr/>
          <p:nvPr/>
        </p:nvSpPr>
        <p:spPr>
          <a:xfrm flipV="1">
            <a:off x="5802480" y="2955600"/>
            <a:ext cx="144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Line 12"/>
          <p:cNvSpPr/>
          <p:nvPr/>
        </p:nvSpPr>
        <p:spPr>
          <a:xfrm>
            <a:off x="608976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Text Box 13"/>
          <p:cNvSpPr/>
          <p:nvPr/>
        </p:nvSpPr>
        <p:spPr>
          <a:xfrm>
            <a:off x="636264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1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Text Box 14"/>
          <p:cNvSpPr/>
          <p:nvPr/>
        </p:nvSpPr>
        <p:spPr>
          <a:xfrm>
            <a:off x="636264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Line 15"/>
          <p:cNvSpPr/>
          <p:nvPr/>
        </p:nvSpPr>
        <p:spPr>
          <a:xfrm flipV="1">
            <a:off x="708012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Line 16"/>
          <p:cNvSpPr/>
          <p:nvPr/>
        </p:nvSpPr>
        <p:spPr>
          <a:xfrm flipV="1">
            <a:off x="6673680" y="2955600"/>
            <a:ext cx="180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Line 17"/>
          <p:cNvSpPr/>
          <p:nvPr/>
        </p:nvSpPr>
        <p:spPr>
          <a:xfrm>
            <a:off x="696132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Text Box 18"/>
          <p:cNvSpPr/>
          <p:nvPr/>
        </p:nvSpPr>
        <p:spPr>
          <a:xfrm>
            <a:off x="7288200" y="1870200"/>
            <a:ext cx="1771560" cy="180180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Block (1, 0)</a:t>
            </a:r>
            <a:r>
              <a:rPr b="1" lang="ar-SA" sz="12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Text Box 19"/>
          <p:cNvSpPr/>
          <p:nvPr/>
        </p:nvSpPr>
        <p:spPr>
          <a:xfrm>
            <a:off x="7335720" y="2295360"/>
            <a:ext cx="1684440" cy="2905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hared Mem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Text Box 20"/>
          <p:cNvSpPr/>
          <p:nvPr/>
        </p:nvSpPr>
        <p:spPr>
          <a:xfrm>
            <a:off x="732780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0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Text Box 21"/>
          <p:cNvSpPr/>
          <p:nvPr/>
        </p:nvSpPr>
        <p:spPr>
          <a:xfrm>
            <a:off x="732780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Line 22"/>
          <p:cNvSpPr/>
          <p:nvPr/>
        </p:nvSpPr>
        <p:spPr>
          <a:xfrm flipV="1">
            <a:off x="804528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Line 23"/>
          <p:cNvSpPr/>
          <p:nvPr/>
        </p:nvSpPr>
        <p:spPr>
          <a:xfrm flipV="1">
            <a:off x="7639200" y="2955600"/>
            <a:ext cx="144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Line 24"/>
          <p:cNvSpPr/>
          <p:nvPr/>
        </p:nvSpPr>
        <p:spPr>
          <a:xfrm>
            <a:off x="792648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Text Box 25"/>
          <p:cNvSpPr/>
          <p:nvPr/>
        </p:nvSpPr>
        <p:spPr>
          <a:xfrm>
            <a:off x="8199360" y="3152880"/>
            <a:ext cx="820800" cy="406440"/>
          </a:xfrm>
          <a:prstGeom prst="rect">
            <a:avLst/>
          </a:prstGeom>
          <a:solidFill>
            <a:srgbClr val="99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4616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Thread (1, 0)</a:t>
            </a:r>
            <a:r>
              <a:rPr b="1" lang="ar-SA" sz="1000" spc="-1" strike="noStrike">
                <a:solidFill>
                  <a:srgbClr val="003300"/>
                </a:solidFill>
                <a:latin typeface="Arial"/>
                <a:ea typeface="Arial"/>
              </a:rPr>
              <a:t>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Text Box 26"/>
          <p:cNvSpPr/>
          <p:nvPr/>
        </p:nvSpPr>
        <p:spPr>
          <a:xfrm>
            <a:off x="8199360" y="2714760"/>
            <a:ext cx="620640" cy="249120"/>
          </a:xfrm>
          <a:prstGeom prst="rect">
            <a:avLst/>
          </a:prstGeom>
          <a:solidFill>
            <a:srgbClr val="ff66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Line 27"/>
          <p:cNvSpPr/>
          <p:nvPr/>
        </p:nvSpPr>
        <p:spPr>
          <a:xfrm flipV="1">
            <a:off x="8916840" y="2584080"/>
            <a:ext cx="3240" cy="563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Line 28"/>
          <p:cNvSpPr/>
          <p:nvPr/>
        </p:nvSpPr>
        <p:spPr>
          <a:xfrm flipV="1">
            <a:off x="8508960" y="2955600"/>
            <a:ext cx="1800" cy="191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Line 29"/>
          <p:cNvSpPr/>
          <p:nvPr/>
        </p:nvSpPr>
        <p:spPr>
          <a:xfrm>
            <a:off x="8798040" y="3562200"/>
            <a:ext cx="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Text Box 30"/>
          <p:cNvSpPr/>
          <p:nvPr/>
        </p:nvSpPr>
        <p:spPr>
          <a:xfrm>
            <a:off x="4495680" y="3762360"/>
            <a:ext cx="639720" cy="428760"/>
          </a:xfrm>
          <a:prstGeom prst="rect">
            <a:avLst/>
          </a:prstGeom>
          <a:solidFill>
            <a:srgbClr val="99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33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Line 31"/>
          <p:cNvSpPr/>
          <p:nvPr/>
        </p:nvSpPr>
        <p:spPr>
          <a:xfrm>
            <a:off x="5135400" y="3940200"/>
            <a:ext cx="316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AutoShape 32"/>
          <p:cNvSpPr/>
          <p:nvPr/>
        </p:nvSpPr>
        <p:spPr>
          <a:xfrm>
            <a:off x="4800600" y="3429000"/>
            <a:ext cx="1219320" cy="1015920"/>
          </a:xfrm>
          <a:prstGeom prst="flowChartConnector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Rectangle 2"/>
          <p:cNvSpPr/>
          <p:nvPr/>
        </p:nvSpPr>
        <p:spPr>
          <a:xfrm>
            <a:off x="0" y="0"/>
            <a:ext cx="84596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UDA Host-Device Data Transfer (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Rectangle 3"/>
          <p:cNvSpPr/>
          <p:nvPr/>
        </p:nvSpPr>
        <p:spPr>
          <a:xfrm>
            <a:off x="685800" y="952560"/>
            <a:ext cx="770256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ransfer a  32 * 32 single precision float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h is in host memory and Md is in device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udaMemcpyHostToDevice and cudaMemcpyDeviceToHost are symbolic 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Text Box 4"/>
          <p:cNvSpPr/>
          <p:nvPr/>
        </p:nvSpPr>
        <p:spPr>
          <a:xfrm>
            <a:off x="0" y="4000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tabLst>
                <a:tab algn="l" pos="0"/>
                <a:tab algn="l" pos="565200"/>
                <a:tab algn="l" pos="1479600"/>
                <a:tab algn="l" pos="2394000"/>
                <a:tab algn="l" pos="3308400"/>
                <a:tab algn="l" pos="4222800"/>
                <a:tab algn="l" pos="5137200"/>
                <a:tab algn="l" pos="6051600"/>
                <a:tab algn="l" pos="6966000"/>
                <a:tab algn="l" pos="7880400"/>
                <a:tab algn="l" pos="8794800"/>
                <a:tab algn="l" pos="9709200"/>
                <a:tab algn="l" pos="1062360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565200"/>
                <a:tab algn="l" pos="1479600"/>
                <a:tab algn="l" pos="2394000"/>
                <a:tab algn="l" pos="3308400"/>
                <a:tab algn="l" pos="4222800"/>
                <a:tab algn="l" pos="5137200"/>
                <a:tab algn="l" pos="6051600"/>
                <a:tab algn="l" pos="6966000"/>
                <a:tab algn="l" pos="7880400"/>
                <a:tab algn="l" pos="8794800"/>
                <a:tab algn="l" pos="9709200"/>
                <a:tab algn="l" pos="1062360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daMemcpy(Md, Mh, size,cudaMemcpyHostToDevic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tabLst>
                <a:tab algn="l" pos="0"/>
                <a:tab algn="l" pos="565200"/>
                <a:tab algn="l" pos="1479600"/>
                <a:tab algn="l" pos="2394000"/>
                <a:tab algn="l" pos="3308400"/>
                <a:tab algn="l" pos="4222800"/>
                <a:tab algn="l" pos="5137200"/>
                <a:tab algn="l" pos="6051600"/>
                <a:tab algn="l" pos="6966000"/>
                <a:tab algn="l" pos="7880400"/>
                <a:tab algn="l" pos="8794800"/>
                <a:tab algn="l" pos="9709200"/>
                <a:tab algn="l" pos="1062360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daMemcpy(Mh, Md, size,cudaMemcpyDeviceToHost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Rectangle 5"/>
          <p:cNvSpPr/>
          <p:nvPr/>
        </p:nvSpPr>
        <p:spPr>
          <a:xfrm>
            <a:off x="0" y="31752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NimbusSansL-Regu"/>
              </a:rPr>
              <a:t>C language extension  - Operators in Devic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type qualifiers (where to call and execute a function): __device__, __global__,__host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type qualifiers ( __device__, __constant__ and __shared__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rnel execution directive ( foo&lt;&lt;...&gt;&gt;(...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t-in variables for grid/block size and block/thread i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Rectangle 6"/>
          <p:cNvSpPr/>
          <p:nvPr/>
        </p:nvSpPr>
        <p:spPr>
          <a:xfrm>
            <a:off x="685800" y="4657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__global__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defines a kerne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DejaVu Sans"/>
              </a:rPr>
              <a:t>Must return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DejaVu Sans"/>
              </a:rPr>
              <a:t>v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TextBox 6"/>
          <p:cNvSpPr/>
          <p:nvPr/>
        </p:nvSpPr>
        <p:spPr>
          <a:xfrm>
            <a:off x="380880" y="254160"/>
            <a:ext cx="79898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UDA Programming Mo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3" name="Picture 2" descr=""/>
          <p:cNvPicPr/>
          <p:nvPr/>
        </p:nvPicPr>
        <p:blipFill>
          <a:blip r:embed="rId1"/>
          <a:stretch/>
        </p:blipFill>
        <p:spPr>
          <a:xfrm>
            <a:off x="304920" y="888840"/>
            <a:ext cx="4190760" cy="1909800"/>
          </a:xfrm>
          <a:prstGeom prst="rect">
            <a:avLst/>
          </a:prstGeom>
          <a:ln w="0">
            <a:noFill/>
          </a:ln>
        </p:spPr>
      </p:pic>
      <p:pic>
        <p:nvPicPr>
          <p:cNvPr id="3924" name="Picture 3" descr=""/>
          <p:cNvPicPr/>
          <p:nvPr/>
        </p:nvPicPr>
        <p:blipFill>
          <a:blip r:embed="rId2"/>
          <a:stretch/>
        </p:blipFill>
        <p:spPr>
          <a:xfrm>
            <a:off x="5486400" y="888840"/>
            <a:ext cx="3238560" cy="2009880"/>
          </a:xfrm>
          <a:prstGeom prst="rect">
            <a:avLst/>
          </a:prstGeom>
          <a:ln w="0">
            <a:noFill/>
          </a:ln>
        </p:spPr>
      </p:pic>
      <p:sp>
        <p:nvSpPr>
          <p:cNvPr id="3925" name="Rectangle 10"/>
          <p:cNvSpPr/>
          <p:nvPr/>
        </p:nvSpPr>
        <p:spPr>
          <a:xfrm>
            <a:off x="1760400" y="32385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mpute 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ified 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ice 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6" name="Picture 5" descr=""/>
          <p:cNvPicPr/>
          <p:nvPr/>
        </p:nvPicPr>
        <p:blipFill>
          <a:blip r:embed="rId3"/>
          <a:stretch/>
        </p:blipFill>
        <p:spPr>
          <a:xfrm>
            <a:off x="380880" y="3746520"/>
            <a:ext cx="5373720" cy="1333440"/>
          </a:xfrm>
          <a:prstGeom prst="rect">
            <a:avLst/>
          </a:prstGeom>
          <a:ln w="0">
            <a:noFill/>
          </a:ln>
        </p:spPr>
      </p:pic>
      <p:cxnSp>
        <p:nvCxnSpPr>
          <p:cNvPr id="3927" name="Straight Arrow Connector 14"/>
          <p:cNvCxnSpPr/>
          <p:nvPr/>
        </p:nvCxnSpPr>
        <p:spPr>
          <a:xfrm flipV="1">
            <a:off x="5410080" y="3809160"/>
            <a:ext cx="610560" cy="8262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3928" name="TextBox 16"/>
          <p:cNvSpPr/>
          <p:nvPr/>
        </p:nvSpPr>
        <p:spPr>
          <a:xfrm>
            <a:off x="6172200" y="3556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ads are executed to do parts of 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Text Box 1"/>
          <p:cNvSpPr/>
          <p:nvPr/>
        </p:nvSpPr>
        <p:spPr>
          <a:xfrm>
            <a:off x="8153280" y="5205240"/>
            <a:ext cx="7621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590F4280-3E65-4A19-8F8D-6390900A131E}" type="slidenum">
              <a:rPr b="0" lang="en-US" sz="1000" spc="-1" strike="noStrike">
                <a:solidFill>
                  <a:srgbClr val="2e75b6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Rectangle 3"/>
          <p:cNvSpPr/>
          <p:nvPr/>
        </p:nvSpPr>
        <p:spPr>
          <a:xfrm>
            <a:off x="533520" y="915840"/>
            <a:ext cx="8610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host+device app C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Serial or modestly parallel parts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C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Highly parallel parts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dev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DejaVu Sans"/>
              </a:rPr>
              <a:t> SPMD kernel C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Text Box 4"/>
          <p:cNvSpPr/>
          <p:nvPr/>
        </p:nvSpPr>
        <p:spPr>
          <a:xfrm>
            <a:off x="1346040" y="2346480"/>
            <a:ext cx="226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erial Code (host)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2" name="Group 5"/>
          <p:cNvGrpSpPr/>
          <p:nvPr/>
        </p:nvGrpSpPr>
        <p:grpSpPr>
          <a:xfrm>
            <a:off x="4471920" y="2890800"/>
            <a:ext cx="3924360" cy="693720"/>
            <a:chOff x="4471920" y="2890800"/>
            <a:chExt cx="3924360" cy="693720"/>
          </a:xfrm>
        </p:grpSpPr>
        <p:sp>
          <p:nvSpPr>
            <p:cNvPr id="3933" name="Rectangle 6"/>
            <p:cNvSpPr/>
            <p:nvPr/>
          </p:nvSpPr>
          <p:spPr>
            <a:xfrm>
              <a:off x="4471920" y="2890800"/>
              <a:ext cx="3924360" cy="69372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Text Box 7"/>
            <p:cNvSpPr/>
            <p:nvPr/>
          </p:nvSpPr>
          <p:spPr>
            <a:xfrm>
              <a:off x="7031160" y="315684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75b6"/>
                  </a:solidFill>
                  <a:latin typeface="Calibri"/>
                  <a:ea typeface="MS PGothic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5" name="Group 8"/>
            <p:cNvGrpSpPr/>
            <p:nvPr/>
          </p:nvGrpSpPr>
          <p:grpSpPr>
            <a:xfrm>
              <a:off x="4559400" y="2947320"/>
              <a:ext cx="772920" cy="577440"/>
              <a:chOff x="4559400" y="2947320"/>
              <a:chExt cx="772920" cy="577440"/>
            </a:xfrm>
          </p:grpSpPr>
          <p:sp>
            <p:nvSpPr>
              <p:cNvPr id="3936" name="Text Box 9"/>
              <p:cNvSpPr/>
              <p:nvPr/>
            </p:nvSpPr>
            <p:spPr>
              <a:xfrm>
                <a:off x="4559400" y="294732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37" name="Group 10"/>
              <p:cNvGrpSpPr/>
              <p:nvPr/>
            </p:nvGrpSpPr>
            <p:grpSpPr>
              <a:xfrm>
                <a:off x="4633560" y="3016080"/>
                <a:ext cx="614160" cy="430560"/>
                <a:chOff x="4633560" y="3016080"/>
                <a:chExt cx="614160" cy="430560"/>
              </a:xfrm>
            </p:grpSpPr>
            <p:sp>
              <p:nvSpPr>
                <p:cNvPr id="3938" name="AutoShape 11"/>
                <p:cNvSpPr/>
                <p:nvPr/>
              </p:nvSpPr>
              <p:spPr>
                <a:xfrm>
                  <a:off x="4633560" y="3016080"/>
                  <a:ext cx="112320" cy="43056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9" name="AutoShape 12"/>
                <p:cNvSpPr/>
                <p:nvPr/>
              </p:nvSpPr>
              <p:spPr>
                <a:xfrm>
                  <a:off x="468720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0" name="AutoShape 13"/>
                <p:cNvSpPr/>
                <p:nvPr/>
              </p:nvSpPr>
              <p:spPr>
                <a:xfrm>
                  <a:off x="4736520" y="3016080"/>
                  <a:ext cx="112320" cy="43056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1" name="AutoShape 14"/>
                <p:cNvSpPr/>
                <p:nvPr/>
              </p:nvSpPr>
              <p:spPr>
                <a:xfrm>
                  <a:off x="478836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2" name="AutoShape 15"/>
                <p:cNvSpPr/>
                <p:nvPr/>
              </p:nvSpPr>
              <p:spPr>
                <a:xfrm>
                  <a:off x="483588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3" name="AutoShape 16"/>
                <p:cNvSpPr/>
                <p:nvPr/>
              </p:nvSpPr>
              <p:spPr>
                <a:xfrm>
                  <a:off x="488844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4" name="AutoShape 17"/>
                <p:cNvSpPr/>
                <p:nvPr/>
              </p:nvSpPr>
              <p:spPr>
                <a:xfrm>
                  <a:off x="493596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5" name="AutoShape 18"/>
                <p:cNvSpPr/>
                <p:nvPr/>
              </p:nvSpPr>
              <p:spPr>
                <a:xfrm>
                  <a:off x="498636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6" name="AutoShape 19"/>
                <p:cNvSpPr/>
                <p:nvPr/>
              </p:nvSpPr>
              <p:spPr>
                <a:xfrm>
                  <a:off x="503568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7" name="AutoShape 20"/>
                <p:cNvSpPr/>
                <p:nvPr/>
              </p:nvSpPr>
              <p:spPr>
                <a:xfrm>
                  <a:off x="508644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8" name="AutoShape 21"/>
                <p:cNvSpPr/>
                <p:nvPr/>
              </p:nvSpPr>
              <p:spPr>
                <a:xfrm>
                  <a:off x="5136840" y="3016080"/>
                  <a:ext cx="110880" cy="4305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49" name="Group 22"/>
            <p:cNvGrpSpPr/>
            <p:nvPr/>
          </p:nvGrpSpPr>
          <p:grpSpPr>
            <a:xfrm>
              <a:off x="5407200" y="2947320"/>
              <a:ext cx="772920" cy="577440"/>
              <a:chOff x="5407200" y="2947320"/>
              <a:chExt cx="772920" cy="577440"/>
            </a:xfrm>
          </p:grpSpPr>
          <p:sp>
            <p:nvSpPr>
              <p:cNvPr id="3950" name="Text Box 23"/>
              <p:cNvSpPr/>
              <p:nvPr/>
            </p:nvSpPr>
            <p:spPr>
              <a:xfrm>
                <a:off x="5407200" y="294732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1" name="Group 24"/>
              <p:cNvGrpSpPr/>
              <p:nvPr/>
            </p:nvGrpSpPr>
            <p:grpSpPr>
              <a:xfrm>
                <a:off x="5481360" y="3016080"/>
                <a:ext cx="614160" cy="430560"/>
                <a:chOff x="5481360" y="3016080"/>
                <a:chExt cx="614160" cy="430560"/>
              </a:xfrm>
            </p:grpSpPr>
            <p:sp>
              <p:nvSpPr>
                <p:cNvPr id="3952" name="AutoShape 25"/>
                <p:cNvSpPr/>
                <p:nvPr/>
              </p:nvSpPr>
              <p:spPr>
                <a:xfrm>
                  <a:off x="548136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3" name="AutoShape 26"/>
                <p:cNvSpPr/>
                <p:nvPr/>
              </p:nvSpPr>
              <p:spPr>
                <a:xfrm>
                  <a:off x="55350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4" name="AutoShape 27"/>
                <p:cNvSpPr/>
                <p:nvPr/>
              </p:nvSpPr>
              <p:spPr>
                <a:xfrm>
                  <a:off x="55836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5" name="AutoShape 28"/>
                <p:cNvSpPr/>
                <p:nvPr/>
              </p:nvSpPr>
              <p:spPr>
                <a:xfrm>
                  <a:off x="56358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6" name="AutoShape 29"/>
                <p:cNvSpPr/>
                <p:nvPr/>
              </p:nvSpPr>
              <p:spPr>
                <a:xfrm>
                  <a:off x="56851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7" name="AutoShape 30"/>
                <p:cNvSpPr/>
                <p:nvPr/>
              </p:nvSpPr>
              <p:spPr>
                <a:xfrm>
                  <a:off x="57355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8" name="AutoShape 31"/>
                <p:cNvSpPr/>
                <p:nvPr/>
              </p:nvSpPr>
              <p:spPr>
                <a:xfrm>
                  <a:off x="57830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9" name="AutoShape 32"/>
                <p:cNvSpPr/>
                <p:nvPr/>
              </p:nvSpPr>
              <p:spPr>
                <a:xfrm>
                  <a:off x="58334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0" name="AutoShape 33"/>
                <p:cNvSpPr/>
                <p:nvPr/>
              </p:nvSpPr>
              <p:spPr>
                <a:xfrm>
                  <a:off x="58838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1" name="AutoShape 34"/>
                <p:cNvSpPr/>
                <p:nvPr/>
              </p:nvSpPr>
              <p:spPr>
                <a:xfrm>
                  <a:off x="59346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2" name="AutoShape 35"/>
                <p:cNvSpPr/>
                <p:nvPr/>
              </p:nvSpPr>
              <p:spPr>
                <a:xfrm>
                  <a:off x="598356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63" name="Group 36"/>
            <p:cNvGrpSpPr/>
            <p:nvPr/>
          </p:nvGrpSpPr>
          <p:grpSpPr>
            <a:xfrm>
              <a:off x="7531200" y="2947320"/>
              <a:ext cx="772920" cy="577440"/>
              <a:chOff x="7531200" y="2947320"/>
              <a:chExt cx="772920" cy="577440"/>
            </a:xfrm>
          </p:grpSpPr>
          <p:sp>
            <p:nvSpPr>
              <p:cNvPr id="3964" name="Text Box 37"/>
              <p:cNvSpPr/>
              <p:nvPr/>
            </p:nvSpPr>
            <p:spPr>
              <a:xfrm>
                <a:off x="7531200" y="294732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65" name="Group 38"/>
              <p:cNvGrpSpPr/>
              <p:nvPr/>
            </p:nvGrpSpPr>
            <p:grpSpPr>
              <a:xfrm>
                <a:off x="7606800" y="3016080"/>
                <a:ext cx="614160" cy="430560"/>
                <a:chOff x="7606800" y="3016080"/>
                <a:chExt cx="614160" cy="430560"/>
              </a:xfrm>
            </p:grpSpPr>
            <p:sp>
              <p:nvSpPr>
                <p:cNvPr id="3966" name="AutoShape 39"/>
                <p:cNvSpPr/>
                <p:nvPr/>
              </p:nvSpPr>
              <p:spPr>
                <a:xfrm>
                  <a:off x="76068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7" name="AutoShape 40"/>
                <p:cNvSpPr/>
                <p:nvPr/>
              </p:nvSpPr>
              <p:spPr>
                <a:xfrm>
                  <a:off x="76622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8" name="AutoShape 41"/>
                <p:cNvSpPr/>
                <p:nvPr/>
              </p:nvSpPr>
              <p:spPr>
                <a:xfrm>
                  <a:off x="7707960" y="3016080"/>
                  <a:ext cx="113400" cy="430560"/>
                </a:xfrm>
                <a:custGeom>
                  <a:avLst/>
                  <a:gdLst>
                    <a:gd name="textAreaLeft" fmla="*/ 0 w 113400"/>
                    <a:gd name="textAreaRight" fmla="*/ 113760 w 11340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9" name="AutoShape 42"/>
                <p:cNvSpPr/>
                <p:nvPr/>
              </p:nvSpPr>
              <p:spPr>
                <a:xfrm>
                  <a:off x="77598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0" name="AutoShape 43"/>
                <p:cNvSpPr/>
                <p:nvPr/>
              </p:nvSpPr>
              <p:spPr>
                <a:xfrm>
                  <a:off x="78091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1" name="AutoShape 44"/>
                <p:cNvSpPr/>
                <p:nvPr/>
              </p:nvSpPr>
              <p:spPr>
                <a:xfrm>
                  <a:off x="786096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2" name="AutoShape 45"/>
                <p:cNvSpPr/>
                <p:nvPr/>
              </p:nvSpPr>
              <p:spPr>
                <a:xfrm>
                  <a:off x="79099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3" name="AutoShape 46"/>
                <p:cNvSpPr/>
                <p:nvPr/>
              </p:nvSpPr>
              <p:spPr>
                <a:xfrm>
                  <a:off x="79603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4" name="AutoShape 47"/>
                <p:cNvSpPr/>
                <p:nvPr/>
              </p:nvSpPr>
              <p:spPr>
                <a:xfrm>
                  <a:off x="80096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5" name="AutoShape 48"/>
                <p:cNvSpPr/>
                <p:nvPr/>
              </p:nvSpPr>
              <p:spPr>
                <a:xfrm>
                  <a:off x="80600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6" name="AutoShape 49"/>
                <p:cNvSpPr/>
                <p:nvPr/>
              </p:nvSpPr>
              <p:spPr>
                <a:xfrm>
                  <a:off x="81090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7" name="Group 50"/>
            <p:cNvGrpSpPr/>
            <p:nvPr/>
          </p:nvGrpSpPr>
          <p:grpSpPr>
            <a:xfrm>
              <a:off x="6256440" y="2947320"/>
              <a:ext cx="771480" cy="577440"/>
              <a:chOff x="6256440" y="2947320"/>
              <a:chExt cx="771480" cy="577440"/>
            </a:xfrm>
          </p:grpSpPr>
          <p:sp>
            <p:nvSpPr>
              <p:cNvPr id="3978" name="Text Box 51"/>
              <p:cNvSpPr/>
              <p:nvPr/>
            </p:nvSpPr>
            <p:spPr>
              <a:xfrm>
                <a:off x="6256440" y="2947320"/>
                <a:ext cx="77148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79" name="Group 52"/>
              <p:cNvGrpSpPr/>
              <p:nvPr/>
            </p:nvGrpSpPr>
            <p:grpSpPr>
              <a:xfrm>
                <a:off x="6330600" y="3016080"/>
                <a:ext cx="612720" cy="430560"/>
                <a:chOff x="6330600" y="3016080"/>
                <a:chExt cx="612720" cy="430560"/>
              </a:xfrm>
            </p:grpSpPr>
            <p:sp>
              <p:nvSpPr>
                <p:cNvPr id="3980" name="AutoShape 53"/>
                <p:cNvSpPr/>
                <p:nvPr/>
              </p:nvSpPr>
              <p:spPr>
                <a:xfrm>
                  <a:off x="633060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1" name="AutoShape 54"/>
                <p:cNvSpPr/>
                <p:nvPr/>
              </p:nvSpPr>
              <p:spPr>
                <a:xfrm>
                  <a:off x="638568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2" name="AutoShape 55"/>
                <p:cNvSpPr/>
                <p:nvPr/>
              </p:nvSpPr>
              <p:spPr>
                <a:xfrm>
                  <a:off x="64346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3" name="AutoShape 56"/>
                <p:cNvSpPr/>
                <p:nvPr/>
              </p:nvSpPr>
              <p:spPr>
                <a:xfrm>
                  <a:off x="648504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4" name="AutoShape 57"/>
                <p:cNvSpPr/>
                <p:nvPr/>
              </p:nvSpPr>
              <p:spPr>
                <a:xfrm>
                  <a:off x="653436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5" name="AutoShape 58"/>
                <p:cNvSpPr/>
                <p:nvPr/>
              </p:nvSpPr>
              <p:spPr>
                <a:xfrm>
                  <a:off x="658332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6" name="AutoShape 59"/>
                <p:cNvSpPr/>
                <p:nvPr/>
              </p:nvSpPr>
              <p:spPr>
                <a:xfrm>
                  <a:off x="663408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7" name="AutoShape 60"/>
                <p:cNvSpPr/>
                <p:nvPr/>
              </p:nvSpPr>
              <p:spPr>
                <a:xfrm>
                  <a:off x="668448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8" name="AutoShape 61"/>
                <p:cNvSpPr/>
                <p:nvPr/>
              </p:nvSpPr>
              <p:spPr>
                <a:xfrm>
                  <a:off x="673488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9" name="AutoShape 62"/>
                <p:cNvSpPr/>
                <p:nvPr/>
              </p:nvSpPr>
              <p:spPr>
                <a:xfrm>
                  <a:off x="6785640" y="3016080"/>
                  <a:ext cx="107280" cy="43056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0" name="AutoShape 63"/>
                <p:cNvSpPr/>
                <p:nvPr/>
              </p:nvSpPr>
              <p:spPr>
                <a:xfrm>
                  <a:off x="6831360" y="3016080"/>
                  <a:ext cx="111960" cy="43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0560"/>
                    <a:gd name="textAreaBottom" fmla="*/ 430920 h 43056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91" name="Group 64"/>
          <p:cNvGrpSpPr/>
          <p:nvPr/>
        </p:nvGrpSpPr>
        <p:grpSpPr>
          <a:xfrm>
            <a:off x="4471920" y="4491000"/>
            <a:ext cx="3924360" cy="693720"/>
            <a:chOff x="4471920" y="4491000"/>
            <a:chExt cx="3924360" cy="693720"/>
          </a:xfrm>
        </p:grpSpPr>
        <p:sp>
          <p:nvSpPr>
            <p:cNvPr id="3992" name="Rectangle 65"/>
            <p:cNvSpPr/>
            <p:nvPr/>
          </p:nvSpPr>
          <p:spPr>
            <a:xfrm>
              <a:off x="4471920" y="4491000"/>
              <a:ext cx="3924360" cy="69372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3" name="Text Box 66"/>
            <p:cNvSpPr/>
            <p:nvPr/>
          </p:nvSpPr>
          <p:spPr>
            <a:xfrm>
              <a:off x="7046640" y="47574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75b6"/>
                  </a:solidFill>
                  <a:latin typeface="Calibri"/>
                  <a:ea typeface="MS PGothic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4" name="Group 67"/>
            <p:cNvGrpSpPr/>
            <p:nvPr/>
          </p:nvGrpSpPr>
          <p:grpSpPr>
            <a:xfrm>
              <a:off x="4559400" y="4547880"/>
              <a:ext cx="772920" cy="578160"/>
              <a:chOff x="4559400" y="4547880"/>
              <a:chExt cx="772920" cy="578160"/>
            </a:xfrm>
          </p:grpSpPr>
          <p:sp>
            <p:nvSpPr>
              <p:cNvPr id="3995" name="Text Box 68"/>
              <p:cNvSpPr/>
              <p:nvPr/>
            </p:nvSpPr>
            <p:spPr>
              <a:xfrm>
                <a:off x="4559400" y="4547880"/>
                <a:ext cx="772920" cy="5781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6" name="Group 69"/>
              <p:cNvGrpSpPr/>
              <p:nvPr/>
            </p:nvGrpSpPr>
            <p:grpSpPr>
              <a:xfrm>
                <a:off x="4633560" y="4615200"/>
                <a:ext cx="614160" cy="431280"/>
                <a:chOff x="4633560" y="4615200"/>
                <a:chExt cx="614160" cy="431280"/>
              </a:xfrm>
            </p:grpSpPr>
            <p:sp>
              <p:nvSpPr>
                <p:cNvPr id="3997" name="AutoShape 70"/>
                <p:cNvSpPr/>
                <p:nvPr/>
              </p:nvSpPr>
              <p:spPr>
                <a:xfrm>
                  <a:off x="4633560" y="4615200"/>
                  <a:ext cx="112320" cy="431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AutoShape 71"/>
                <p:cNvSpPr/>
                <p:nvPr/>
              </p:nvSpPr>
              <p:spPr>
                <a:xfrm>
                  <a:off x="468720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9" name="AutoShape 72"/>
                <p:cNvSpPr/>
                <p:nvPr/>
              </p:nvSpPr>
              <p:spPr>
                <a:xfrm>
                  <a:off x="4736520" y="4615200"/>
                  <a:ext cx="112320" cy="431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0" name="AutoShape 73"/>
                <p:cNvSpPr/>
                <p:nvPr/>
              </p:nvSpPr>
              <p:spPr>
                <a:xfrm>
                  <a:off x="478836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AutoShape 74"/>
                <p:cNvSpPr/>
                <p:nvPr/>
              </p:nvSpPr>
              <p:spPr>
                <a:xfrm>
                  <a:off x="483588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AutoShape 75"/>
                <p:cNvSpPr/>
                <p:nvPr/>
              </p:nvSpPr>
              <p:spPr>
                <a:xfrm>
                  <a:off x="488844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3" name="AutoShape 76"/>
                <p:cNvSpPr/>
                <p:nvPr/>
              </p:nvSpPr>
              <p:spPr>
                <a:xfrm>
                  <a:off x="493596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4" name="AutoShape 77"/>
                <p:cNvSpPr/>
                <p:nvPr/>
              </p:nvSpPr>
              <p:spPr>
                <a:xfrm>
                  <a:off x="498636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AutoShape 78"/>
                <p:cNvSpPr/>
                <p:nvPr/>
              </p:nvSpPr>
              <p:spPr>
                <a:xfrm>
                  <a:off x="503568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6" name="AutoShape 79"/>
                <p:cNvSpPr/>
                <p:nvPr/>
              </p:nvSpPr>
              <p:spPr>
                <a:xfrm>
                  <a:off x="508644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7" name="AutoShape 80"/>
                <p:cNvSpPr/>
                <p:nvPr/>
              </p:nvSpPr>
              <p:spPr>
                <a:xfrm>
                  <a:off x="5136840" y="461520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8" name="Group 81"/>
            <p:cNvGrpSpPr/>
            <p:nvPr/>
          </p:nvGrpSpPr>
          <p:grpSpPr>
            <a:xfrm>
              <a:off x="5407200" y="4547880"/>
              <a:ext cx="772920" cy="578160"/>
              <a:chOff x="5407200" y="4547880"/>
              <a:chExt cx="772920" cy="578160"/>
            </a:xfrm>
          </p:grpSpPr>
          <p:sp>
            <p:nvSpPr>
              <p:cNvPr id="4009" name="Text Box 82"/>
              <p:cNvSpPr/>
              <p:nvPr/>
            </p:nvSpPr>
            <p:spPr>
              <a:xfrm>
                <a:off x="5407200" y="4547880"/>
                <a:ext cx="772920" cy="5781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10" name="Group 83"/>
              <p:cNvGrpSpPr/>
              <p:nvPr/>
            </p:nvGrpSpPr>
            <p:grpSpPr>
              <a:xfrm>
                <a:off x="5481360" y="4615200"/>
                <a:ext cx="614160" cy="431280"/>
                <a:chOff x="5481360" y="4615200"/>
                <a:chExt cx="614160" cy="431280"/>
              </a:xfrm>
            </p:grpSpPr>
            <p:sp>
              <p:nvSpPr>
                <p:cNvPr id="4011" name="AutoShape 84"/>
                <p:cNvSpPr/>
                <p:nvPr/>
              </p:nvSpPr>
              <p:spPr>
                <a:xfrm>
                  <a:off x="548136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2" name="AutoShape 85"/>
                <p:cNvSpPr/>
                <p:nvPr/>
              </p:nvSpPr>
              <p:spPr>
                <a:xfrm>
                  <a:off x="55350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AutoShape 86"/>
                <p:cNvSpPr/>
                <p:nvPr/>
              </p:nvSpPr>
              <p:spPr>
                <a:xfrm>
                  <a:off x="55836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AutoShape 87"/>
                <p:cNvSpPr/>
                <p:nvPr/>
              </p:nvSpPr>
              <p:spPr>
                <a:xfrm>
                  <a:off x="56358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5" name="AutoShape 88"/>
                <p:cNvSpPr/>
                <p:nvPr/>
              </p:nvSpPr>
              <p:spPr>
                <a:xfrm>
                  <a:off x="56851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6" name="AutoShape 89"/>
                <p:cNvSpPr/>
                <p:nvPr/>
              </p:nvSpPr>
              <p:spPr>
                <a:xfrm>
                  <a:off x="57355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AutoShape 90"/>
                <p:cNvSpPr/>
                <p:nvPr/>
              </p:nvSpPr>
              <p:spPr>
                <a:xfrm>
                  <a:off x="57830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AutoShape 91"/>
                <p:cNvSpPr/>
                <p:nvPr/>
              </p:nvSpPr>
              <p:spPr>
                <a:xfrm>
                  <a:off x="58334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9" name="AutoShape 92"/>
                <p:cNvSpPr/>
                <p:nvPr/>
              </p:nvSpPr>
              <p:spPr>
                <a:xfrm>
                  <a:off x="58838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0" name="AutoShape 93"/>
                <p:cNvSpPr/>
                <p:nvPr/>
              </p:nvSpPr>
              <p:spPr>
                <a:xfrm>
                  <a:off x="59346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AutoShape 94"/>
                <p:cNvSpPr/>
                <p:nvPr/>
              </p:nvSpPr>
              <p:spPr>
                <a:xfrm>
                  <a:off x="598356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22" name="Group 95"/>
            <p:cNvGrpSpPr/>
            <p:nvPr/>
          </p:nvGrpSpPr>
          <p:grpSpPr>
            <a:xfrm>
              <a:off x="7531200" y="4547880"/>
              <a:ext cx="772920" cy="578160"/>
              <a:chOff x="7531200" y="4547880"/>
              <a:chExt cx="772920" cy="578160"/>
            </a:xfrm>
          </p:grpSpPr>
          <p:sp>
            <p:nvSpPr>
              <p:cNvPr id="4023" name="Text Box 96"/>
              <p:cNvSpPr/>
              <p:nvPr/>
            </p:nvSpPr>
            <p:spPr>
              <a:xfrm>
                <a:off x="7531200" y="4547880"/>
                <a:ext cx="772920" cy="5781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24" name="Group 97"/>
              <p:cNvGrpSpPr/>
              <p:nvPr/>
            </p:nvGrpSpPr>
            <p:grpSpPr>
              <a:xfrm>
                <a:off x="7606800" y="4615200"/>
                <a:ext cx="614160" cy="431280"/>
                <a:chOff x="7606800" y="4615200"/>
                <a:chExt cx="614160" cy="431280"/>
              </a:xfrm>
            </p:grpSpPr>
            <p:sp>
              <p:nvSpPr>
                <p:cNvPr id="4025" name="AutoShape 98"/>
                <p:cNvSpPr/>
                <p:nvPr/>
              </p:nvSpPr>
              <p:spPr>
                <a:xfrm>
                  <a:off x="76068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6" name="AutoShape 99"/>
                <p:cNvSpPr/>
                <p:nvPr/>
              </p:nvSpPr>
              <p:spPr>
                <a:xfrm>
                  <a:off x="76622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7" name="AutoShape 100"/>
                <p:cNvSpPr/>
                <p:nvPr/>
              </p:nvSpPr>
              <p:spPr>
                <a:xfrm>
                  <a:off x="7707960" y="4615200"/>
                  <a:ext cx="113400" cy="431280"/>
                </a:xfrm>
                <a:custGeom>
                  <a:avLst/>
                  <a:gdLst>
                    <a:gd name="textAreaLeft" fmla="*/ 0 w 113400"/>
                    <a:gd name="textAreaRight" fmla="*/ 113760 w 11340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8" name="AutoShape 101"/>
                <p:cNvSpPr/>
                <p:nvPr/>
              </p:nvSpPr>
              <p:spPr>
                <a:xfrm>
                  <a:off x="77598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9" name="AutoShape 102"/>
                <p:cNvSpPr/>
                <p:nvPr/>
              </p:nvSpPr>
              <p:spPr>
                <a:xfrm>
                  <a:off x="78091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0" name="AutoShape 103"/>
                <p:cNvSpPr/>
                <p:nvPr/>
              </p:nvSpPr>
              <p:spPr>
                <a:xfrm>
                  <a:off x="786096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1" name="AutoShape 104"/>
                <p:cNvSpPr/>
                <p:nvPr/>
              </p:nvSpPr>
              <p:spPr>
                <a:xfrm>
                  <a:off x="79099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2" name="AutoShape 105"/>
                <p:cNvSpPr/>
                <p:nvPr/>
              </p:nvSpPr>
              <p:spPr>
                <a:xfrm>
                  <a:off x="79603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3" name="AutoShape 106"/>
                <p:cNvSpPr/>
                <p:nvPr/>
              </p:nvSpPr>
              <p:spPr>
                <a:xfrm>
                  <a:off x="80096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4" name="AutoShape 107"/>
                <p:cNvSpPr/>
                <p:nvPr/>
              </p:nvSpPr>
              <p:spPr>
                <a:xfrm>
                  <a:off x="80600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5" name="AutoShape 108"/>
                <p:cNvSpPr/>
                <p:nvPr/>
              </p:nvSpPr>
              <p:spPr>
                <a:xfrm>
                  <a:off x="81090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6" name="Group 109"/>
            <p:cNvGrpSpPr/>
            <p:nvPr/>
          </p:nvGrpSpPr>
          <p:grpSpPr>
            <a:xfrm>
              <a:off x="6256440" y="4547880"/>
              <a:ext cx="771480" cy="578160"/>
              <a:chOff x="6256440" y="4547880"/>
              <a:chExt cx="771480" cy="578160"/>
            </a:xfrm>
          </p:grpSpPr>
          <p:sp>
            <p:nvSpPr>
              <p:cNvPr id="4037" name="Text Box 110"/>
              <p:cNvSpPr/>
              <p:nvPr/>
            </p:nvSpPr>
            <p:spPr>
              <a:xfrm>
                <a:off x="6256440" y="4547880"/>
                <a:ext cx="771480" cy="5781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38" name="Group 111"/>
              <p:cNvGrpSpPr/>
              <p:nvPr/>
            </p:nvGrpSpPr>
            <p:grpSpPr>
              <a:xfrm>
                <a:off x="6330600" y="4615200"/>
                <a:ext cx="612720" cy="431280"/>
                <a:chOff x="6330600" y="4615200"/>
                <a:chExt cx="612720" cy="431280"/>
              </a:xfrm>
            </p:grpSpPr>
            <p:sp>
              <p:nvSpPr>
                <p:cNvPr id="4039" name="AutoShape 112"/>
                <p:cNvSpPr/>
                <p:nvPr/>
              </p:nvSpPr>
              <p:spPr>
                <a:xfrm>
                  <a:off x="633060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0" name="AutoShape 113"/>
                <p:cNvSpPr/>
                <p:nvPr/>
              </p:nvSpPr>
              <p:spPr>
                <a:xfrm>
                  <a:off x="638568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1" name="AutoShape 114"/>
                <p:cNvSpPr/>
                <p:nvPr/>
              </p:nvSpPr>
              <p:spPr>
                <a:xfrm>
                  <a:off x="64346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2" name="AutoShape 115"/>
                <p:cNvSpPr/>
                <p:nvPr/>
              </p:nvSpPr>
              <p:spPr>
                <a:xfrm>
                  <a:off x="648504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3" name="AutoShape 116"/>
                <p:cNvSpPr/>
                <p:nvPr/>
              </p:nvSpPr>
              <p:spPr>
                <a:xfrm>
                  <a:off x="653436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4" name="AutoShape 117"/>
                <p:cNvSpPr/>
                <p:nvPr/>
              </p:nvSpPr>
              <p:spPr>
                <a:xfrm>
                  <a:off x="658332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5" name="AutoShape 118"/>
                <p:cNvSpPr/>
                <p:nvPr/>
              </p:nvSpPr>
              <p:spPr>
                <a:xfrm>
                  <a:off x="663408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6" name="AutoShape 119"/>
                <p:cNvSpPr/>
                <p:nvPr/>
              </p:nvSpPr>
              <p:spPr>
                <a:xfrm>
                  <a:off x="668448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7" name="AutoShape 120"/>
                <p:cNvSpPr/>
                <p:nvPr/>
              </p:nvSpPr>
              <p:spPr>
                <a:xfrm>
                  <a:off x="673488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8" name="AutoShape 121"/>
                <p:cNvSpPr/>
                <p:nvPr/>
              </p:nvSpPr>
              <p:spPr>
                <a:xfrm>
                  <a:off x="6785640" y="4615200"/>
                  <a:ext cx="107280" cy="4312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9" name="AutoShape 122"/>
                <p:cNvSpPr/>
                <p:nvPr/>
              </p:nvSpPr>
              <p:spPr>
                <a:xfrm>
                  <a:off x="6831360" y="461520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50" name="Text Box 123"/>
          <p:cNvSpPr/>
          <p:nvPr/>
        </p:nvSpPr>
        <p:spPr>
          <a:xfrm>
            <a:off x="546120" y="2949480"/>
            <a:ext cx="386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arallel Kernel (device)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KernelA&lt;&lt;&lt; nBlk, nTid &gt;&gt;&gt;(ar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AutoShape 124"/>
          <p:cNvSpPr/>
          <p:nvPr/>
        </p:nvSpPr>
        <p:spPr>
          <a:xfrm>
            <a:off x="6399360" y="2144880"/>
            <a:ext cx="72720" cy="674640"/>
          </a:xfrm>
          <a:custGeom>
            <a:avLst/>
            <a:gdLst>
              <a:gd name="textAreaLeft" fmla="*/ 0 w 72720"/>
              <a:gd name="textAreaRight" fmla="*/ 73080 w 72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2" name="Text Box 125"/>
          <p:cNvSpPr/>
          <p:nvPr/>
        </p:nvSpPr>
        <p:spPr>
          <a:xfrm>
            <a:off x="1295280" y="3916440"/>
            <a:ext cx="2293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erial Code (host)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3" name="AutoShape 126"/>
          <p:cNvSpPr/>
          <p:nvPr/>
        </p:nvSpPr>
        <p:spPr>
          <a:xfrm>
            <a:off x="6399360" y="3735360"/>
            <a:ext cx="72720" cy="671400"/>
          </a:xfrm>
          <a:custGeom>
            <a:avLst/>
            <a:gdLst>
              <a:gd name="textAreaLeft" fmla="*/ 0 w 72720"/>
              <a:gd name="textAreaRight" fmla="*/ 73080 w 7272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Text Box 127"/>
          <p:cNvSpPr/>
          <p:nvPr/>
        </p:nvSpPr>
        <p:spPr>
          <a:xfrm>
            <a:off x="546120" y="4549680"/>
            <a:ext cx="386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arallel Kernel (device)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KernelB&lt;&lt;&lt; nBlk, nTid &gt;&gt;&gt;(ar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TextBox 6"/>
          <p:cNvSpPr/>
          <p:nvPr/>
        </p:nvSpPr>
        <p:spPr>
          <a:xfrm>
            <a:off x="380880" y="254160"/>
            <a:ext cx="79898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UDA Programming Mo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Text Box 2"/>
          <p:cNvSpPr/>
          <p:nvPr/>
        </p:nvSpPr>
        <p:spPr>
          <a:xfrm>
            <a:off x="1143000" y="698400"/>
            <a:ext cx="640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ompiling a CUDA Progra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Text Box 4"/>
          <p:cNvSpPr/>
          <p:nvPr/>
        </p:nvSpPr>
        <p:spPr>
          <a:xfrm>
            <a:off x="838080" y="2158920"/>
            <a:ext cx="8305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llowing comma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: nvcc VectorAdd.cu –o  Vector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: ./ Vector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vcc is the compiler while “./” executes th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Text Box 1"/>
          <p:cNvSpPr/>
          <p:nvPr/>
        </p:nvSpPr>
        <p:spPr>
          <a:xfrm>
            <a:off x="457200" y="63360"/>
            <a:ext cx="82296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UDA program broadly consist of the following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      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heade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          Kernel that executes on the CUDA device, e.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__ void MatrixMulKernel(float *Md, float *Nd, float *Pd, int Wid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          main( ) routine, the CPU must find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:-    Define pointer to host and device ar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:-   Define other variables used in the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rray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:-   Allocate array on th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e.g. a_h=(float*)malloc(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4:-    Allocate array on device (DRAM of the GPU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e.g. cudaMalloc ((void**) (a_d,size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Rectangle 2"/>
          <p:cNvSpPr/>
          <p:nvPr/>
        </p:nvSpPr>
        <p:spPr>
          <a:xfrm>
            <a:off x="304920" y="227160"/>
            <a:ext cx="845820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:-  Copy the data from host array to device array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 /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daMemcpy(Md_d,Md_h,size,cudaMemcpyHostToDevic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6:-   Kernel Call, Execution Configuration  //  e.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_array&lt;&lt;&lt;n block,p size&gt;&gt;&gt;(…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:-    Retrieve result from device to host in the host memo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;         cudaMemcpy(Pd_h,Pd_d,size,cudaMemcpyDeviceToHos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:-    Print res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for (i=0,……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%f “,,a_h[i])  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9:-  Free  allocated device and host memories  //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 free(a_h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cudaFree(a_d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Text Box 1"/>
          <p:cNvSpPr/>
          <p:nvPr/>
        </p:nvSpPr>
        <p:spPr>
          <a:xfrm>
            <a:off x="457200" y="704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Using the above programming steps,  the following program calculates and prints  the square of first 1000 integers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1" name="Text Box 2"/>
          <p:cNvSpPr/>
          <p:nvPr/>
        </p:nvSpPr>
        <p:spPr>
          <a:xfrm>
            <a:off x="457200" y="1206360"/>
            <a:ext cx="82296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1) Include header fi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#include &lt;cuda.h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#include &lt;conio.h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// 2) Kernel that executes on the CUDA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global__ void square_array(float*a,int 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int idx=blockIdx.x*blockDim.x+threadIdx.x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if(idx&lt;N)a[idx]=a[idx]*a[idx]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}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3)          main( ) routine, the CPU must f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main(voi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{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3.1:-    Define pointer to host and device arr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*a_h,*a_d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3.2:-   Define other variables used in the program e.g. array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93560"/>
                <a:tab algn="l" pos="1407960"/>
                <a:tab algn="l" pos="2322360"/>
                <a:tab algn="l" pos="3236760"/>
                <a:tab algn="l" pos="4151160"/>
                <a:tab algn="l" pos="5065560"/>
                <a:tab algn="l" pos="5979960"/>
                <a:tab algn="l" pos="6894360"/>
                <a:tab algn="l" pos="7808760"/>
                <a:tab algn="l" pos="8723160"/>
                <a:tab algn="l" pos="96375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int N=10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size_t size=N*sizeof(float);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Text Box 1"/>
          <p:cNvSpPr/>
          <p:nvPr/>
        </p:nvSpPr>
        <p:spPr>
          <a:xfrm>
            <a:off x="457200" y="69840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3:-   Allocate array on the 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_h=(float*)malloc(size);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4:-    Allocate array on device (DRAM of the GPU)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daMalloc((void**)&amp;a_d,siz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for(int i=0;i&lt;N;i++)a_h[i]=(float)i;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5:-  Copy the data from host array to device array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cudaMemcpy(a_d,a_h,size,cudaMemcpyHostTo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6:-   Kernel Call, Execution 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block_size=4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int n_blocks=N/block_size+(N%block_size==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square_array&lt;&lt;&lt;n_blocks,block_size&gt;&gt;&gt;(a_d,N);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7:-    Retrieve result from device to host in the host memory, e.g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daMemcpy(a_h,a_d,sizeof(float)*N,cudaMemcpyDeviceTo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8:-    Print result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(int i=0;i&lt;N;i++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printf("%d\t%f\n",i,a_h[i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/ 3.9:-    Free allocated memories on the device and h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free(a_h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cudaFree(a_d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getch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3" name="Text Box 2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Rectangle 1028"/>
          <p:cNvSpPr/>
          <p:nvPr/>
        </p:nvSpPr>
        <p:spPr>
          <a:xfrm>
            <a:off x="1230480" y="444600"/>
            <a:ext cx="631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2d050"/>
                </a:solidFill>
                <a:latin typeface="Arial"/>
              </a:rPr>
              <a:t>NVIDIA GeForce 8 Architectur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1" name="Picture 3" descr=""/>
          <p:cNvPicPr/>
          <p:nvPr/>
        </p:nvPicPr>
        <p:blipFill>
          <a:blip r:embed="rId1"/>
          <a:stretch/>
        </p:blipFill>
        <p:spPr>
          <a:xfrm>
            <a:off x="81000" y="322200"/>
            <a:ext cx="8982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TextBox 6"/>
          <p:cNvSpPr/>
          <p:nvPr/>
        </p:nvSpPr>
        <p:spPr>
          <a:xfrm>
            <a:off x="380880" y="254160"/>
            <a:ext cx="83822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GPU Computing in Computational Mechanics Probl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Rectangle 8"/>
          <p:cNvSpPr/>
          <p:nvPr/>
        </p:nvSpPr>
        <p:spPr>
          <a:xfrm>
            <a:off x="533520" y="762120"/>
            <a:ext cx="82296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DA (Compute Unified Device Architecture) coupled over basic compilers (C, Fortra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a SIMD (single Instruction Multiple Data) model with multiple th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-built synchronization – excellent scal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brid (shared + distributed) 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ain decomposition and parallel computing can be done on top of GPU processing  --(two levels of paralleliz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-up upto 55x obtained for large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6" name="Picture 2" descr=""/>
          <p:cNvPicPr/>
          <p:nvPr/>
        </p:nvPicPr>
        <p:blipFill>
          <a:blip r:embed="rId1"/>
          <a:stretch/>
        </p:blipFill>
        <p:spPr>
          <a:xfrm>
            <a:off x="1295280" y="3492360"/>
            <a:ext cx="6467760" cy="1079640"/>
          </a:xfrm>
          <a:prstGeom prst="rect">
            <a:avLst/>
          </a:prstGeom>
          <a:ln w="0">
            <a:noFill/>
          </a:ln>
        </p:spPr>
      </p:pic>
      <p:sp>
        <p:nvSpPr>
          <p:cNvPr id="4067" name="TextBox 9"/>
          <p:cNvSpPr/>
          <p:nvPr/>
        </p:nvSpPr>
        <p:spPr>
          <a:xfrm>
            <a:off x="1143000" y="463536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mparison with 32 Core CPU and P100 GPU for 1000 times solution of a 144000 x 144000 matr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8" name="Picture 2" descr=""/>
          <p:cNvPicPr/>
          <p:nvPr/>
        </p:nvPicPr>
        <p:blipFill>
          <a:blip r:embed="rId1"/>
          <a:stretch/>
        </p:blipFill>
        <p:spPr>
          <a:xfrm>
            <a:off x="201600" y="630360"/>
            <a:ext cx="2533680" cy="1193760"/>
          </a:xfrm>
          <a:prstGeom prst="rect">
            <a:avLst/>
          </a:prstGeom>
          <a:ln w="0">
            <a:noFill/>
          </a:ln>
        </p:spPr>
      </p:pic>
      <p:sp>
        <p:nvSpPr>
          <p:cNvPr id="4069" name="TextBox 7"/>
          <p:cNvSpPr/>
          <p:nvPr/>
        </p:nvSpPr>
        <p:spPr>
          <a:xfrm>
            <a:off x="201600" y="1752480"/>
            <a:ext cx="22939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Arial"/>
              </a:rPr>
              <a:t>CPU Profiling of the IBM co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0" name="Picture 3" descr=""/>
          <p:cNvPicPr/>
          <p:nvPr/>
        </p:nvPicPr>
        <p:blipFill>
          <a:blip r:embed="rId2"/>
          <a:stretch/>
        </p:blipFill>
        <p:spPr>
          <a:xfrm>
            <a:off x="4703760" y="836640"/>
            <a:ext cx="4057560" cy="2498760"/>
          </a:xfrm>
          <a:prstGeom prst="rect">
            <a:avLst/>
          </a:prstGeom>
          <a:ln w="0">
            <a:noFill/>
          </a:ln>
        </p:spPr>
      </p:pic>
      <p:sp>
        <p:nvSpPr>
          <p:cNvPr id="4071" name="TextBox 9"/>
          <p:cNvSpPr/>
          <p:nvPr/>
        </p:nvSpPr>
        <p:spPr>
          <a:xfrm>
            <a:off x="3524400" y="687240"/>
            <a:ext cx="38606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Sample OpenACC 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2" name="Picture 4" descr=""/>
          <p:cNvPicPr/>
          <p:nvPr/>
        </p:nvPicPr>
        <p:blipFill>
          <a:blip r:embed="rId3"/>
          <a:stretch/>
        </p:blipFill>
        <p:spPr>
          <a:xfrm>
            <a:off x="88920" y="2021040"/>
            <a:ext cx="3532320" cy="1223640"/>
          </a:xfrm>
          <a:prstGeom prst="rect">
            <a:avLst/>
          </a:prstGeom>
          <a:ln w="0">
            <a:noFill/>
          </a:ln>
        </p:spPr>
      </p:pic>
      <p:sp>
        <p:nvSpPr>
          <p:cNvPr id="4073" name="TextBox 11"/>
          <p:cNvSpPr/>
          <p:nvPr/>
        </p:nvSpPr>
        <p:spPr>
          <a:xfrm>
            <a:off x="87480" y="3157560"/>
            <a:ext cx="40971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Arial"/>
              </a:rPr>
              <a:t>CPU-GPU Profiling of the IBM code, with MAC in GPU and SOLA in CP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4" name="Picture 9" descr=""/>
          <p:cNvPicPr/>
          <p:nvPr/>
        </p:nvPicPr>
        <p:blipFill>
          <a:blip r:embed="rId4"/>
          <a:srcRect l="5941" t="0" r="3563" b="34800"/>
          <a:stretch/>
        </p:blipFill>
        <p:spPr>
          <a:xfrm>
            <a:off x="36360" y="3530520"/>
            <a:ext cx="3503880" cy="1195560"/>
          </a:xfrm>
          <a:prstGeom prst="rect">
            <a:avLst/>
          </a:prstGeom>
          <a:ln w="0">
            <a:noFill/>
          </a:ln>
        </p:spPr>
      </p:pic>
      <p:sp>
        <p:nvSpPr>
          <p:cNvPr id="4075" name="TextBox 11"/>
          <p:cNvSpPr/>
          <p:nvPr/>
        </p:nvSpPr>
        <p:spPr>
          <a:xfrm>
            <a:off x="36360" y="4605480"/>
            <a:ext cx="4097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Arial"/>
              </a:rPr>
              <a:t>CPU-GPU Profiling of the IBM code after moving most of the subroutines to GP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6" name="Picture 10" descr=""/>
          <p:cNvPicPr/>
          <p:nvPr/>
        </p:nvPicPr>
        <p:blipFill>
          <a:blip r:embed="rId5"/>
          <a:stretch/>
        </p:blipFill>
        <p:spPr>
          <a:xfrm>
            <a:off x="5608800" y="3359160"/>
            <a:ext cx="3535200" cy="2006640"/>
          </a:xfrm>
          <a:prstGeom prst="rect">
            <a:avLst/>
          </a:prstGeom>
          <a:ln w="0">
            <a:noFill/>
          </a:ln>
        </p:spPr>
      </p:pic>
      <p:sp>
        <p:nvSpPr>
          <p:cNvPr id="4077" name="TextBox 1"/>
          <p:cNvSpPr/>
          <p:nvPr/>
        </p:nvSpPr>
        <p:spPr>
          <a:xfrm>
            <a:off x="4270320" y="3852720"/>
            <a:ext cx="14623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900" spc="-1" strike="noStrike">
                <a:solidFill>
                  <a:srgbClr val="0000ff"/>
                </a:solidFill>
                <a:latin typeface="Arial"/>
              </a:rPr>
              <a:t>Speed-up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900" spc="-1" strike="noStrike">
                <a:solidFill>
                  <a:srgbClr val="0000ff"/>
                </a:solidFill>
                <a:latin typeface="Arial"/>
              </a:rPr>
              <a:t>70x with single process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900" spc="-1" strike="noStrike">
                <a:solidFill>
                  <a:srgbClr val="0000ff"/>
                </a:solidFill>
                <a:latin typeface="Arial"/>
              </a:rPr>
              <a:t>10 x with multi(16) co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TextBox 2"/>
          <p:cNvSpPr/>
          <p:nvPr/>
        </p:nvSpPr>
        <p:spPr>
          <a:xfrm>
            <a:off x="1566720" y="4943520"/>
            <a:ext cx="313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ffc000"/>
                </a:solidFill>
                <a:latin typeface="Arial"/>
              </a:rPr>
              <a:t>Flow over fixed cyli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TextBox 6"/>
          <p:cNvSpPr/>
          <p:nvPr/>
        </p:nvSpPr>
        <p:spPr>
          <a:xfrm>
            <a:off x="353880" y="127080"/>
            <a:ext cx="8382240" cy="76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c00000"/>
                </a:solidFill>
                <a:latin typeface="Arial"/>
              </a:rPr>
              <a:t>Code Profiling and Performance Optimization using OpenACC in GP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0" name="Picture 2" descr=""/>
          <p:cNvPicPr/>
          <p:nvPr/>
        </p:nvPicPr>
        <p:blipFill>
          <a:blip r:embed="rId1"/>
          <a:stretch/>
        </p:blipFill>
        <p:spPr>
          <a:xfrm>
            <a:off x="258840" y="1046160"/>
            <a:ext cx="3857400" cy="254016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4" descr=""/>
          <p:cNvPicPr/>
          <p:nvPr/>
        </p:nvPicPr>
        <p:blipFill>
          <a:blip r:embed="rId2"/>
          <a:stretch/>
        </p:blipFill>
        <p:spPr>
          <a:xfrm>
            <a:off x="4518000" y="1141560"/>
            <a:ext cx="3792600" cy="2444760"/>
          </a:xfrm>
          <a:prstGeom prst="rect">
            <a:avLst/>
          </a:prstGeom>
          <a:ln w="0">
            <a:noFill/>
          </a:ln>
        </p:spPr>
      </p:pic>
      <p:sp>
        <p:nvSpPr>
          <p:cNvPr id="4082" name="TextBox 1"/>
          <p:cNvSpPr/>
          <p:nvPr/>
        </p:nvSpPr>
        <p:spPr>
          <a:xfrm>
            <a:off x="2529000" y="3790800"/>
            <a:ext cx="33004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00b0f0"/>
                </a:solidFill>
                <a:latin typeface="Arial"/>
              </a:rPr>
              <a:t>Moving boundary case- 3 million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00b0f0"/>
                </a:solidFill>
                <a:latin typeface="Arial"/>
              </a:rPr>
              <a:t>10x speed-up in 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800" spc="-1" strike="noStrike">
                <a:solidFill>
                  <a:srgbClr val="00b0f0"/>
                </a:solidFill>
                <a:latin typeface="Arial"/>
              </a:rPr>
              <a:t>40x speed-up in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TextBox 6"/>
          <p:cNvSpPr/>
          <p:nvPr/>
        </p:nvSpPr>
        <p:spPr>
          <a:xfrm>
            <a:off x="353880" y="127080"/>
            <a:ext cx="83822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200" spc="-1" strike="noStrike">
                <a:solidFill>
                  <a:srgbClr val="c00000"/>
                </a:solidFill>
                <a:latin typeface="Arial"/>
              </a:rPr>
              <a:t>Performance Enhan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TextBox 4"/>
          <p:cNvSpPr/>
          <p:nvPr/>
        </p:nvSpPr>
        <p:spPr>
          <a:xfrm>
            <a:off x="0" y="25416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262626"/>
                </a:solidFill>
                <a:latin typeface="Arial"/>
              </a:rPr>
              <a:t>Performance results for  large structured matrices  (septadiagon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5" name=""/>
          <p:cNvGraphicFramePr/>
          <p:nvPr/>
        </p:nvGraphicFramePr>
        <p:xfrm>
          <a:off x="1295280" y="1270080"/>
          <a:ext cx="3733920" cy="952560"/>
        </p:xfrm>
        <a:graphic>
          <a:graphicData uri="http://schemas.openxmlformats.org/drawingml/2006/table">
            <a:tbl>
              <a:tblPr/>
              <a:tblGrid>
                <a:gridCol w="746280"/>
                <a:gridCol w="747720"/>
                <a:gridCol w="745920"/>
                <a:gridCol w="747720"/>
                <a:gridCol w="746280"/>
              </a:tblGrid>
              <a:tr h="237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i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5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er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.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59.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36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979.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parall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.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6.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0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har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.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4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0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6" name="TextBox 6"/>
          <p:cNvSpPr/>
          <p:nvPr/>
        </p:nvSpPr>
        <p:spPr>
          <a:xfrm>
            <a:off x="1143000" y="2286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262626"/>
                </a:solidFill>
                <a:latin typeface="Arial"/>
              </a:rPr>
              <a:t>Jacobi solver for different memory 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7" name=""/>
          <p:cNvGraphicFramePr/>
          <p:nvPr/>
        </p:nvGraphicFramePr>
        <p:xfrm>
          <a:off x="1143000" y="2921040"/>
          <a:ext cx="5410080" cy="1523880"/>
        </p:xfrm>
        <a:graphic>
          <a:graphicData uri="http://schemas.openxmlformats.org/drawingml/2006/table">
            <a:tbl>
              <a:tblPr/>
              <a:tblGrid>
                <a:gridCol w="855720"/>
                <a:gridCol w="623880"/>
                <a:gridCol w="727200"/>
                <a:gridCol w="831600"/>
                <a:gridCol w="765360"/>
                <a:gridCol w="765000"/>
                <a:gridCol w="841320"/>
              </a:tblGrid>
              <a:tr h="507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iz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0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00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E+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E+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5E+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eri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7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8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.4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60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47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367.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Parall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2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4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2.3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90.4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76.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peedu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.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.3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.3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7.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5.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7.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8" name="TextBox 8"/>
          <p:cNvSpPr/>
          <p:nvPr/>
        </p:nvSpPr>
        <p:spPr>
          <a:xfrm>
            <a:off x="1143000" y="4572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262626"/>
                </a:solidFill>
                <a:latin typeface="Arial"/>
              </a:rPr>
              <a:t>Performance of BiCGSTAB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TextBox 4"/>
          <p:cNvSpPr/>
          <p:nvPr/>
        </p:nvSpPr>
        <p:spPr>
          <a:xfrm>
            <a:off x="1295280" y="19044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2400" spc="-1" strike="noStrike">
                <a:solidFill>
                  <a:srgbClr val="262626"/>
                </a:solidFill>
                <a:latin typeface="Arial"/>
              </a:rPr>
              <a:t>Performance results for  unstructured mat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TextBox 8"/>
          <p:cNvSpPr/>
          <p:nvPr/>
        </p:nvSpPr>
        <p:spPr>
          <a:xfrm>
            <a:off x="1066680" y="2413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262626"/>
                </a:solidFill>
                <a:latin typeface="Arial"/>
              </a:rPr>
              <a:t>Performance of different sol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1" name=""/>
          <p:cNvGraphicFramePr/>
          <p:nvPr/>
        </p:nvGraphicFramePr>
        <p:xfrm>
          <a:off x="990720" y="888840"/>
          <a:ext cx="5410080" cy="1397160"/>
        </p:xfrm>
        <a:graphic>
          <a:graphicData uri="http://schemas.openxmlformats.org/drawingml/2006/table">
            <a:tbl>
              <a:tblPr/>
              <a:tblGrid>
                <a:gridCol w="745920"/>
                <a:gridCol w="1222560"/>
                <a:gridCol w="1066680"/>
                <a:gridCol w="1266840"/>
                <a:gridCol w="1108080"/>
              </a:tblGrid>
              <a:tr h="559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siz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BiCGstab seri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Jacobi seri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BiCGstab parall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Jacobi parall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4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0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0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0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0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3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27.9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792.7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0.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8.0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77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25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9482.4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3.2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Kartika"/>
                        </a:rPr>
                        <a:t>187.2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92" name="Picture 10" descr="C:\Users\dilip\AppData\Local\Microsoft\Windows\INetCache\Content.Word\bicgstab cpu vs gpu.jpg"/>
          <p:cNvPicPr/>
          <p:nvPr/>
        </p:nvPicPr>
        <p:blipFill>
          <a:blip r:embed="rId1"/>
          <a:srcRect l="1214" t="2093" r="0" b="0"/>
          <a:stretch/>
        </p:blipFill>
        <p:spPr>
          <a:xfrm>
            <a:off x="1066680" y="2730600"/>
            <a:ext cx="5410440" cy="2435040"/>
          </a:xfrm>
          <a:prstGeom prst="rect">
            <a:avLst/>
          </a:prstGeom>
          <a:ln w="0">
            <a:noFill/>
          </a:ln>
        </p:spPr>
      </p:pic>
      <p:sp>
        <p:nvSpPr>
          <p:cNvPr id="4093" name="TextBox 10"/>
          <p:cNvSpPr/>
          <p:nvPr/>
        </p:nvSpPr>
        <p:spPr>
          <a:xfrm>
            <a:off x="1523880" y="53341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262626"/>
                </a:solidFill>
                <a:latin typeface="Arial"/>
              </a:rPr>
              <a:t>Convergence for different matrix si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Straight Connector 4"/>
          <p:cNvSpPr/>
          <p:nvPr/>
        </p:nvSpPr>
        <p:spPr>
          <a:xfrm>
            <a:off x="0" y="5270400"/>
            <a:ext cx="807732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TextBox 6"/>
          <p:cNvSpPr/>
          <p:nvPr/>
        </p:nvSpPr>
        <p:spPr>
          <a:xfrm>
            <a:off x="380880" y="254160"/>
            <a:ext cx="83822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GPU Computing for Channel Flo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6" name="Content Placeholder 3" descr="C:\Users\Acer\Desktop\Samarth\channel.png"/>
          <p:cNvPicPr/>
          <p:nvPr/>
        </p:nvPicPr>
        <p:blipFill>
          <a:blip r:embed="rId1"/>
          <a:stretch/>
        </p:blipFill>
        <p:spPr>
          <a:xfrm>
            <a:off x="1143000" y="2222640"/>
            <a:ext cx="6659640" cy="30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7" name=""/>
          <p:cNvGraphicFramePr/>
          <p:nvPr/>
        </p:nvGraphicFramePr>
        <p:xfrm>
          <a:off x="1523880" y="952560"/>
          <a:ext cx="6248520" cy="1206360"/>
        </p:xfrm>
        <a:graphic>
          <a:graphicData uri="http://schemas.openxmlformats.org/drawingml/2006/table">
            <a:tbl>
              <a:tblPr/>
              <a:tblGrid>
                <a:gridCol w="771480"/>
                <a:gridCol w="739800"/>
                <a:gridCol w="768600"/>
                <a:gridCol w="758880"/>
                <a:gridCol w="723600"/>
                <a:gridCol w="887400"/>
                <a:gridCol w="559080"/>
                <a:gridCol w="1039680"/>
              </a:tblGrid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p 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h 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Elapsed (s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i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X 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.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X 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.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Straight Connector 4"/>
          <p:cNvSpPr/>
          <p:nvPr/>
        </p:nvSpPr>
        <p:spPr>
          <a:xfrm>
            <a:off x="0" y="5270400"/>
            <a:ext cx="807732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TextBox 6"/>
          <p:cNvSpPr/>
          <p:nvPr/>
        </p:nvSpPr>
        <p:spPr>
          <a:xfrm>
            <a:off x="380880" y="254160"/>
            <a:ext cx="838224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Lid Driven Ca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0" name="Content Placeholder 3" descr="C:\Users\Acer\Desktop\Samarth\stream.png"/>
          <p:cNvPicPr/>
          <p:nvPr/>
        </p:nvPicPr>
        <p:blipFill>
          <a:blip r:embed="rId1"/>
          <a:stretch/>
        </p:blipFill>
        <p:spPr>
          <a:xfrm>
            <a:off x="685800" y="1968480"/>
            <a:ext cx="3581280" cy="2666880"/>
          </a:xfrm>
          <a:prstGeom prst="rect">
            <a:avLst/>
          </a:prstGeom>
          <a:ln w="0">
            <a:noFill/>
          </a:ln>
        </p:spPr>
      </p:pic>
      <p:pic>
        <p:nvPicPr>
          <p:cNvPr id="4101" name="Picture 9" descr="C:\Users\Acer\Desktop\Samarth\validation.png"/>
          <p:cNvPicPr/>
          <p:nvPr/>
        </p:nvPicPr>
        <p:blipFill>
          <a:blip r:embed="rId2"/>
          <a:stretch/>
        </p:blipFill>
        <p:spPr>
          <a:xfrm>
            <a:off x="5029200" y="2286000"/>
            <a:ext cx="2971800" cy="20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02" name=""/>
          <p:cNvGraphicFramePr/>
          <p:nvPr/>
        </p:nvGraphicFramePr>
        <p:xfrm>
          <a:off x="838080" y="762120"/>
          <a:ext cx="7696440" cy="1143000"/>
        </p:xfrm>
        <a:graphic>
          <a:graphicData uri="http://schemas.openxmlformats.org/drawingml/2006/table">
            <a:tbl>
              <a:tblPr/>
              <a:tblGrid>
                <a:gridCol w="1008360"/>
                <a:gridCol w="865080"/>
                <a:gridCol w="984240"/>
                <a:gridCol w="947520"/>
                <a:gridCol w="838440"/>
                <a:gridCol w="1014480"/>
                <a:gridCol w="747720"/>
                <a:gridCol w="1290600"/>
              </a:tblGrid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p 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h 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Elapsed (s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i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X 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.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le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X 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3" name="TextBox 11"/>
          <p:cNvSpPr/>
          <p:nvPr/>
        </p:nvSpPr>
        <p:spPr>
          <a:xfrm>
            <a:off x="1143000" y="469908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garwal, S., Kumar, M., and Roy, S, Demonstration of GPGPU Accelerated Computational Fluid Dynamics Calculations, Intelligent Computing and Applications, Springer India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TextBox 1"/>
          <p:cNvSpPr/>
          <p:nvPr/>
        </p:nvSpPr>
        <p:spPr>
          <a:xfrm>
            <a:off x="3657600" y="31752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feren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TextBox 2"/>
          <p:cNvSpPr/>
          <p:nvPr/>
        </p:nvSpPr>
        <p:spPr>
          <a:xfrm>
            <a:off x="914400" y="952560"/>
            <a:ext cx="777240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- NVIDIA CUDA Programming Guid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- Programming Massively Parallel Processors, By David Kirk, NVIDIA Fellow, Wen-mei Hwu, Professor, University of Illino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- Course EC498, University of Illino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http://courses.engr.illinois.edu/ece498/al/syllabus.htm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- David A. Patterson, The Landscape of Parallel Computing Research: A View from Berkele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- PARALLEL PROCESSING WITH CUDA, Nvidia’s High-Performance Computing Platform Uses Massive Multithreading By Tom R.Halfhill Published in Microprocessor Report, {01/28/08-01}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www.nvidia.com/docs/IO/47906/220401_Reprint.pdf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-Paweł Macioł, Krzysztof Bana´s, Testing Tesla Architecture for Scientific Computing: the Performance of Matrix-Vector Product. Proceedings of the International Multiconference on Computer Science and Information Technology pp. 285–291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TextBox 2"/>
          <p:cNvSpPr/>
          <p:nvPr/>
        </p:nvSpPr>
        <p:spPr>
          <a:xfrm>
            <a:off x="1066680" y="1904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400" spc="-1" strike="noStrike">
                <a:solidFill>
                  <a:srgbClr val="404040"/>
                </a:solidFill>
                <a:latin typeface="Arial"/>
              </a:rPr>
              <a:t>GPU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3" name="Picture 2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864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4" name="Picture 2" descr=""/>
          <p:cNvPicPr/>
          <p:nvPr/>
        </p:nvPicPr>
        <p:blipFill>
          <a:blip r:embed="rId1"/>
          <a:stretch/>
        </p:blipFill>
        <p:spPr>
          <a:xfrm>
            <a:off x="5405400" y="1968480"/>
            <a:ext cx="3205080" cy="3429000"/>
          </a:xfrm>
          <a:prstGeom prst="rect">
            <a:avLst/>
          </a:prstGeom>
          <a:ln w="0">
            <a:noFill/>
          </a:ln>
        </p:spPr>
      </p:pic>
      <p:sp>
        <p:nvSpPr>
          <p:cNvPr id="3385" name="Text Box 3"/>
          <p:cNvSpPr/>
          <p:nvPr/>
        </p:nvSpPr>
        <p:spPr>
          <a:xfrm>
            <a:off x="5181480" y="95256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GPGPU Using C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6" name="Picture 4" descr=""/>
          <p:cNvPicPr/>
          <p:nvPr/>
        </p:nvPicPr>
        <p:blipFill>
          <a:blip r:embed="rId2"/>
          <a:stretch/>
        </p:blipFill>
        <p:spPr>
          <a:xfrm>
            <a:off x="657360" y="2063880"/>
            <a:ext cx="3381120" cy="3333600"/>
          </a:xfrm>
          <a:prstGeom prst="rect">
            <a:avLst/>
          </a:prstGeom>
          <a:ln w="0">
            <a:noFill/>
          </a:ln>
        </p:spPr>
      </p:pic>
      <p:sp>
        <p:nvSpPr>
          <p:cNvPr id="3387" name="Text Box 5"/>
          <p:cNvSpPr/>
          <p:nvPr/>
        </p:nvSpPr>
        <p:spPr>
          <a:xfrm>
            <a:off x="990720" y="10796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Traditional GPGP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Text Box 2"/>
          <p:cNvSpPr/>
          <p:nvPr/>
        </p:nvSpPr>
        <p:spPr>
          <a:xfrm>
            <a:off x="3657600" y="698400"/>
            <a:ext cx="556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92d050"/>
                </a:solidFill>
                <a:latin typeface="Arial"/>
              </a:rPr>
              <a:t>MEMORI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9" name="Picture 4" descr=""/>
          <p:cNvPicPr/>
          <p:nvPr/>
        </p:nvPicPr>
        <p:blipFill>
          <a:blip r:embed="rId1"/>
          <a:stretch/>
        </p:blipFill>
        <p:spPr>
          <a:xfrm>
            <a:off x="1089000" y="1714680"/>
            <a:ext cx="6964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0" name="Picture 2" descr=""/>
          <p:cNvPicPr/>
          <p:nvPr/>
        </p:nvPicPr>
        <p:blipFill>
          <a:blip r:embed="rId1"/>
          <a:stretch/>
        </p:blipFill>
        <p:spPr>
          <a:xfrm>
            <a:off x="682560" y="1735200"/>
            <a:ext cx="8232840" cy="3217680"/>
          </a:xfrm>
          <a:prstGeom prst="rect">
            <a:avLst/>
          </a:prstGeom>
          <a:ln w="0">
            <a:noFill/>
          </a:ln>
        </p:spPr>
      </p:pic>
      <p:sp>
        <p:nvSpPr>
          <p:cNvPr id="3391" name="Text Box 4"/>
          <p:cNvSpPr/>
          <p:nvPr/>
        </p:nvSpPr>
        <p:spPr>
          <a:xfrm>
            <a:off x="1981080" y="660240"/>
            <a:ext cx="6248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2d050"/>
                </a:solidFill>
                <a:latin typeface="Arial"/>
              </a:rPr>
              <a:t>Features of CUDA mem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Text Box 1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47245-332A-4640-9380-716E96CB9F2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Text Box 2"/>
          <p:cNvSpPr/>
          <p:nvPr/>
        </p:nvSpPr>
        <p:spPr>
          <a:xfrm>
            <a:off x="762120" y="507960"/>
            <a:ext cx="784836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i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vice  -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DejaVu Sans"/>
              </a:rPr>
              <a:t>G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ost – Host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DejaVu Sans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Kernel – Part of the code that runs in G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Global memory  - data available to all threads and can be copied directly to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RAM- Device or GPU 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RAM – on chip shared 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96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mory bandwid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Text Box 1"/>
          <p:cNvSpPr/>
          <p:nvPr/>
        </p:nvSpPr>
        <p:spPr>
          <a:xfrm>
            <a:off x="8153280" y="53514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FFBB-FF22-4920-9053-F8C62DC15664}" type="slidenum">
              <a:rPr b="0" lang="en-US" sz="1000" spc="-1" strike="noStrike">
                <a:solidFill>
                  <a:srgbClr val="227a8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Text Box 2"/>
          <p:cNvSpPr/>
          <p:nvPr/>
        </p:nvSpPr>
        <p:spPr>
          <a:xfrm>
            <a:off x="1828800" y="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b050"/>
                </a:solidFill>
                <a:latin typeface="Arial"/>
              </a:rPr>
              <a:t>CUDA Programming Model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533520" y="952560"/>
            <a:ext cx="86104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host+device app C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erial or modestly parallel part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ighly parallel part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SPMD kernel C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7" name="Text Box 4"/>
          <p:cNvSpPr/>
          <p:nvPr/>
        </p:nvSpPr>
        <p:spPr>
          <a:xfrm>
            <a:off x="1346040" y="2492280"/>
            <a:ext cx="226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rial Code (host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8" name="Group 5"/>
          <p:cNvGrpSpPr/>
          <p:nvPr/>
        </p:nvGrpSpPr>
        <p:grpSpPr>
          <a:xfrm>
            <a:off x="4471920" y="3036960"/>
            <a:ext cx="3924360" cy="693720"/>
            <a:chOff x="4471920" y="3036960"/>
            <a:chExt cx="3924360" cy="693720"/>
          </a:xfrm>
        </p:grpSpPr>
        <p:sp>
          <p:nvSpPr>
            <p:cNvPr id="3399" name="Rectangle 6"/>
            <p:cNvSpPr/>
            <p:nvPr/>
          </p:nvSpPr>
          <p:spPr>
            <a:xfrm>
              <a:off x="4471920" y="3036960"/>
              <a:ext cx="3924360" cy="69372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0" name="Text Box 7"/>
            <p:cNvSpPr/>
            <p:nvPr/>
          </p:nvSpPr>
          <p:spPr>
            <a:xfrm>
              <a:off x="7031160" y="330300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227a8f"/>
                  </a:solidFill>
                  <a:latin typeface="Arial"/>
                  <a:ea typeface="MS PGothic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1" name="Group 8"/>
            <p:cNvGrpSpPr/>
            <p:nvPr/>
          </p:nvGrpSpPr>
          <p:grpSpPr>
            <a:xfrm>
              <a:off x="4559400" y="3093480"/>
              <a:ext cx="772920" cy="577440"/>
              <a:chOff x="4559400" y="3093480"/>
              <a:chExt cx="772920" cy="577440"/>
            </a:xfrm>
          </p:grpSpPr>
          <p:sp>
            <p:nvSpPr>
              <p:cNvPr id="3402" name="Text Box 9"/>
              <p:cNvSpPr/>
              <p:nvPr/>
            </p:nvSpPr>
            <p:spPr>
              <a:xfrm>
                <a:off x="4559400" y="309348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3" name="Group 10"/>
              <p:cNvGrpSpPr/>
              <p:nvPr/>
            </p:nvGrpSpPr>
            <p:grpSpPr>
              <a:xfrm>
                <a:off x="4633560" y="3162240"/>
                <a:ext cx="614160" cy="431280"/>
                <a:chOff x="4633560" y="3162240"/>
                <a:chExt cx="614160" cy="431280"/>
              </a:xfrm>
            </p:grpSpPr>
            <p:sp>
              <p:nvSpPr>
                <p:cNvPr id="3404" name="AutoShape 11"/>
                <p:cNvSpPr/>
                <p:nvPr/>
              </p:nvSpPr>
              <p:spPr>
                <a:xfrm>
                  <a:off x="4633560" y="3162240"/>
                  <a:ext cx="112320" cy="431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5" name="AutoShape 12"/>
                <p:cNvSpPr/>
                <p:nvPr/>
              </p:nvSpPr>
              <p:spPr>
                <a:xfrm>
                  <a:off x="468720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6" name="AutoShape 13"/>
                <p:cNvSpPr/>
                <p:nvPr/>
              </p:nvSpPr>
              <p:spPr>
                <a:xfrm>
                  <a:off x="4736520" y="3162240"/>
                  <a:ext cx="112320" cy="43128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7" name="AutoShape 14"/>
                <p:cNvSpPr/>
                <p:nvPr/>
              </p:nvSpPr>
              <p:spPr>
                <a:xfrm>
                  <a:off x="478836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8" name="AutoShape 15"/>
                <p:cNvSpPr/>
                <p:nvPr/>
              </p:nvSpPr>
              <p:spPr>
                <a:xfrm>
                  <a:off x="483588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9" name="AutoShape 16"/>
                <p:cNvSpPr/>
                <p:nvPr/>
              </p:nvSpPr>
              <p:spPr>
                <a:xfrm>
                  <a:off x="488844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0" name="AutoShape 17"/>
                <p:cNvSpPr/>
                <p:nvPr/>
              </p:nvSpPr>
              <p:spPr>
                <a:xfrm>
                  <a:off x="493596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1" name="AutoShape 18"/>
                <p:cNvSpPr/>
                <p:nvPr/>
              </p:nvSpPr>
              <p:spPr>
                <a:xfrm>
                  <a:off x="498636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2" name="AutoShape 19"/>
                <p:cNvSpPr/>
                <p:nvPr/>
              </p:nvSpPr>
              <p:spPr>
                <a:xfrm>
                  <a:off x="503568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3" name="AutoShape 20"/>
                <p:cNvSpPr/>
                <p:nvPr/>
              </p:nvSpPr>
              <p:spPr>
                <a:xfrm>
                  <a:off x="508644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4" name="AutoShape 21"/>
                <p:cNvSpPr/>
                <p:nvPr/>
              </p:nvSpPr>
              <p:spPr>
                <a:xfrm>
                  <a:off x="5136840" y="3162240"/>
                  <a:ext cx="110880" cy="43128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5" name="Group 22"/>
            <p:cNvGrpSpPr/>
            <p:nvPr/>
          </p:nvGrpSpPr>
          <p:grpSpPr>
            <a:xfrm>
              <a:off x="5407200" y="3093480"/>
              <a:ext cx="772920" cy="577440"/>
              <a:chOff x="5407200" y="3093480"/>
              <a:chExt cx="772920" cy="577440"/>
            </a:xfrm>
          </p:grpSpPr>
          <p:sp>
            <p:nvSpPr>
              <p:cNvPr id="3416" name="Text Box 23"/>
              <p:cNvSpPr/>
              <p:nvPr/>
            </p:nvSpPr>
            <p:spPr>
              <a:xfrm>
                <a:off x="5407200" y="309348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7" name="Group 24"/>
              <p:cNvGrpSpPr/>
              <p:nvPr/>
            </p:nvGrpSpPr>
            <p:grpSpPr>
              <a:xfrm>
                <a:off x="5481360" y="3162240"/>
                <a:ext cx="614160" cy="431280"/>
                <a:chOff x="5481360" y="3162240"/>
                <a:chExt cx="614160" cy="431280"/>
              </a:xfrm>
            </p:grpSpPr>
            <p:sp>
              <p:nvSpPr>
                <p:cNvPr id="3418" name="AutoShape 25"/>
                <p:cNvSpPr/>
                <p:nvPr/>
              </p:nvSpPr>
              <p:spPr>
                <a:xfrm>
                  <a:off x="548136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9" name="AutoShape 26"/>
                <p:cNvSpPr/>
                <p:nvPr/>
              </p:nvSpPr>
              <p:spPr>
                <a:xfrm>
                  <a:off x="55350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0" name="AutoShape 27"/>
                <p:cNvSpPr/>
                <p:nvPr/>
              </p:nvSpPr>
              <p:spPr>
                <a:xfrm>
                  <a:off x="55836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AutoShape 28"/>
                <p:cNvSpPr/>
                <p:nvPr/>
              </p:nvSpPr>
              <p:spPr>
                <a:xfrm>
                  <a:off x="56358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AutoShape 29"/>
                <p:cNvSpPr/>
                <p:nvPr/>
              </p:nvSpPr>
              <p:spPr>
                <a:xfrm>
                  <a:off x="56851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AutoShape 30"/>
                <p:cNvSpPr/>
                <p:nvPr/>
              </p:nvSpPr>
              <p:spPr>
                <a:xfrm>
                  <a:off x="57355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AutoShape 31"/>
                <p:cNvSpPr/>
                <p:nvPr/>
              </p:nvSpPr>
              <p:spPr>
                <a:xfrm>
                  <a:off x="57830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AutoShape 32"/>
                <p:cNvSpPr/>
                <p:nvPr/>
              </p:nvSpPr>
              <p:spPr>
                <a:xfrm>
                  <a:off x="58334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AutoShape 33"/>
                <p:cNvSpPr/>
                <p:nvPr/>
              </p:nvSpPr>
              <p:spPr>
                <a:xfrm>
                  <a:off x="58838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AutoShape 34"/>
                <p:cNvSpPr/>
                <p:nvPr/>
              </p:nvSpPr>
              <p:spPr>
                <a:xfrm>
                  <a:off x="59346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AutoShape 35"/>
                <p:cNvSpPr/>
                <p:nvPr/>
              </p:nvSpPr>
              <p:spPr>
                <a:xfrm>
                  <a:off x="598356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9" name="Group 36"/>
            <p:cNvGrpSpPr/>
            <p:nvPr/>
          </p:nvGrpSpPr>
          <p:grpSpPr>
            <a:xfrm>
              <a:off x="7531200" y="3093480"/>
              <a:ext cx="772920" cy="577440"/>
              <a:chOff x="7531200" y="3093480"/>
              <a:chExt cx="772920" cy="577440"/>
            </a:xfrm>
          </p:grpSpPr>
          <p:sp>
            <p:nvSpPr>
              <p:cNvPr id="3430" name="Text Box 37"/>
              <p:cNvSpPr/>
              <p:nvPr/>
            </p:nvSpPr>
            <p:spPr>
              <a:xfrm>
                <a:off x="7531200" y="3093480"/>
                <a:ext cx="77292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1" name="Group 38"/>
              <p:cNvGrpSpPr/>
              <p:nvPr/>
            </p:nvGrpSpPr>
            <p:grpSpPr>
              <a:xfrm>
                <a:off x="7606800" y="3162240"/>
                <a:ext cx="614160" cy="431280"/>
                <a:chOff x="7606800" y="3162240"/>
                <a:chExt cx="614160" cy="431280"/>
              </a:xfrm>
            </p:grpSpPr>
            <p:sp>
              <p:nvSpPr>
                <p:cNvPr id="3432" name="AutoShape 39"/>
                <p:cNvSpPr/>
                <p:nvPr/>
              </p:nvSpPr>
              <p:spPr>
                <a:xfrm>
                  <a:off x="76068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AutoShape 40"/>
                <p:cNvSpPr/>
                <p:nvPr/>
              </p:nvSpPr>
              <p:spPr>
                <a:xfrm>
                  <a:off x="76622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AutoShape 41"/>
                <p:cNvSpPr/>
                <p:nvPr/>
              </p:nvSpPr>
              <p:spPr>
                <a:xfrm>
                  <a:off x="7707960" y="3162240"/>
                  <a:ext cx="113400" cy="431280"/>
                </a:xfrm>
                <a:custGeom>
                  <a:avLst/>
                  <a:gdLst>
                    <a:gd name="textAreaLeft" fmla="*/ 0 w 113400"/>
                    <a:gd name="textAreaRight" fmla="*/ 113760 w 11340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AutoShape 42"/>
                <p:cNvSpPr/>
                <p:nvPr/>
              </p:nvSpPr>
              <p:spPr>
                <a:xfrm>
                  <a:off x="77598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AutoShape 43"/>
                <p:cNvSpPr/>
                <p:nvPr/>
              </p:nvSpPr>
              <p:spPr>
                <a:xfrm>
                  <a:off x="78091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AutoShape 44"/>
                <p:cNvSpPr/>
                <p:nvPr/>
              </p:nvSpPr>
              <p:spPr>
                <a:xfrm>
                  <a:off x="786096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AutoShape 45"/>
                <p:cNvSpPr/>
                <p:nvPr/>
              </p:nvSpPr>
              <p:spPr>
                <a:xfrm>
                  <a:off x="79099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AutoShape 46"/>
                <p:cNvSpPr/>
                <p:nvPr/>
              </p:nvSpPr>
              <p:spPr>
                <a:xfrm>
                  <a:off x="79603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AutoShape 47"/>
                <p:cNvSpPr/>
                <p:nvPr/>
              </p:nvSpPr>
              <p:spPr>
                <a:xfrm>
                  <a:off x="80096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AutoShape 48"/>
                <p:cNvSpPr/>
                <p:nvPr/>
              </p:nvSpPr>
              <p:spPr>
                <a:xfrm>
                  <a:off x="80600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AutoShape 49"/>
                <p:cNvSpPr/>
                <p:nvPr/>
              </p:nvSpPr>
              <p:spPr>
                <a:xfrm>
                  <a:off x="81090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3" name="Group 50"/>
            <p:cNvGrpSpPr/>
            <p:nvPr/>
          </p:nvGrpSpPr>
          <p:grpSpPr>
            <a:xfrm>
              <a:off x="6256440" y="3093480"/>
              <a:ext cx="771480" cy="577440"/>
              <a:chOff x="6256440" y="3093480"/>
              <a:chExt cx="771480" cy="577440"/>
            </a:xfrm>
          </p:grpSpPr>
          <p:sp>
            <p:nvSpPr>
              <p:cNvPr id="3444" name="Text Box 51"/>
              <p:cNvSpPr/>
              <p:nvPr/>
            </p:nvSpPr>
            <p:spPr>
              <a:xfrm>
                <a:off x="6256440" y="3093480"/>
                <a:ext cx="771480" cy="57744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45" name="Group 52"/>
              <p:cNvGrpSpPr/>
              <p:nvPr/>
            </p:nvGrpSpPr>
            <p:grpSpPr>
              <a:xfrm>
                <a:off x="6330600" y="3162240"/>
                <a:ext cx="612720" cy="431280"/>
                <a:chOff x="6330600" y="3162240"/>
                <a:chExt cx="612720" cy="431280"/>
              </a:xfrm>
            </p:grpSpPr>
            <p:sp>
              <p:nvSpPr>
                <p:cNvPr id="3446" name="AutoShape 53"/>
                <p:cNvSpPr/>
                <p:nvPr/>
              </p:nvSpPr>
              <p:spPr>
                <a:xfrm>
                  <a:off x="633060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AutoShape 54"/>
                <p:cNvSpPr/>
                <p:nvPr/>
              </p:nvSpPr>
              <p:spPr>
                <a:xfrm>
                  <a:off x="638568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AutoShape 55"/>
                <p:cNvSpPr/>
                <p:nvPr/>
              </p:nvSpPr>
              <p:spPr>
                <a:xfrm>
                  <a:off x="64346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AutoShape 56"/>
                <p:cNvSpPr/>
                <p:nvPr/>
              </p:nvSpPr>
              <p:spPr>
                <a:xfrm>
                  <a:off x="648504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AutoShape 57"/>
                <p:cNvSpPr/>
                <p:nvPr/>
              </p:nvSpPr>
              <p:spPr>
                <a:xfrm>
                  <a:off x="653436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AutoShape 58"/>
                <p:cNvSpPr/>
                <p:nvPr/>
              </p:nvSpPr>
              <p:spPr>
                <a:xfrm>
                  <a:off x="658332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AutoShape 59"/>
                <p:cNvSpPr/>
                <p:nvPr/>
              </p:nvSpPr>
              <p:spPr>
                <a:xfrm>
                  <a:off x="663408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AutoShape 60"/>
                <p:cNvSpPr/>
                <p:nvPr/>
              </p:nvSpPr>
              <p:spPr>
                <a:xfrm>
                  <a:off x="668448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AutoShape 61"/>
                <p:cNvSpPr/>
                <p:nvPr/>
              </p:nvSpPr>
              <p:spPr>
                <a:xfrm>
                  <a:off x="673488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AutoShape 62"/>
                <p:cNvSpPr/>
                <p:nvPr/>
              </p:nvSpPr>
              <p:spPr>
                <a:xfrm>
                  <a:off x="6785640" y="3162240"/>
                  <a:ext cx="107280" cy="4312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AutoShape 63"/>
                <p:cNvSpPr/>
                <p:nvPr/>
              </p:nvSpPr>
              <p:spPr>
                <a:xfrm>
                  <a:off x="6831360" y="3162240"/>
                  <a:ext cx="111960" cy="43128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280"/>
                    <a:gd name="textAreaBottom" fmla="*/ 431640 h 43128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57" name="Group 64"/>
          <p:cNvGrpSpPr/>
          <p:nvPr/>
        </p:nvGrpSpPr>
        <p:grpSpPr>
          <a:xfrm>
            <a:off x="4471920" y="4638600"/>
            <a:ext cx="3924360" cy="692280"/>
            <a:chOff x="4471920" y="4638600"/>
            <a:chExt cx="3924360" cy="692280"/>
          </a:xfrm>
        </p:grpSpPr>
        <p:sp>
          <p:nvSpPr>
            <p:cNvPr id="3458" name="Rectangle 65"/>
            <p:cNvSpPr/>
            <p:nvPr/>
          </p:nvSpPr>
          <p:spPr>
            <a:xfrm>
              <a:off x="4471920" y="4638600"/>
              <a:ext cx="3924360" cy="69228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Text Box 66"/>
            <p:cNvSpPr/>
            <p:nvPr/>
          </p:nvSpPr>
          <p:spPr>
            <a:xfrm>
              <a:off x="7029720" y="490572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227a8f"/>
                  </a:solidFill>
                  <a:latin typeface="Arial"/>
                  <a:ea typeface="MS PGothic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0" name="Group 67"/>
            <p:cNvGrpSpPr/>
            <p:nvPr/>
          </p:nvGrpSpPr>
          <p:grpSpPr>
            <a:xfrm>
              <a:off x="4559400" y="4695480"/>
              <a:ext cx="772920" cy="577080"/>
              <a:chOff x="4559400" y="4695480"/>
              <a:chExt cx="772920" cy="577080"/>
            </a:xfrm>
          </p:grpSpPr>
          <p:sp>
            <p:nvSpPr>
              <p:cNvPr id="3461" name="Text Box 68"/>
              <p:cNvSpPr/>
              <p:nvPr/>
            </p:nvSpPr>
            <p:spPr>
              <a:xfrm>
                <a:off x="4559400" y="4695480"/>
                <a:ext cx="772920" cy="5770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2" name="Group 69"/>
              <p:cNvGrpSpPr/>
              <p:nvPr/>
            </p:nvGrpSpPr>
            <p:grpSpPr>
              <a:xfrm>
                <a:off x="4633560" y="4762800"/>
                <a:ext cx="614160" cy="431640"/>
                <a:chOff x="4633560" y="4762800"/>
                <a:chExt cx="614160" cy="431640"/>
              </a:xfrm>
            </p:grpSpPr>
            <p:sp>
              <p:nvSpPr>
                <p:cNvPr id="3463" name="AutoShape 70"/>
                <p:cNvSpPr/>
                <p:nvPr/>
              </p:nvSpPr>
              <p:spPr>
                <a:xfrm>
                  <a:off x="4633560" y="4762800"/>
                  <a:ext cx="112320" cy="43164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AutoShape 71"/>
                <p:cNvSpPr/>
                <p:nvPr/>
              </p:nvSpPr>
              <p:spPr>
                <a:xfrm>
                  <a:off x="468720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AutoShape 72"/>
                <p:cNvSpPr/>
                <p:nvPr/>
              </p:nvSpPr>
              <p:spPr>
                <a:xfrm>
                  <a:off x="4736520" y="4762800"/>
                  <a:ext cx="112320" cy="43164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AutoShape 73"/>
                <p:cNvSpPr/>
                <p:nvPr/>
              </p:nvSpPr>
              <p:spPr>
                <a:xfrm>
                  <a:off x="478836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AutoShape 74"/>
                <p:cNvSpPr/>
                <p:nvPr/>
              </p:nvSpPr>
              <p:spPr>
                <a:xfrm>
                  <a:off x="483588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AutoShape 75"/>
                <p:cNvSpPr/>
                <p:nvPr/>
              </p:nvSpPr>
              <p:spPr>
                <a:xfrm>
                  <a:off x="488844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AutoShape 76"/>
                <p:cNvSpPr/>
                <p:nvPr/>
              </p:nvSpPr>
              <p:spPr>
                <a:xfrm>
                  <a:off x="493596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0" name="AutoShape 77"/>
                <p:cNvSpPr/>
                <p:nvPr/>
              </p:nvSpPr>
              <p:spPr>
                <a:xfrm>
                  <a:off x="498636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1" name="AutoShape 78"/>
                <p:cNvSpPr/>
                <p:nvPr/>
              </p:nvSpPr>
              <p:spPr>
                <a:xfrm>
                  <a:off x="503568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2" name="AutoShape 79"/>
                <p:cNvSpPr/>
                <p:nvPr/>
              </p:nvSpPr>
              <p:spPr>
                <a:xfrm>
                  <a:off x="508644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3" name="AutoShape 80"/>
                <p:cNvSpPr/>
                <p:nvPr/>
              </p:nvSpPr>
              <p:spPr>
                <a:xfrm>
                  <a:off x="5136840" y="4762800"/>
                  <a:ext cx="110880" cy="4316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4" name="Group 81"/>
            <p:cNvGrpSpPr/>
            <p:nvPr/>
          </p:nvGrpSpPr>
          <p:grpSpPr>
            <a:xfrm>
              <a:off x="5407200" y="4695480"/>
              <a:ext cx="772920" cy="577080"/>
              <a:chOff x="5407200" y="4695480"/>
              <a:chExt cx="772920" cy="577080"/>
            </a:xfrm>
          </p:grpSpPr>
          <p:sp>
            <p:nvSpPr>
              <p:cNvPr id="3475" name="Text Box 82"/>
              <p:cNvSpPr/>
              <p:nvPr/>
            </p:nvSpPr>
            <p:spPr>
              <a:xfrm>
                <a:off x="5407200" y="4695480"/>
                <a:ext cx="772920" cy="5770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6" name="Group 83"/>
              <p:cNvGrpSpPr/>
              <p:nvPr/>
            </p:nvGrpSpPr>
            <p:grpSpPr>
              <a:xfrm>
                <a:off x="5481360" y="4762800"/>
                <a:ext cx="614160" cy="431640"/>
                <a:chOff x="5481360" y="4762800"/>
                <a:chExt cx="614160" cy="431640"/>
              </a:xfrm>
            </p:grpSpPr>
            <p:sp>
              <p:nvSpPr>
                <p:cNvPr id="3477" name="AutoShape 84"/>
                <p:cNvSpPr/>
                <p:nvPr/>
              </p:nvSpPr>
              <p:spPr>
                <a:xfrm>
                  <a:off x="548136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8" name="AutoShape 85"/>
                <p:cNvSpPr/>
                <p:nvPr/>
              </p:nvSpPr>
              <p:spPr>
                <a:xfrm>
                  <a:off x="55350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9" name="AutoShape 86"/>
                <p:cNvSpPr/>
                <p:nvPr/>
              </p:nvSpPr>
              <p:spPr>
                <a:xfrm>
                  <a:off x="55836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0" name="AutoShape 87"/>
                <p:cNvSpPr/>
                <p:nvPr/>
              </p:nvSpPr>
              <p:spPr>
                <a:xfrm>
                  <a:off x="56358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1" name="AutoShape 88"/>
                <p:cNvSpPr/>
                <p:nvPr/>
              </p:nvSpPr>
              <p:spPr>
                <a:xfrm>
                  <a:off x="56851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2" name="AutoShape 89"/>
                <p:cNvSpPr/>
                <p:nvPr/>
              </p:nvSpPr>
              <p:spPr>
                <a:xfrm>
                  <a:off x="57355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3" name="AutoShape 90"/>
                <p:cNvSpPr/>
                <p:nvPr/>
              </p:nvSpPr>
              <p:spPr>
                <a:xfrm>
                  <a:off x="57830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4" name="AutoShape 91"/>
                <p:cNvSpPr/>
                <p:nvPr/>
              </p:nvSpPr>
              <p:spPr>
                <a:xfrm>
                  <a:off x="58334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AutoShape 92"/>
                <p:cNvSpPr/>
                <p:nvPr/>
              </p:nvSpPr>
              <p:spPr>
                <a:xfrm>
                  <a:off x="58838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AutoShape 93"/>
                <p:cNvSpPr/>
                <p:nvPr/>
              </p:nvSpPr>
              <p:spPr>
                <a:xfrm>
                  <a:off x="59346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AutoShape 94"/>
                <p:cNvSpPr/>
                <p:nvPr/>
              </p:nvSpPr>
              <p:spPr>
                <a:xfrm>
                  <a:off x="598356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8" name="Group 95"/>
            <p:cNvGrpSpPr/>
            <p:nvPr/>
          </p:nvGrpSpPr>
          <p:grpSpPr>
            <a:xfrm>
              <a:off x="7531200" y="4695480"/>
              <a:ext cx="772920" cy="577080"/>
              <a:chOff x="7531200" y="4695480"/>
              <a:chExt cx="772920" cy="577080"/>
            </a:xfrm>
          </p:grpSpPr>
          <p:sp>
            <p:nvSpPr>
              <p:cNvPr id="3489" name="Text Box 96"/>
              <p:cNvSpPr/>
              <p:nvPr/>
            </p:nvSpPr>
            <p:spPr>
              <a:xfrm>
                <a:off x="7531200" y="4695480"/>
                <a:ext cx="772920" cy="5770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90" name="Group 97"/>
              <p:cNvGrpSpPr/>
              <p:nvPr/>
            </p:nvGrpSpPr>
            <p:grpSpPr>
              <a:xfrm>
                <a:off x="7606800" y="4762800"/>
                <a:ext cx="614160" cy="431640"/>
                <a:chOff x="7606800" y="4762800"/>
                <a:chExt cx="614160" cy="431640"/>
              </a:xfrm>
            </p:grpSpPr>
            <p:sp>
              <p:nvSpPr>
                <p:cNvPr id="3491" name="AutoShape 98"/>
                <p:cNvSpPr/>
                <p:nvPr/>
              </p:nvSpPr>
              <p:spPr>
                <a:xfrm>
                  <a:off x="76068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2" name="AutoShape 99"/>
                <p:cNvSpPr/>
                <p:nvPr/>
              </p:nvSpPr>
              <p:spPr>
                <a:xfrm>
                  <a:off x="76622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3" name="AutoShape 100"/>
                <p:cNvSpPr/>
                <p:nvPr/>
              </p:nvSpPr>
              <p:spPr>
                <a:xfrm>
                  <a:off x="7707960" y="4762800"/>
                  <a:ext cx="113400" cy="431640"/>
                </a:xfrm>
                <a:custGeom>
                  <a:avLst/>
                  <a:gdLst>
                    <a:gd name="textAreaLeft" fmla="*/ 0 w 113400"/>
                    <a:gd name="textAreaRight" fmla="*/ 113760 w 11340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4" name="AutoShape 101"/>
                <p:cNvSpPr/>
                <p:nvPr/>
              </p:nvSpPr>
              <p:spPr>
                <a:xfrm>
                  <a:off x="77598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5" name="AutoShape 102"/>
                <p:cNvSpPr/>
                <p:nvPr/>
              </p:nvSpPr>
              <p:spPr>
                <a:xfrm>
                  <a:off x="78091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AutoShape 103"/>
                <p:cNvSpPr/>
                <p:nvPr/>
              </p:nvSpPr>
              <p:spPr>
                <a:xfrm>
                  <a:off x="786096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7" name="AutoShape 104"/>
                <p:cNvSpPr/>
                <p:nvPr/>
              </p:nvSpPr>
              <p:spPr>
                <a:xfrm>
                  <a:off x="79099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8" name="AutoShape 105"/>
                <p:cNvSpPr/>
                <p:nvPr/>
              </p:nvSpPr>
              <p:spPr>
                <a:xfrm>
                  <a:off x="79603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9" name="AutoShape 106"/>
                <p:cNvSpPr/>
                <p:nvPr/>
              </p:nvSpPr>
              <p:spPr>
                <a:xfrm>
                  <a:off x="80096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AutoShape 107"/>
                <p:cNvSpPr/>
                <p:nvPr/>
              </p:nvSpPr>
              <p:spPr>
                <a:xfrm>
                  <a:off x="80600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AutoShape 108"/>
                <p:cNvSpPr/>
                <p:nvPr/>
              </p:nvSpPr>
              <p:spPr>
                <a:xfrm>
                  <a:off x="81090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2" name="Group 109"/>
            <p:cNvGrpSpPr/>
            <p:nvPr/>
          </p:nvGrpSpPr>
          <p:grpSpPr>
            <a:xfrm>
              <a:off x="6256440" y="4695480"/>
              <a:ext cx="771480" cy="577080"/>
              <a:chOff x="6256440" y="4695480"/>
              <a:chExt cx="771480" cy="577080"/>
            </a:xfrm>
          </p:grpSpPr>
          <p:sp>
            <p:nvSpPr>
              <p:cNvPr id="3503" name="Text Box 110"/>
              <p:cNvSpPr/>
              <p:nvPr/>
            </p:nvSpPr>
            <p:spPr>
              <a:xfrm>
                <a:off x="6256440" y="4695480"/>
                <a:ext cx="771480" cy="5770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4" name="Group 111"/>
              <p:cNvGrpSpPr/>
              <p:nvPr/>
            </p:nvGrpSpPr>
            <p:grpSpPr>
              <a:xfrm>
                <a:off x="6330600" y="4762800"/>
                <a:ext cx="612720" cy="431640"/>
                <a:chOff x="6330600" y="4762800"/>
                <a:chExt cx="612720" cy="431640"/>
              </a:xfrm>
            </p:grpSpPr>
            <p:sp>
              <p:nvSpPr>
                <p:cNvPr id="3505" name="AutoShape 112"/>
                <p:cNvSpPr/>
                <p:nvPr/>
              </p:nvSpPr>
              <p:spPr>
                <a:xfrm>
                  <a:off x="633060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6" name="AutoShape 113"/>
                <p:cNvSpPr/>
                <p:nvPr/>
              </p:nvSpPr>
              <p:spPr>
                <a:xfrm>
                  <a:off x="638568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7" name="AutoShape 114"/>
                <p:cNvSpPr/>
                <p:nvPr/>
              </p:nvSpPr>
              <p:spPr>
                <a:xfrm>
                  <a:off x="64346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8" name="AutoShape 115"/>
                <p:cNvSpPr/>
                <p:nvPr/>
              </p:nvSpPr>
              <p:spPr>
                <a:xfrm>
                  <a:off x="648504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9" name="AutoShape 116"/>
                <p:cNvSpPr/>
                <p:nvPr/>
              </p:nvSpPr>
              <p:spPr>
                <a:xfrm>
                  <a:off x="653436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AutoShape 117"/>
                <p:cNvSpPr/>
                <p:nvPr/>
              </p:nvSpPr>
              <p:spPr>
                <a:xfrm>
                  <a:off x="658332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AutoShape 118"/>
                <p:cNvSpPr/>
                <p:nvPr/>
              </p:nvSpPr>
              <p:spPr>
                <a:xfrm>
                  <a:off x="663408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AutoShape 119"/>
                <p:cNvSpPr/>
                <p:nvPr/>
              </p:nvSpPr>
              <p:spPr>
                <a:xfrm>
                  <a:off x="668448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AutoShape 120"/>
                <p:cNvSpPr/>
                <p:nvPr/>
              </p:nvSpPr>
              <p:spPr>
                <a:xfrm>
                  <a:off x="673488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4" name="AutoShape 121"/>
                <p:cNvSpPr/>
                <p:nvPr/>
              </p:nvSpPr>
              <p:spPr>
                <a:xfrm>
                  <a:off x="6785640" y="4762800"/>
                  <a:ext cx="107280" cy="43164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5" name="AutoShape 122"/>
                <p:cNvSpPr/>
                <p:nvPr/>
              </p:nvSpPr>
              <p:spPr>
                <a:xfrm>
                  <a:off x="6831360" y="4762800"/>
                  <a:ext cx="111960" cy="43164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431640"/>
                    <a:gd name="textAreaBottom" fmla="*/ 432000 h 431640"/>
                  </a:gdLst>
                  <a:ahLst/>
                  <a:rect l="textAreaLeft" t="textAreaTop" r="textAreaRight" b="textAreaBottom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6" name="Text Box 123"/>
          <p:cNvSpPr/>
          <p:nvPr/>
        </p:nvSpPr>
        <p:spPr>
          <a:xfrm>
            <a:off x="546120" y="3095640"/>
            <a:ext cx="386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llel Kernel (device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KernelA&lt;&lt;&lt; nBlk, nTid &gt;&gt;&gt;(ar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AutoShape 124"/>
          <p:cNvSpPr/>
          <p:nvPr/>
        </p:nvSpPr>
        <p:spPr>
          <a:xfrm>
            <a:off x="6399360" y="2290680"/>
            <a:ext cx="72720" cy="674640"/>
          </a:xfrm>
          <a:custGeom>
            <a:avLst/>
            <a:gdLst>
              <a:gd name="textAreaLeft" fmla="*/ 0 w 72720"/>
              <a:gd name="textAreaRight" fmla="*/ 73080 w 72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Text Box 125"/>
          <p:cNvSpPr/>
          <p:nvPr/>
        </p:nvSpPr>
        <p:spPr>
          <a:xfrm>
            <a:off x="1295280" y="4064040"/>
            <a:ext cx="2293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rial Code (host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9" name="AutoShape 126"/>
          <p:cNvSpPr/>
          <p:nvPr/>
        </p:nvSpPr>
        <p:spPr>
          <a:xfrm>
            <a:off x="6399360" y="3879720"/>
            <a:ext cx="72720" cy="673200"/>
          </a:xfrm>
          <a:custGeom>
            <a:avLst/>
            <a:gdLst>
              <a:gd name="textAreaLeft" fmla="*/ 0 w 72720"/>
              <a:gd name="textAreaRight" fmla="*/ 73080 w 7272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Text Box 127"/>
          <p:cNvSpPr/>
          <p:nvPr/>
        </p:nvSpPr>
        <p:spPr>
          <a:xfrm>
            <a:off x="546120" y="4695840"/>
            <a:ext cx="386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llel Kernel (device)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KernelB&lt;&lt;&lt; nBlk, nTid &gt;&gt;&gt;(ar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omnath Roy</cp:lastModifiedBy>
  <dcterms:modified xsi:type="dcterms:W3CDTF">2019-09-22T01:24:36Z</dcterms:modified>
  <cp:revision>1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