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32.jpeg" ContentType="image/jpeg"/>
  <Override PartName="/ppt/media/image1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29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4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png" ContentType="image/png"/>
  <Override PartName="/ppt/media/image9.wmf" ContentType="image/x-wmf"/>
  <Override PartName="/ppt/media/image5.png" ContentType="image/png"/>
  <Override PartName="/ppt/media/image35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5088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74400" y="698040"/>
            <a:ext cx="620532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7DB-0A7A-441B-B117-2C4D7BE24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0224-40B9-4A3D-BD72-93D8DA770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8AB-5179-4E98-B0AA-E7A7C70D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763-CAF1-4924-9AAE-6A958F1D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E37-E7EE-4AAA-837C-F2D0BB2C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6C7-A378-4D61-AC9E-2ABCD92D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F44-472A-441A-B880-30BFA2F0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956-F22B-4521-9F76-A6187DED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DAE-5AC6-4670-A9E2-2635849B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57D-436C-4A48-9B1B-BA1A2FC6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D4D-A0F7-41BF-A05F-5842E125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27E-DFD4-4297-BF65-09C1158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AFF-E630-4628-BE20-7644E56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731-C658-436E-8FB3-CB8CC5D7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D58-CE8E-4BEF-B5EC-27430E4AE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0A6-07C2-4FC2-A7B2-398F400DA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wmf"/><Relationship Id="rId9" Type="http://schemas.openxmlformats.org/officeDocument/2006/relationships/image" Target="../media/image43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39.png"/><Relationship Id="rId13" Type="http://schemas.openxmlformats.org/officeDocument/2006/relationships/image" Target="../media/image43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42.wmf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42.wmf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42.wmf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165F-D86C-4F04-8890-D8A5F1C43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371600" y="173340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5f"/>
                </a:solidFill>
                <a:latin typeface="Century Gothic"/>
                <a:ea typeface="Times New Roman"/>
              </a:rPr>
              <a:t>Domain Decomposition Method</a:t>
            </a:r>
            <a:r>
              <a:rPr b="1" lang="bn-IN" sz="2000" spc="-1" strike="noStrike">
                <a:solidFill>
                  <a:srgbClr val="353c5f"/>
                </a:solidFill>
                <a:latin typeface="Century Gothic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353c5f"/>
                </a:solidFill>
                <a:latin typeface="Century Gothic"/>
                <a:ea typeface="Times New Roman"/>
              </a:rPr>
              <a:t> Parallel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219320" y="3029040"/>
            <a:ext cx="6400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3c5f"/>
                </a:solidFill>
                <a:latin typeface="Century Gothic"/>
              </a:rPr>
              <a:t>Somnath 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Century Gothic"/>
              </a:rPr>
              <a:t>Department of Mechanica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chwarz Alternating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28600" y="89532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Alternate between the domains for solution. Solve Dirichlet problem one one domain in each iteration and consider boundary conditions based on the most recent solution of the other doma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380880" y="18097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752480" y="1963800"/>
            <a:ext cx="3227400" cy="12747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228600" y="3409920"/>
            <a:ext cx="8686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The algorithm sweeps through the 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subdomains and solves the original equation in each domain based on the boundary conditions that are updated from the most recent values of 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e can start with a global initial guess and update it in each domain during the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5943600" y="2384280"/>
          <a:ext cx="622440" cy="2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2384280"/>
                    <a:ext cx="6224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chwaz Multiplicative Procedure for Overlapping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460440" y="819000"/>
            <a:ext cx="234324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306600" y="1827360"/>
            <a:ext cx="533412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3048120" y="10206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Century Gothic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chwaz Multiplicative Procedure -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712440" y="1020600"/>
            <a:ext cx="42775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Chose an initial guess 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 to th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Iterate unti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For 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….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Solve 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u=f </a:t>
            </a: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i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N" sz="16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with 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i="1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IN" sz="16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i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Update 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values i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Till convergence in all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.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IN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ight Brace 6"/>
          <p:cNvSpPr/>
          <p:nvPr/>
        </p:nvSpPr>
        <p:spPr>
          <a:xfrm>
            <a:off x="5168880" y="2190600"/>
            <a:ext cx="469800" cy="533520"/>
          </a:xfrm>
          <a:custGeom>
            <a:avLst/>
            <a:gdLst>
              <a:gd name="textAreaLeft" fmla="*/ 0 w 469800"/>
              <a:gd name="textAreaRight" fmla="*/ 169560 w 469800"/>
              <a:gd name="textAreaTop" fmla="*/ 12240 h 533520"/>
              <a:gd name="textAreaBottom" fmla="*/ 5212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3"/>
                  <a:pt x="10800" y="1586"/>
                </a:cubicBezTo>
                <a:lnTo>
                  <a:pt x="10800" y="9214"/>
                </a:lnTo>
                <a:cubicBezTo>
                  <a:pt x="10800" y="10007"/>
                  <a:pt x="16200" y="10800"/>
                  <a:pt x="21600" y="10800"/>
                </a:cubicBezTo>
                <a:cubicBezTo>
                  <a:pt x="16200" y="10800"/>
                  <a:pt x="10800" y="11593"/>
                  <a:pt x="10800" y="12386"/>
                </a:cubicBezTo>
                <a:lnTo>
                  <a:pt x="10800" y="20014"/>
                </a:lnTo>
                <a:cubicBezTo>
                  <a:pt x="10800" y="208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638680" y="2266920"/>
            <a:ext cx="1689120" cy="33732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254061"/>
                </a:solidFill>
                <a:latin typeface="Century Gothic"/>
              </a:rPr>
              <a:t>Convergence</a:t>
            </a:r>
            <a:r>
              <a:rPr b="0" lang="en-IN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Theorem for Convergence of Schwarz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28600" y="89532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f the guess                     is chosen as                                  then the iterations are identical to Gauss-Seidel sweep of the Schur component and they conver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"/>
          <p:cNvGraphicFramePr/>
          <p:nvPr/>
        </p:nvGraphicFramePr>
        <p:xfrm>
          <a:off x="1600200" y="1020600"/>
          <a:ext cx="800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20600"/>
                    <a:ext cx="800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3962520" y="1123920"/>
          <a:ext cx="1538280" cy="3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123920"/>
                    <a:ext cx="15382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omain Decomposition based parallel Matrix Sol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57200" y="1020600"/>
            <a:ext cx="838188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Divide the domain into a number of subdomains. Domain overlaps are allowed such that the full row equation for each internal point of the subdomain i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Start with a global gu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Update the solution at every subdomain locally. Consider the inter-domain boundaries as Dirichlet with the last updated solution value </a:t>
            </a:r>
            <a:r>
              <a:rPr b="1" lang="en-IN" sz="1600" spc="-1" strike="noStrike">
                <a:solidFill>
                  <a:srgbClr val="ff0000"/>
                </a:solidFill>
                <a:latin typeface="Century Gothic"/>
              </a:rPr>
              <a:t>– parallel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Update the boundary values in one sub-domain as obtained by local solution of neighbouring domains. </a:t>
            </a:r>
            <a:r>
              <a:rPr b="1" lang="en-IN" sz="1600" spc="-1" strike="noStrike">
                <a:solidFill>
                  <a:srgbClr val="ff0000"/>
                </a:solidFill>
                <a:latin typeface="Century Gothic"/>
              </a:rPr>
              <a:t>– Data transfer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entury Gothic"/>
              </a:rPr>
              <a:t>Iterate over the domains for a global convergence </a:t>
            </a:r>
            <a:r>
              <a:rPr b="1" lang="en-IN" sz="1600" spc="-1" strike="noStrike">
                <a:solidFill>
                  <a:srgbClr val="ff0000"/>
                </a:solidFill>
                <a:latin typeface="Century Gothic"/>
              </a:rPr>
              <a:t>–synchronization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6"/>
          <p:cNvSpPr/>
          <p:nvPr/>
        </p:nvSpPr>
        <p:spPr>
          <a:xfrm>
            <a:off x="380880" y="228600"/>
            <a:ext cx="767736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Parallel Computing: Basic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85800" cy="752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28600" y="628560"/>
            <a:ext cx="3429000" cy="6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981080" y="14288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/standalon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2"/>
          <a:srcRect l="0" t="0" r="0" b="57543"/>
          <a:stretch/>
        </p:blipFill>
        <p:spPr>
          <a:xfrm>
            <a:off x="6629400" y="2457360"/>
            <a:ext cx="2343240" cy="800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8"/>
          <p:cNvSpPr/>
          <p:nvPr/>
        </p:nvSpPr>
        <p:spPr>
          <a:xfrm>
            <a:off x="7010280" y="1828800"/>
            <a:ext cx="762120" cy="62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8077320" y="1828800"/>
            <a:ext cx="761760" cy="62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4952880" y="3657600"/>
            <a:ext cx="690840" cy="77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4"/>
          <a:stretch/>
        </p:blipFill>
        <p:spPr>
          <a:xfrm>
            <a:off x="6248520" y="3657600"/>
            <a:ext cx="709560" cy="71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5"/>
          <a:stretch/>
        </p:blipFill>
        <p:spPr>
          <a:xfrm>
            <a:off x="7467480" y="3943440"/>
            <a:ext cx="685800" cy="752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5"/>
          <p:cNvSpPr/>
          <p:nvPr/>
        </p:nvSpPr>
        <p:spPr>
          <a:xfrm>
            <a:off x="5105520" y="3086280"/>
            <a:ext cx="761760" cy="62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6324480" y="3029040"/>
            <a:ext cx="762120" cy="628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7620120" y="3371760"/>
            <a:ext cx="761760" cy="6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3"/>
          <p:cNvGrpSpPr/>
          <p:nvPr/>
        </p:nvGrpSpPr>
        <p:grpSpPr>
          <a:xfrm>
            <a:off x="304920" y="2914560"/>
            <a:ext cx="3504960" cy="1403280"/>
            <a:chOff x="304920" y="2914560"/>
            <a:chExt cx="3504960" cy="1403280"/>
          </a:xfrm>
        </p:grpSpPr>
        <p:pic>
          <p:nvPicPr>
            <p:cNvPr id="165" name="Picture 3" descr=""/>
            <p:cNvPicPr/>
            <p:nvPr/>
          </p:nvPicPr>
          <p:blipFill>
            <a:blip r:embed="rId6"/>
            <a:stretch/>
          </p:blipFill>
          <p:spPr>
            <a:xfrm>
              <a:off x="304920" y="3543480"/>
              <a:ext cx="68580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7"/>
            <a:stretch/>
          </p:blipFill>
          <p:spPr>
            <a:xfrm>
              <a:off x="1066680" y="3543480"/>
              <a:ext cx="69048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" descr=""/>
            <p:cNvPicPr/>
            <p:nvPr/>
          </p:nvPicPr>
          <p:blipFill>
            <a:blip r:embed="rId8"/>
            <a:stretch/>
          </p:blipFill>
          <p:spPr>
            <a:xfrm>
              <a:off x="1828800" y="3543480"/>
              <a:ext cx="70956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"/>
            <p:cNvPicPr/>
            <p:nvPr/>
          </p:nvPicPr>
          <p:blipFill>
            <a:blip r:embed="rId9"/>
            <a:stretch/>
          </p:blipFill>
          <p:spPr>
            <a:xfrm>
              <a:off x="2590920" y="3543480"/>
              <a:ext cx="6094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"/>
            <p:cNvPicPr/>
            <p:nvPr/>
          </p:nvPicPr>
          <p:blipFill>
            <a:blip r:embed="rId10"/>
            <a:stretch/>
          </p:blipFill>
          <p:spPr>
            <a:xfrm>
              <a:off x="3200400" y="3543480"/>
              <a:ext cx="609480" cy="6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0"/>
            <p:cNvSpPr/>
            <p:nvPr/>
          </p:nvSpPr>
          <p:spPr>
            <a:xfrm>
              <a:off x="380880" y="2914560"/>
              <a:ext cx="3429000" cy="628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34"/>
          <p:cNvSpPr/>
          <p:nvPr/>
        </p:nvSpPr>
        <p:spPr>
          <a:xfrm>
            <a:off x="152280" y="2114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5"/>
          <p:cNvSpPr/>
          <p:nvPr/>
        </p:nvSpPr>
        <p:spPr>
          <a:xfrm>
            <a:off x="5726160" y="2527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Distributed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6"/>
          <p:cNvSpPr/>
          <p:nvPr/>
        </p:nvSpPr>
        <p:spPr>
          <a:xfrm>
            <a:off x="533520" y="25718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Shared memory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40"/>
          <p:cNvCxnSpPr/>
          <p:nvPr/>
        </p:nvCxnSpPr>
        <p:spPr>
          <a:xfrm flipH="1">
            <a:off x="1294920" y="2343240"/>
            <a:ext cx="53424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5" name="TextBox 44"/>
          <p:cNvSpPr/>
          <p:nvPr/>
        </p:nvSpPr>
        <p:spPr>
          <a:xfrm>
            <a:off x="4419720" y="6858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ad(memory) can be too heavy to ca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will take astronomically long ti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38"/>
          <p:cNvCxnSpPr>
            <a:endCxn id="172" idx="1"/>
          </p:cNvCxnSpPr>
          <p:nvPr/>
        </p:nvCxnSpPr>
        <p:spPr>
          <a:xfrm>
            <a:off x="2144880" y="2298240"/>
            <a:ext cx="3582000" cy="55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7" name="TextBox 48"/>
          <p:cNvSpPr/>
          <p:nvPr/>
        </p:nvSpPr>
        <p:spPr>
          <a:xfrm>
            <a:off x="228600" y="428616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Large piece of memory (or load) to be used. More Synchronization , less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9"/>
          <p:cNvSpPr/>
          <p:nvPr/>
        </p:nvSpPr>
        <p:spPr>
          <a:xfrm>
            <a:off x="4419720" y="440064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Smaller memory units. More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3"/>
          <p:cNvSpPr/>
          <p:nvPr/>
        </p:nvSpPr>
        <p:spPr>
          <a:xfrm>
            <a:off x="4194000" y="1677960"/>
            <a:ext cx="1433520" cy="914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tribution synchronization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6"/>
          <p:cNvSpPr/>
          <p:nvPr/>
        </p:nvSpPr>
        <p:spPr>
          <a:xfrm>
            <a:off x="380880" y="228600"/>
            <a:ext cx="774396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Parallel Computing: The More the Bett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3"/>
          <p:cNvGrpSpPr/>
          <p:nvPr/>
        </p:nvGrpSpPr>
        <p:grpSpPr>
          <a:xfrm>
            <a:off x="5105520" y="1542960"/>
            <a:ext cx="3504960" cy="1403280"/>
            <a:chOff x="5105520" y="1542960"/>
            <a:chExt cx="3504960" cy="1403280"/>
          </a:xfrm>
        </p:grpSpPr>
        <p:pic>
          <p:nvPicPr>
            <p:cNvPr id="182" name="Picture 3" descr=""/>
            <p:cNvPicPr/>
            <p:nvPr/>
          </p:nvPicPr>
          <p:blipFill>
            <a:blip r:embed="rId1"/>
            <a:stretch/>
          </p:blipFill>
          <p:spPr>
            <a:xfrm>
              <a:off x="5105520" y="2171880"/>
              <a:ext cx="685800" cy="7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4" descr=""/>
            <p:cNvPicPr/>
            <p:nvPr/>
          </p:nvPicPr>
          <p:blipFill>
            <a:blip r:embed="rId2"/>
            <a:stretch/>
          </p:blipFill>
          <p:spPr>
            <a:xfrm>
              <a:off x="5867280" y="2171880"/>
              <a:ext cx="690480" cy="77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" descr=""/>
            <p:cNvPicPr/>
            <p:nvPr/>
          </p:nvPicPr>
          <p:blipFill>
            <a:blip r:embed="rId3"/>
            <a:stretch/>
          </p:blipFill>
          <p:spPr>
            <a:xfrm>
              <a:off x="6629400" y="2171880"/>
              <a:ext cx="70956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"/>
            <p:cNvPicPr/>
            <p:nvPr/>
          </p:nvPicPr>
          <p:blipFill>
            <a:blip r:embed="rId4"/>
            <a:stretch/>
          </p:blipFill>
          <p:spPr>
            <a:xfrm>
              <a:off x="7391520" y="2171880"/>
              <a:ext cx="60948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7" descr=""/>
            <p:cNvPicPr/>
            <p:nvPr/>
          </p:nvPicPr>
          <p:blipFill>
            <a:blip r:embed="rId5"/>
            <a:stretch/>
          </p:blipFill>
          <p:spPr>
            <a:xfrm>
              <a:off x="8001000" y="2171880"/>
              <a:ext cx="609480" cy="6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10"/>
            <p:cNvSpPr/>
            <p:nvPr/>
          </p:nvSpPr>
          <p:spPr>
            <a:xfrm>
              <a:off x="5181480" y="1542960"/>
              <a:ext cx="3429000" cy="628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3"/>
          <p:cNvGrpSpPr/>
          <p:nvPr/>
        </p:nvGrpSpPr>
        <p:grpSpPr>
          <a:xfrm>
            <a:off x="3124080" y="712800"/>
            <a:ext cx="1928880" cy="830160"/>
            <a:chOff x="3124080" y="712800"/>
            <a:chExt cx="1928880" cy="830160"/>
          </a:xfrm>
        </p:grpSpPr>
        <p:pic>
          <p:nvPicPr>
            <p:cNvPr id="189" name="Picture 4" descr=""/>
            <p:cNvPicPr/>
            <p:nvPr/>
          </p:nvPicPr>
          <p:blipFill>
            <a:blip r:embed="rId6"/>
            <a:stretch/>
          </p:blipFill>
          <p:spPr>
            <a:xfrm>
              <a:off x="3124080" y="712800"/>
              <a:ext cx="69048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"/>
            <p:cNvPicPr/>
            <p:nvPr/>
          </p:nvPicPr>
          <p:blipFill>
            <a:blip r:embed="rId7"/>
            <a:stretch/>
          </p:blipFill>
          <p:spPr>
            <a:xfrm>
              <a:off x="3428640" y="769680"/>
              <a:ext cx="709560" cy="7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8"/>
            <a:stretch/>
          </p:blipFill>
          <p:spPr>
            <a:xfrm>
              <a:off x="3657240" y="769680"/>
              <a:ext cx="68580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" descr=""/>
            <p:cNvPicPr/>
            <p:nvPr/>
          </p:nvPicPr>
          <p:blipFill>
            <a:blip r:embed="rId9"/>
            <a:stretch/>
          </p:blipFill>
          <p:spPr>
            <a:xfrm>
              <a:off x="3886200" y="769680"/>
              <a:ext cx="69048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" descr=""/>
            <p:cNvPicPr/>
            <p:nvPr/>
          </p:nvPicPr>
          <p:blipFill>
            <a:blip r:embed="rId10"/>
            <a:stretch/>
          </p:blipFill>
          <p:spPr>
            <a:xfrm>
              <a:off x="4343400" y="826920"/>
              <a:ext cx="709560" cy="7156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94" name="Straight Arrow Connector 47"/>
          <p:cNvCxnSpPr/>
          <p:nvPr/>
        </p:nvCxnSpPr>
        <p:spPr>
          <a:xfrm>
            <a:off x="4038120" y="1542960"/>
            <a:ext cx="762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5" name="Content Placeholder 2"/>
          <p:cNvSpPr/>
          <p:nvPr/>
        </p:nvSpPr>
        <p:spPr>
          <a:xfrm>
            <a:off x="304920" y="2743200"/>
            <a:ext cx="488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uniform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munication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time for some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304920" y="1828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weight for each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1447920" y="21146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Increase i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1600200" y="34862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More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55"/>
          <p:cNvCxnSpPr/>
          <p:nvPr/>
        </p:nvCxnSpPr>
        <p:spPr>
          <a:xfrm flipV="1">
            <a:off x="5028840" y="2514240"/>
            <a:ext cx="1080" cy="20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TextBox 58"/>
          <p:cNvSpPr/>
          <p:nvPr/>
        </p:nvSpPr>
        <p:spPr>
          <a:xfrm rot="16200000">
            <a:off x="3947400" y="337536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ed = no. of iterations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61"/>
          <p:cNvSpPr/>
          <p:nvPr/>
        </p:nvSpPr>
        <p:spPr>
          <a:xfrm flipV="1">
            <a:off x="5029200" y="2914200"/>
            <a:ext cx="2057400" cy="1600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65"/>
          <p:cNvSpPr/>
          <p:nvPr/>
        </p:nvSpPr>
        <p:spPr>
          <a:xfrm>
            <a:off x="5035680" y="3600360"/>
            <a:ext cx="2355840" cy="911160"/>
          </a:xfrm>
          <a:custGeom>
            <a:avLst/>
            <a:gdLst/>
            <a:ahLst/>
            <a:rect l="l" t="t" r="r" b="b"/>
            <a:pathLst>
              <a:path w="2266682" h="1030310">
                <a:moveTo>
                  <a:pt x="0" y="1030310"/>
                </a:moveTo>
                <a:cubicBezTo>
                  <a:pt x="107324" y="920839"/>
                  <a:pt x="214648" y="811369"/>
                  <a:pt x="309093" y="734096"/>
                </a:cubicBezTo>
                <a:cubicBezTo>
                  <a:pt x="403538" y="656823"/>
                  <a:pt x="472226" y="622478"/>
                  <a:pt x="566671" y="566670"/>
                </a:cubicBezTo>
                <a:cubicBezTo>
                  <a:pt x="661116" y="510862"/>
                  <a:pt x="772733" y="448614"/>
                  <a:pt x="875764" y="399245"/>
                </a:cubicBezTo>
                <a:cubicBezTo>
                  <a:pt x="978795" y="349876"/>
                  <a:pt x="1051775" y="315532"/>
                  <a:pt x="1184857" y="270456"/>
                </a:cubicBezTo>
                <a:cubicBezTo>
                  <a:pt x="1317939" y="225380"/>
                  <a:pt x="1543319" y="163133"/>
                  <a:pt x="1674254" y="128789"/>
                </a:cubicBezTo>
                <a:cubicBezTo>
                  <a:pt x="1805189" y="94445"/>
                  <a:pt x="1970468" y="64394"/>
                  <a:pt x="1970468" y="64394"/>
                </a:cubicBezTo>
                <a:lnTo>
                  <a:pt x="1970468" y="64394"/>
                </a:lnTo>
                <a:lnTo>
                  <a:pt x="2266682" y="0"/>
                </a:lnTo>
                <a:lnTo>
                  <a:pt x="226668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6"/>
          <p:cNvSpPr/>
          <p:nvPr/>
        </p:nvSpPr>
        <p:spPr>
          <a:xfrm rot="18727200">
            <a:off x="5430240" y="3153600"/>
            <a:ext cx="15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deal speed-up 45°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7"/>
          <p:cNvSpPr/>
          <p:nvPr/>
        </p:nvSpPr>
        <p:spPr>
          <a:xfrm>
            <a:off x="6781680" y="3714840"/>
            <a:ext cx="130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tual speed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69"/>
          <p:cNvCxnSpPr/>
          <p:nvPr/>
        </p:nvCxnSpPr>
        <p:spPr>
          <a:xfrm>
            <a:off x="6933960" y="3085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6" name="TextBox 71"/>
          <p:cNvSpPr/>
          <p:nvPr/>
        </p:nvSpPr>
        <p:spPr>
          <a:xfrm>
            <a:off x="6934320" y="3257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380880" y="228600"/>
            <a:ext cx="777888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Architecture of a Parallel Computing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80880" y="628560"/>
            <a:ext cx="3200400" cy="2148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4"/>
          <p:cNvSpPr/>
          <p:nvPr/>
        </p:nvSpPr>
        <p:spPr>
          <a:xfrm>
            <a:off x="3903840" y="919080"/>
            <a:ext cx="3809880" cy="143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9c3"/>
                </a:solidFill>
                <a:latin typeface="Arial"/>
              </a:rPr>
              <a:t>IBM Blue gene (Aregon national l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9c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9c3"/>
                </a:solidFill>
                <a:latin typeface="Arial"/>
              </a:rPr>
              <a:t>250000 processors (2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9c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9c3"/>
                </a:solidFill>
                <a:latin typeface="Arial"/>
              </a:rPr>
              <a:t>10-Gigabit ethernet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9c3"/>
                </a:solidFill>
                <a:latin typeface="Arial"/>
              </a:rPr>
              <a:t>petaflops speed, petabyte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5"/>
          <p:cNvSpPr/>
          <p:nvPr/>
        </p:nvSpPr>
        <p:spPr>
          <a:xfrm>
            <a:off x="228600" y="314316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of a supercomputer (Flynn’s taxonom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8"/>
          <p:cNvSpPr/>
          <p:nvPr/>
        </p:nvSpPr>
        <p:spPr>
          <a:xfrm>
            <a:off x="3657600" y="2457360"/>
            <a:ext cx="525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upon the number of concurrent instruction (or control)  and data streams available in the architecture (Flynn, 1966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gle Instruction, Single Data stream (SISD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gle Instruction, Multiple Data streams (SIM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Instruction, Single Data stream (MIS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Instruction, Multiple Data streams (MIM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6"/>
          <p:cNvSpPr/>
          <p:nvPr/>
        </p:nvSpPr>
        <p:spPr>
          <a:xfrm>
            <a:off x="380880" y="233280"/>
            <a:ext cx="789300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SIS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38088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s in this category can decode only a single instruction in un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File:SISD.svg"/>
          <p:cNvPicPr/>
          <p:nvPr/>
        </p:nvPicPr>
        <p:blipFill>
          <a:blip r:embed="rId1"/>
          <a:stretch/>
        </p:blipFill>
        <p:spPr>
          <a:xfrm>
            <a:off x="685800" y="1828800"/>
            <a:ext cx="2928960" cy="2197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657600" y="22287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</a:rPr>
              <a:t>An analogy of Flynn’s classification is </a:t>
            </a: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the check-in desk at an air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SISD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</a:rPr>
              <a:t>: a single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3733920" y="342900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an ordinary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6"/>
          <p:cNvSpPr/>
          <p:nvPr/>
        </p:nvSpPr>
        <p:spPr>
          <a:xfrm>
            <a:off x="301680" y="141120"/>
            <a:ext cx="791028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SI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380880" y="857160"/>
            <a:ext cx="84726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ay of processors all executing the same instruction but on diffe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File:SIMD.svg"/>
          <p:cNvPicPr/>
          <p:nvPr/>
        </p:nvPicPr>
        <p:blipFill>
          <a:blip r:embed="rId1"/>
          <a:stretch/>
        </p:blipFill>
        <p:spPr>
          <a:xfrm>
            <a:off x="1471680" y="147312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4572000" y="2571840"/>
            <a:ext cx="45720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</a:rPr>
              <a:t>SIMD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</a:rPr>
              <a:t>: many desks and a supervisor with a megaphone giving instructions that every desk ob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ndustry jobs: processing of credit card information for 1 lac people in 1000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Why Paralleliz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04920" y="1047600"/>
            <a:ext cx="8458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reduce computational time by dividing the number of operations into a large number of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reduce the matrix size to be stored in a single chunk of memor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293760" y="141120"/>
            <a:ext cx="812952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MIS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57200" y="628560"/>
            <a:ext cx="82296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nsider this category to be empty. However, some consi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olic array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all in this catego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33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pumped through processors, each processor applying a different operation to the same data 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File:MISD.svg"/>
          <p:cNvPicPr/>
          <p:nvPr/>
        </p:nvPicPr>
        <p:blipFill>
          <a:blip r:embed="rId1"/>
          <a:stretch/>
        </p:blipFill>
        <p:spPr>
          <a:xfrm>
            <a:off x="642960" y="20001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3886200" y="2514600"/>
            <a:ext cx="507204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</a:rPr>
              <a:t>MISD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</a:rPr>
              <a:t>:  For the same passenger different desks are doing different job. One processing ticket, the other checking lugga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come Tax Depart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ing different financial information (Tax, Bank transaction, Foreign money exchange ) from a same 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6"/>
          <p:cNvSpPr/>
          <p:nvPr/>
        </p:nvSpPr>
        <p:spPr>
          <a:xfrm>
            <a:off x="301680" y="114480"/>
            <a:ext cx="791856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MI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304920" y="743040"/>
            <a:ext cx="82296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D: More than one CPU, each running its own program on its ow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File:MIMD.svg"/>
          <p:cNvPicPr/>
          <p:nvPr/>
        </p:nvPicPr>
        <p:blipFill>
          <a:blip r:embed="rId1"/>
          <a:stretch/>
        </p:blipFill>
        <p:spPr>
          <a:xfrm>
            <a:off x="609480" y="1428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4143240" y="2343240"/>
            <a:ext cx="500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</a:rPr>
              <a:t>MIMD</a:t>
            </a:r>
            <a:r>
              <a:rPr b="0" lang="en-US" sz="2000" spc="-1" strike="noStrike">
                <a:solidFill>
                  <a:srgbClr val="17375e"/>
                </a:solidFill>
                <a:latin typeface="Arial"/>
              </a:rPr>
              <a:t>: many desks working at their own pace, synchronized through a centra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4191120" y="3086280"/>
            <a:ext cx="4952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communication between each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Used in scientific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14280" y="434808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Program Multiple Data &amp; Multiple Program Single Data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6"/>
          <p:cNvSpPr/>
          <p:nvPr/>
        </p:nvSpPr>
        <p:spPr>
          <a:xfrm>
            <a:off x="380880" y="201600"/>
            <a:ext cx="768996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Elements of a Parallel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itle 1"/>
          <p:cNvSpPr/>
          <p:nvPr/>
        </p:nvSpPr>
        <p:spPr>
          <a:xfrm>
            <a:off x="380880" y="571680"/>
            <a:ext cx="28195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e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890800" y="830160"/>
            <a:ext cx="6253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people doing the work. </a:t>
            </a: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(Degree of Paralleli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needed to begin the work. </a:t>
            </a: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(Initializ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does what. </a:t>
            </a: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(Work distribu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to work part. </a:t>
            </a: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(Data/IO ac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ther they need info from each other to finish their own job. </a:t>
            </a: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(Commun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are they all done. </a:t>
            </a: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(Synchroniz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needs to be done to collate the res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1"/>
          <a:srcRect l="0" t="0" r="0" b="57543"/>
          <a:stretch/>
        </p:blipFill>
        <p:spPr>
          <a:xfrm>
            <a:off x="228600" y="1828800"/>
            <a:ext cx="1917720" cy="655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3"/>
          <p:cNvSpPr/>
          <p:nvPr/>
        </p:nvSpPr>
        <p:spPr>
          <a:xfrm>
            <a:off x="762120" y="1257480"/>
            <a:ext cx="304560" cy="514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600200" y="1257480"/>
            <a:ext cx="304920" cy="514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228600" y="3086280"/>
            <a:ext cx="565200" cy="633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3"/>
          <a:stretch/>
        </p:blipFill>
        <p:spPr>
          <a:xfrm>
            <a:off x="990720" y="3086280"/>
            <a:ext cx="581040" cy="585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1905120" y="3143160"/>
            <a:ext cx="560160" cy="6159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80880" y="2571840"/>
            <a:ext cx="304920" cy="514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1219320" y="2571840"/>
            <a:ext cx="304560" cy="514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981080" y="2514600"/>
            <a:ext cx="304920" cy="514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162000" y="43959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 Passing Interface (M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6"/>
          <p:cNvSpPr/>
          <p:nvPr/>
        </p:nvSpPr>
        <p:spPr>
          <a:xfrm>
            <a:off x="380880" y="123840"/>
            <a:ext cx="774396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What is M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457200" y="628560"/>
            <a:ext cx="822960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ssage pa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atangChe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ssage-passing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brary functions can be used with C, Fortran, C++ comp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sh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ff0000"/>
                </a:solidFill>
                <a:latin typeface="Arial"/>
                <a:ea typeface="Arial"/>
              </a:rPr>
              <a:t>MPI "is a message-passing application programmer interface, together with protocol and semantic specifications for how its features must behave in any implementation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parallel computers, clusters, and heterogeneou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762120" y="37720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her popular interface available is Open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6"/>
          <p:cNvSpPr/>
          <p:nvPr/>
        </p:nvSpPr>
        <p:spPr>
          <a:xfrm>
            <a:off x="345960" y="228600"/>
            <a:ext cx="774252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Why M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tent Placeholder 2"/>
          <p:cNvSpPr/>
          <p:nvPr/>
        </p:nvSpPr>
        <p:spPr>
          <a:xfrm>
            <a:off x="474840" y="790560"/>
            <a:ext cx="82296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1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SzPct val="1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y programs can be written with only 6 basic fun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. ‘call MPI_SEND(start, count, datatype, dest, tag, comm,ierr)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1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SzPct val="1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I’s extensive functionality from many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1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SzPct val="1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int-to-point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1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SzPct val="1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n’t need to rewrite parallel programs across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 a Free Open-source Softw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6"/>
          <p:cNvSpPr/>
          <p:nvPr/>
        </p:nvSpPr>
        <p:spPr>
          <a:xfrm>
            <a:off x="380880" y="228600"/>
            <a:ext cx="779616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MPI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380880" y="800280"/>
            <a:ext cx="85168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ny parallel programs can be written using just these function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d they are: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MPI_INIT                                   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  <a:ea typeface="Arial"/>
              </a:rPr>
              <a:t>Initialize MPI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  <a:ea typeface="Arial"/>
              </a:rPr>
              <a:t>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MPI_FINALIZE                          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  <a:ea typeface="Arial"/>
              </a:rPr>
              <a:t>Exit M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MPI_COMM_SIZE                   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  <a:ea typeface="Arial"/>
              </a:rPr>
              <a:t>Determine number of processes within a com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MPI_COMM_RANK                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  <a:ea typeface="Arial"/>
              </a:rPr>
              <a:t>Determine process rank within a com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MPI_SEND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  <a:ea typeface="Arial"/>
              </a:rPr>
              <a:t>Send a mes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MPI_RECV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  <a:ea typeface="Arial"/>
              </a:rPr>
              <a:t>Receive a mes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MPI_COMM_WORLD                </a:t>
            </a:r>
            <a:r>
              <a:rPr b="1" lang="en-US" sz="1500" spc="-1" strike="noStrike">
                <a:solidFill>
                  <a:srgbClr val="17375e"/>
                </a:solidFill>
                <a:latin typeface="Calibri"/>
              </a:rPr>
              <a:t>Default communicator whose group contains all </a:t>
            </a:r>
            <a:r>
              <a:rPr b="1" lang="en-US" sz="1500" spc="-1" strike="noStrike">
                <a:solidFill>
                  <a:srgbClr val="17375e"/>
                </a:solidFill>
                <a:latin typeface="Arial"/>
              </a:rPr>
              <a:t>initial proce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6429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500" spc="-1" strike="noStrike">
                <a:solidFill>
                  <a:srgbClr val="ff0000"/>
                </a:solidFill>
                <a:latin typeface="Calibri"/>
              </a:rPr>
              <a:t>MPI_SEND(start, count, datatype, dest, tag, comm,ier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500" spc="-1" strike="noStrike">
                <a:solidFill>
                  <a:srgbClr val="17375e"/>
                </a:solidFill>
                <a:latin typeface="Calibri"/>
              </a:rPr>
              <a:t>call MPI_SEND(tsendr,ndata,MPI_DOUBLE_PRECISION,myid+1,10,     MPI_COMM_WORLD,ier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IN" sz="1500" spc="-1" strike="noStrike">
                <a:solidFill>
                  <a:srgbClr val="ff0000"/>
                </a:solidFill>
                <a:latin typeface="Calibri"/>
              </a:rPr>
              <a:t>!MPI_RECV(start, count, datatype, source, tag, comm,status,ier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IN" sz="1500" spc="-1" strike="noStrike">
                <a:solidFill>
                  <a:srgbClr val="17375e"/>
                </a:solidFill>
                <a:latin typeface="Calibri"/>
              </a:rPr>
              <a:t>call MPI_RECV(trecvl,ndata,MPI_DOUBLE_PRECISION,myid-1,10, MPI_COMM_WORLD,stt, ier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7"/>
          <p:cNvGrpSpPr/>
          <p:nvPr/>
        </p:nvGrpSpPr>
        <p:grpSpPr>
          <a:xfrm>
            <a:off x="1676520" y="2457360"/>
            <a:ext cx="152280" cy="1371600"/>
            <a:chOff x="1676520" y="2457360"/>
            <a:chExt cx="152280" cy="1371600"/>
          </a:xfrm>
        </p:grpSpPr>
        <p:sp>
          <p:nvSpPr>
            <p:cNvPr id="254" name="Rectangle 4"/>
            <p:cNvSpPr/>
            <p:nvPr/>
          </p:nvSpPr>
          <p:spPr>
            <a:xfrm>
              <a:off x="1676520" y="2457360"/>
              <a:ext cx="152280" cy="285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1676520" y="2742840"/>
              <a:ext cx="152280" cy="28548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1676520" y="3028680"/>
              <a:ext cx="152280" cy="8002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3581280" y="2457360"/>
            <a:ext cx="152640" cy="1371600"/>
            <a:chOff x="3581280" y="2457360"/>
            <a:chExt cx="152640" cy="1371600"/>
          </a:xfrm>
        </p:grpSpPr>
        <p:sp>
          <p:nvSpPr>
            <p:cNvPr id="258" name="Rectangle 10"/>
            <p:cNvSpPr/>
            <p:nvPr/>
          </p:nvSpPr>
          <p:spPr>
            <a:xfrm>
              <a:off x="3581280" y="2742840"/>
              <a:ext cx="152640" cy="285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3581280" y="2457360"/>
              <a:ext cx="152640" cy="28548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3581280" y="3028680"/>
              <a:ext cx="152640" cy="8002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13"/>
          <p:cNvSpPr/>
          <p:nvPr/>
        </p:nvSpPr>
        <p:spPr>
          <a:xfrm>
            <a:off x="471600" y="4233960"/>
            <a:ext cx="805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17375e"/>
                </a:solidFill>
                <a:latin typeface="Arial"/>
              </a:rPr>
              <a:t>Note* : Other than the above standard  send and recv , the   others  blocking send or recv are </a:t>
            </a:r>
            <a:r>
              <a:rPr b="1" lang="en-IN" sz="16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PI_Ssend , MPI_Bsend ,MPI_Srecv , MPI_Brec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1143000" y="3886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ing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3048120" y="38862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342720" y="245736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to s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7"/>
          <p:cNvSpPr/>
          <p:nvPr/>
        </p:nvSpPr>
        <p:spPr>
          <a:xfrm>
            <a:off x="1064160" y="280044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Straight Arrow Connector 19"/>
          <p:cNvCxnSpPr/>
          <p:nvPr/>
        </p:nvCxnSpPr>
        <p:spPr>
          <a:xfrm>
            <a:off x="2285640" y="348624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7" name="TextBox 20"/>
          <p:cNvSpPr/>
          <p:nvPr/>
        </p:nvSpPr>
        <p:spPr>
          <a:xfrm>
            <a:off x="2417760" y="32004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3807360" y="251460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2"/>
          <p:cNvSpPr/>
          <p:nvPr/>
        </p:nvSpPr>
        <p:spPr>
          <a:xfrm>
            <a:off x="3780720" y="2800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 to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ight Brace 23"/>
          <p:cNvSpPr/>
          <p:nvPr/>
        </p:nvSpPr>
        <p:spPr>
          <a:xfrm>
            <a:off x="5410080" y="2457360"/>
            <a:ext cx="76320" cy="571680"/>
          </a:xfrm>
          <a:custGeom>
            <a:avLst/>
            <a:gdLst>
              <a:gd name="textAreaLeft" fmla="*/ 0 w 76320"/>
              <a:gd name="textAreaRight" fmla="*/ 27360 w 76320"/>
              <a:gd name="textAreaTop" fmla="*/ 1800 h 571680"/>
              <a:gd name="textAreaBottom" fmla="*/ 56988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16200" y="10800"/>
                  <a:pt x="21600" y="10800"/>
                </a:cubicBezTo>
                <a:cubicBezTo>
                  <a:pt x="162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5562720" y="25146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vercome by using buff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380880" y="228600"/>
            <a:ext cx="760248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Point to Point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6"/>
          <p:cNvSpPr/>
          <p:nvPr/>
        </p:nvSpPr>
        <p:spPr>
          <a:xfrm>
            <a:off x="380880" y="228600"/>
            <a:ext cx="762012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Collective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457200" y="52560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380880" y="743040"/>
            <a:ext cx="82296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Calibri"/>
                <a:ea typeface="Arial"/>
              </a:rPr>
              <a:t>Collective functions involve communication among all processes in a process group, Instead of involving  communication between two specific processes. </a:t>
            </a:r>
            <a:r>
              <a:rPr b="1" lang="en-IN" sz="1700" spc="-1" strike="noStrike">
                <a:solidFill>
                  <a:srgbClr val="000000"/>
                </a:solidFill>
                <a:latin typeface="Calibri"/>
                <a:ea typeface="Arial"/>
              </a:rPr>
              <a:t>i.e.</a:t>
            </a:r>
            <a:r>
              <a:rPr b="0" lang="en-IN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A single call handles the communication between all the processes in a communic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PI_BCA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distributes data from one process (the root) to all others in a communicat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PI_REDUC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combines data from all processes in communicator and returns it to one proces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Note*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 many numerical algorithms, SEND/RECEIVE can be replaced by BCAST/REDUCE, improving both simplicity and efficien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862440" cy="75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96252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8" descr=""/>
          <p:cNvPicPr/>
          <p:nvPr/>
        </p:nvPicPr>
        <p:blipFill>
          <a:blip r:embed="rId1"/>
          <a:stretch/>
        </p:blipFill>
        <p:spPr>
          <a:xfrm>
            <a:off x="5805360" y="4052880"/>
            <a:ext cx="533520" cy="168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2"/>
          <a:stretch/>
        </p:blipFill>
        <p:spPr>
          <a:xfrm>
            <a:off x="4129200" y="4052880"/>
            <a:ext cx="533160" cy="168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2452680" y="4052880"/>
            <a:ext cx="533520" cy="168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4281480" y="2112840"/>
            <a:ext cx="533520" cy="168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"/>
          <p:cNvPicPr/>
          <p:nvPr/>
        </p:nvPicPr>
        <p:blipFill>
          <a:blip r:embed="rId5"/>
          <a:stretch/>
        </p:blipFill>
        <p:spPr>
          <a:xfrm>
            <a:off x="5500800" y="1712880"/>
            <a:ext cx="169920" cy="316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685800" y="1219320"/>
            <a:ext cx="457200" cy="1429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380880" y="149400"/>
            <a:ext cx="784872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Parallelization of CFD Problem : Domain Decom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95280" y="1427040"/>
            <a:ext cx="510552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380880" y="628560"/>
            <a:ext cx="800100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Partitioning the domain into smaller blocks and solving smaller matrices in different computers in parall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071800" y="1598760"/>
          <a:ext cx="1000080" cy="28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71800" y="1598760"/>
                    <a:ext cx="10000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9" name="Picture 10" descr=""/>
          <p:cNvPicPr/>
          <p:nvPr/>
        </p:nvPicPr>
        <p:blipFill>
          <a:blip r:embed="rId9"/>
          <a:stretch/>
        </p:blipFill>
        <p:spPr>
          <a:xfrm>
            <a:off x="166680" y="1770120"/>
            <a:ext cx="185760" cy="312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2"/>
          <p:cNvSpPr/>
          <p:nvPr/>
        </p:nvSpPr>
        <p:spPr>
          <a:xfrm>
            <a:off x="1690560" y="2338560"/>
            <a:ext cx="1295640" cy="6285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"/>
          <p:cNvPicPr/>
          <p:nvPr/>
        </p:nvPicPr>
        <p:blipFill>
          <a:blip r:embed="rId10"/>
          <a:stretch/>
        </p:blipFill>
        <p:spPr>
          <a:xfrm>
            <a:off x="6567480" y="3710160"/>
            <a:ext cx="169920" cy="317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"/>
          <p:cNvPicPr/>
          <p:nvPr/>
        </p:nvPicPr>
        <p:blipFill>
          <a:blip r:embed="rId11"/>
          <a:stretch/>
        </p:blipFill>
        <p:spPr>
          <a:xfrm>
            <a:off x="395280" y="3252960"/>
            <a:ext cx="457200" cy="14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12"/>
          <a:stretch/>
        </p:blipFill>
        <p:spPr>
          <a:xfrm>
            <a:off x="852480" y="4052880"/>
            <a:ext cx="533520" cy="16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"/>
          <p:cNvPicPr/>
          <p:nvPr/>
        </p:nvPicPr>
        <p:blipFill>
          <a:blip r:embed="rId13"/>
          <a:stretch/>
        </p:blipFill>
        <p:spPr>
          <a:xfrm>
            <a:off x="90360" y="3538440"/>
            <a:ext cx="185760" cy="3128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7"/>
          <p:cNvSpPr/>
          <p:nvPr/>
        </p:nvSpPr>
        <p:spPr>
          <a:xfrm>
            <a:off x="2986200" y="2338560"/>
            <a:ext cx="1295280" cy="62856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/>
          <p:cNvSpPr/>
          <p:nvPr/>
        </p:nvSpPr>
        <p:spPr>
          <a:xfrm>
            <a:off x="395280" y="2338560"/>
            <a:ext cx="1295280" cy="6285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/>
          <p:cNvSpPr/>
          <p:nvPr/>
        </p:nvSpPr>
        <p:spPr>
          <a:xfrm>
            <a:off x="318960" y="3424320"/>
            <a:ext cx="1295640" cy="628560"/>
          </a:xfrm>
          <a:prstGeom prst="rect">
            <a:avLst/>
          </a:prstGeom>
          <a:solidFill>
            <a:srgbClr val="b9cd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919160" y="3424320"/>
            <a:ext cx="1295640" cy="628560"/>
          </a:xfrm>
          <a:prstGeom prst="rect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3"/>
          <p:cNvSpPr/>
          <p:nvPr/>
        </p:nvSpPr>
        <p:spPr>
          <a:xfrm>
            <a:off x="3595680" y="3424320"/>
            <a:ext cx="1295280" cy="6285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4"/>
          <p:cNvSpPr/>
          <p:nvPr/>
        </p:nvSpPr>
        <p:spPr>
          <a:xfrm>
            <a:off x="5195880" y="3424320"/>
            <a:ext cx="1295280" cy="62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395280" y="2338560"/>
            <a:ext cx="5105520" cy="62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14"/>
          <a:stretch/>
        </p:blipFill>
        <p:spPr>
          <a:xfrm>
            <a:off x="1995480" y="3252960"/>
            <a:ext cx="457200" cy="14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15"/>
          <a:stretch/>
        </p:blipFill>
        <p:spPr>
          <a:xfrm>
            <a:off x="3672000" y="3252960"/>
            <a:ext cx="45720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16"/>
          <a:stretch/>
        </p:blipFill>
        <p:spPr>
          <a:xfrm>
            <a:off x="5348160" y="3252960"/>
            <a:ext cx="457200" cy="14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Object 13"/>
          <p:cNvGraphicFramePr/>
          <p:nvPr/>
        </p:nvGraphicFramePr>
        <p:xfrm>
          <a:off x="623880" y="3652920"/>
          <a:ext cx="600120" cy="17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3880" y="3652920"/>
                    <a:ext cx="60012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5"/>
          <p:cNvGraphicFramePr/>
          <p:nvPr/>
        </p:nvGraphicFramePr>
        <p:xfrm>
          <a:off x="2300400" y="3652920"/>
          <a:ext cx="600120" cy="171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8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00400" y="3652920"/>
                    <a:ext cx="60012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6"/>
          <p:cNvGraphicFramePr/>
          <p:nvPr/>
        </p:nvGraphicFramePr>
        <p:xfrm>
          <a:off x="928800" y="3881520"/>
          <a:ext cx="600120" cy="17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28800" y="3881520"/>
                    <a:ext cx="60012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7"/>
          <p:cNvGraphicFramePr/>
          <p:nvPr/>
        </p:nvGraphicFramePr>
        <p:xfrm>
          <a:off x="3900600" y="3652920"/>
          <a:ext cx="600120" cy="171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2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00600" y="3652920"/>
                    <a:ext cx="60012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8"/>
          <p:cNvGraphicFramePr/>
          <p:nvPr/>
        </p:nvGraphicFramePr>
        <p:xfrm>
          <a:off x="5576760" y="3652920"/>
          <a:ext cx="600120" cy="171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4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6760" y="3652920"/>
                    <a:ext cx="60012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Box 48"/>
          <p:cNvSpPr/>
          <p:nvPr/>
        </p:nvSpPr>
        <p:spPr>
          <a:xfrm>
            <a:off x="6400800" y="1244520"/>
            <a:ext cx="2743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ng the domains to different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-decreases matrix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ing each domain independently and parallelly in each compu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--increases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53"/>
          <p:cNvSpPr/>
          <p:nvPr/>
        </p:nvSpPr>
        <p:spPr>
          <a:xfrm rot="8038800">
            <a:off x="1482480" y="3631680"/>
            <a:ext cx="514080" cy="685800"/>
          </a:xfrm>
          <a:custGeom>
            <a:avLst/>
            <a:gdLst>
              <a:gd name="textAreaLeft" fmla="*/ 257040 w 514080"/>
              <a:gd name="textAreaRight" fmla="*/ 514440 w 514080"/>
              <a:gd name="textAreaTop" fmla="*/ 0 h 685800"/>
              <a:gd name="textAreaBottom" fmla="*/ 343080 h 685800"/>
            </a:gdLst>
            <a:ahLst/>
            <a:rect l="textAreaLeft" t="textAreaTop" r="textAreaRight" b="textAreaBottom"/>
            <a:pathLst>
              <a:path stroke="0" w="514350" h="685800">
                <a:moveTo>
                  <a:pt x="257175" y="0"/>
                </a:moveTo>
                <a:lnTo>
                  <a:pt x="257175" y="0"/>
                </a:lnTo>
                <a:arcTo wR="257175" hR="342900" stAng="-5400000" swAng="5400013"/>
                <a:lnTo>
                  <a:pt x="257175" y="342900"/>
                </a:lnTo>
                <a:close/>
              </a:path>
              <a:path fill="none" w="514350" h="685800">
                <a:moveTo>
                  <a:pt x="257175" y="0"/>
                </a:moveTo>
                <a:lnTo>
                  <a:pt x="257175" y="0"/>
                </a:lnTo>
                <a:arcTo wR="257175" hR="342900" stAng="-5400000" swAng="5400013"/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55"/>
          <p:cNvSpPr/>
          <p:nvPr/>
        </p:nvSpPr>
        <p:spPr>
          <a:xfrm rot="8038800">
            <a:off x="3060000" y="3615840"/>
            <a:ext cx="514440" cy="685800"/>
          </a:xfrm>
          <a:custGeom>
            <a:avLst/>
            <a:gdLst>
              <a:gd name="textAreaLeft" fmla="*/ 257400 w 514440"/>
              <a:gd name="textAreaRight" fmla="*/ 514800 w 514440"/>
              <a:gd name="textAreaTop" fmla="*/ 0 h 685800"/>
              <a:gd name="textAreaBottom" fmla="*/ 343080 h 685800"/>
            </a:gdLst>
            <a:ahLst/>
            <a:rect l="textAreaLeft" t="textAreaTop" r="textAreaRight" b="textAreaBottom"/>
            <a:pathLst>
              <a:path stroke="0" w="514350" h="685800">
                <a:moveTo>
                  <a:pt x="257175" y="0"/>
                </a:moveTo>
                <a:lnTo>
                  <a:pt x="257175" y="0"/>
                </a:lnTo>
                <a:arcTo wR="257175" hR="342900" stAng="-5400000" swAng="5400013"/>
                <a:lnTo>
                  <a:pt x="257175" y="342900"/>
                </a:lnTo>
                <a:close/>
              </a:path>
              <a:path fill="none" w="514350" h="685800">
                <a:moveTo>
                  <a:pt x="257175" y="0"/>
                </a:moveTo>
                <a:lnTo>
                  <a:pt x="257175" y="0"/>
                </a:lnTo>
                <a:arcTo wR="257175" hR="342900" stAng="-5400000" swAng="5400013"/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56"/>
          <p:cNvSpPr/>
          <p:nvPr/>
        </p:nvSpPr>
        <p:spPr>
          <a:xfrm rot="8038800">
            <a:off x="4812480" y="3615840"/>
            <a:ext cx="514440" cy="685800"/>
          </a:xfrm>
          <a:custGeom>
            <a:avLst/>
            <a:gdLst>
              <a:gd name="textAreaLeft" fmla="*/ 257400 w 514440"/>
              <a:gd name="textAreaRight" fmla="*/ 514800 w 514440"/>
              <a:gd name="textAreaTop" fmla="*/ 0 h 685800"/>
              <a:gd name="textAreaBottom" fmla="*/ 343080 h 685800"/>
            </a:gdLst>
            <a:ahLst/>
            <a:rect l="textAreaLeft" t="textAreaTop" r="textAreaRight" b="textAreaBottom"/>
            <a:pathLst>
              <a:path stroke="0" w="514350" h="685800">
                <a:moveTo>
                  <a:pt x="257175" y="0"/>
                </a:moveTo>
                <a:lnTo>
                  <a:pt x="257175" y="0"/>
                </a:lnTo>
                <a:arcTo wR="257175" hR="342900" stAng="-5400000" swAng="5400013"/>
                <a:lnTo>
                  <a:pt x="257175" y="342900"/>
                </a:lnTo>
                <a:close/>
              </a:path>
              <a:path fill="none" w="514350" h="685800">
                <a:moveTo>
                  <a:pt x="257175" y="0"/>
                </a:moveTo>
                <a:lnTo>
                  <a:pt x="257175" y="0"/>
                </a:lnTo>
                <a:arcTo wR="257175" hR="342900" stAng="-5400000" swAng="5400013"/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7"/>
          <p:cNvSpPr/>
          <p:nvPr/>
        </p:nvSpPr>
        <p:spPr>
          <a:xfrm>
            <a:off x="169920" y="4390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ynamic exchange of boundary condition among each domain over a partiti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6"/>
          <p:cNvSpPr/>
          <p:nvPr/>
        </p:nvSpPr>
        <p:spPr>
          <a:xfrm>
            <a:off x="380880" y="166680"/>
            <a:ext cx="785808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Key Points in Parlallel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5943600" y="1428840"/>
            <a:ext cx="2895480" cy="14396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6"/>
          <p:cNvSpPr/>
          <p:nvPr/>
        </p:nvSpPr>
        <p:spPr>
          <a:xfrm>
            <a:off x="228600" y="800280"/>
            <a:ext cx="6095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ation of Parallel enviro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decomposed domain to the processors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- load balancing, idle time mini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 in each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- lat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- avoiding bottleneck or deadlock in data exchang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mbly of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856440" y="4216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verheads  due to initialization, synchronization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Estimates of computational cost for large-scale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685800" y="895320"/>
            <a:ext cx="784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Grid spacing to resolve smallest turbulence length scale ~(Re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-3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r Re~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, three-dimensional geometry needs 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grid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One time-step  (one set of matrix solutions) will need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) FLOP (Floating Point Op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ypical physical duration of a time step ~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-3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imulation for 10 seconds will need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17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astest computers give 10 giga FLOP/sec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Estimated time for this calculation :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entury Gothic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econds = 317 years 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entury Gothic"/>
              </a:rPr>
              <a:t>Matrix size = O(10</a:t>
            </a:r>
            <a:r>
              <a:rPr b="0" lang="en-US" sz="1400" spc="-1" strike="noStrike" baseline="30000">
                <a:solidFill>
                  <a:srgbClr val="0000ff"/>
                </a:solidFill>
                <a:latin typeface="Century Gothic"/>
              </a:rPr>
              <a:t>13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</a:rPr>
              <a:t>) floats = 10</a:t>
            </a:r>
            <a:r>
              <a:rPr b="0" lang="en-US" sz="1400" spc="-1" strike="noStrike" baseline="30000">
                <a:solidFill>
                  <a:srgbClr val="0000ff"/>
                </a:solidFill>
                <a:latin typeface="Century Gothic"/>
              </a:rPr>
              <a:t>13</a:t>
            </a:r>
            <a:r>
              <a:rPr b="0" lang="en-US" sz="1400" spc="-1" strike="noStrike">
                <a:solidFill>
                  <a:srgbClr val="0000ff"/>
                </a:solidFill>
                <a:latin typeface="Century Gothic"/>
              </a:rPr>
              <a:t>x16 bytes &gt;&gt; standard RAM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6"/>
          <p:cNvSpPr/>
          <p:nvPr/>
        </p:nvSpPr>
        <p:spPr>
          <a:xfrm>
            <a:off x="380880" y="158760"/>
            <a:ext cx="7875720" cy="42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Scalability of an MPI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74760" y="76500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 with 3 million grid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tructured mesh. Each block is solved in a separate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exchange for two layers among each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581280" y="1692360"/>
            <a:ext cx="4724640" cy="2887560"/>
            <a:chOff x="3581280" y="1692360"/>
            <a:chExt cx="4724640" cy="2887560"/>
          </a:xfrm>
        </p:grpSpPr>
        <p:pic>
          <p:nvPicPr>
            <p:cNvPr id="327" name="Picture 10" descr=""/>
            <p:cNvPicPr/>
            <p:nvPr/>
          </p:nvPicPr>
          <p:blipFill>
            <a:blip r:embed="rId1"/>
            <a:srcRect l="0" t="3482" r="0" b="0"/>
            <a:stretch/>
          </p:blipFill>
          <p:spPr>
            <a:xfrm>
              <a:off x="3581280" y="1692360"/>
              <a:ext cx="4724640" cy="28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Straight Connector 8"/>
            <p:cNvSpPr/>
            <p:nvPr/>
          </p:nvSpPr>
          <p:spPr>
            <a:xfrm flipV="1">
              <a:off x="4647960" y="1748880"/>
              <a:ext cx="1828800" cy="2343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9"/>
            <p:cNvSpPr/>
            <p:nvPr/>
          </p:nvSpPr>
          <p:spPr>
            <a:xfrm rot="17988000">
              <a:off x="4770720" y="2517120"/>
              <a:ext cx="154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76092"/>
                  </a:solidFill>
                  <a:latin typeface="Arial"/>
                </a:rPr>
                <a:t>Ideal speed-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0"/>
            <p:cNvSpPr/>
            <p:nvPr/>
          </p:nvSpPr>
          <p:spPr>
            <a:xfrm rot="19479600">
              <a:off x="5807160" y="27122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ual speed-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" descr="http://www.gridpro.cn/file/filemanager-1/DEFAULT/org.stretto.plugins.filemanager.core.Node/fileData/424.jpg"/>
          <p:cNvPicPr/>
          <p:nvPr/>
        </p:nvPicPr>
        <p:blipFill>
          <a:blip r:embed="rId2"/>
          <a:srcRect l="3320" t="12257" r="8160" b="14225"/>
          <a:stretch/>
        </p:blipFill>
        <p:spPr>
          <a:xfrm>
            <a:off x="374760" y="1801800"/>
            <a:ext cx="3008160" cy="1185840"/>
          </a:xfrm>
          <a:prstGeom prst="rect">
            <a:avLst/>
          </a:prstGeom>
          <a:ln w="0">
            <a:noFill/>
          </a:ln>
        </p:spPr>
      </p:pic>
      <p:cxnSp>
        <p:nvCxnSpPr>
          <p:cNvPr id="332" name="Straight Arrow Connector 13"/>
          <p:cNvCxnSpPr/>
          <p:nvPr/>
        </p:nvCxnSpPr>
        <p:spPr>
          <a:xfrm>
            <a:off x="6453360" y="1828440"/>
            <a:ext cx="18000" cy="801000"/>
          </a:xfrm>
          <a:prstGeom prst="straightConnector1">
            <a:avLst/>
          </a:prstGeom>
          <a:ln w="9360">
            <a:solidFill>
              <a:srgbClr val="953735"/>
            </a:solidFill>
            <a:miter/>
            <a:headEnd len="med" type="arrow" w="med"/>
            <a:tailEnd len="med" type="arrow" w="med"/>
          </a:ln>
        </p:spPr>
      </p:cxnSp>
      <p:sp>
        <p:nvSpPr>
          <p:cNvPr id="333" name="TextBox 15"/>
          <p:cNvSpPr/>
          <p:nvPr/>
        </p:nvSpPr>
        <p:spPr>
          <a:xfrm>
            <a:off x="6376320" y="2048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953735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Parallel Computing- Basic 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g3"/>
          <p:cNvPicPr/>
          <p:nvPr/>
        </p:nvPicPr>
        <p:blipFill>
          <a:blip r:embed="rId1"/>
          <a:stretch/>
        </p:blipFill>
        <p:spPr>
          <a:xfrm>
            <a:off x="0" y="743040"/>
            <a:ext cx="5638680" cy="3546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5715000" y="2190600"/>
            <a:ext cx="32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Tasks like Synchronization and communication is done by functions called using libraries as MPI, Open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CUDA computing using graphics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4"/>
          <p:cNvSpPr/>
          <p:nvPr/>
        </p:nvSpPr>
        <p:spPr>
          <a:xfrm>
            <a:off x="2438280" y="8190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load(memory) can be too heavy to c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ask will take astronomically long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553080" y="895320"/>
            <a:ext cx="1828800" cy="105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distribution synchronization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omain 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380880" y="819000"/>
            <a:ext cx="3505320" cy="3191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4343400" y="1047600"/>
            <a:ext cx="4343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istribute the domain into several sub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rm the matrix equation for each subdomain using the inter-boundary domai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Propose an algorithm to solve each domain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ransfer inter-domain solutions to obtain continuity across the boundari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Converge to a final solution involving sundoma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2362320" y="1487520"/>
            <a:ext cx="155556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The matrix solution in decomposed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74520" y="1095480"/>
            <a:ext cx="3505320" cy="319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773680" y="895320"/>
            <a:ext cx="1554120" cy="528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4156560" y="92376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Solve:                 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4844880" y="973080"/>
          <a:ext cx="578160" cy="2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4880" y="973080"/>
                    <a:ext cx="578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3" descr=""/>
          <p:cNvPicPr/>
          <p:nvPr/>
        </p:nvPicPr>
        <p:blipFill>
          <a:blip r:embed="rId5"/>
          <a:stretch/>
        </p:blipFill>
        <p:spPr>
          <a:xfrm>
            <a:off x="6550200" y="1411200"/>
            <a:ext cx="1788840" cy="320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1"/>
          <p:cNvSpPr/>
          <p:nvPr/>
        </p:nvSpPr>
        <p:spPr>
          <a:xfrm>
            <a:off x="4149000" y="142416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With boundary condi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170240" y="1859040"/>
            <a:ext cx="24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The matrix equation:   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=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191120" y="2266920"/>
            <a:ext cx="48765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Let 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≡Ʃx</a:t>
            </a:r>
            <a:r>
              <a:rPr b="0" i="1" lang="en-IN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 be the solution at the domain-internal points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 be the solution in the inter domain boundaries 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i="1" lang="en-IN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. Then </a:t>
            </a: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=b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 can be written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4"/>
          <p:cNvGraphicFramePr/>
          <p:nvPr/>
        </p:nvGraphicFramePr>
        <p:xfrm>
          <a:off x="4240080" y="3105000"/>
          <a:ext cx="2389320" cy="12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0080" y="3105000"/>
                    <a:ext cx="23893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12"/>
          <p:cNvSpPr/>
          <p:nvPr/>
        </p:nvSpPr>
        <p:spPr>
          <a:xfrm>
            <a:off x="1828800" y="1217520"/>
            <a:ext cx="1523880" cy="449280"/>
          </a:xfrm>
          <a:custGeom>
            <a:avLst/>
            <a:gdLst/>
            <a:ahLst/>
            <a:rect l="l" t="t" r="r" b="b"/>
            <a:pathLst>
              <a:path w="1493520" h="448141">
                <a:moveTo>
                  <a:pt x="1493520" y="448141"/>
                </a:moveTo>
                <a:cubicBezTo>
                  <a:pt x="1272540" y="233087"/>
                  <a:pt x="1051560" y="18034"/>
                  <a:pt x="802640" y="1101"/>
                </a:cubicBezTo>
                <a:cubicBezTo>
                  <a:pt x="553720" y="-15832"/>
                  <a:pt x="276860" y="165354"/>
                  <a:pt x="0" y="346541"/>
                </a:cubicBezTo>
              </a:path>
            </a:pathLst>
          </a:custGeom>
          <a:noFill/>
          <a:ln w="9360">
            <a:solidFill>
              <a:srgbClr val="385d8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3203280" y="1581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7458120" y="1020600"/>
          <a:ext cx="547560" cy="243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58120" y="1020600"/>
                    <a:ext cx="547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The matrix solution in decomposed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4"/>
          <p:cNvGraphicFramePr/>
          <p:nvPr/>
        </p:nvGraphicFramePr>
        <p:xfrm>
          <a:off x="430200" y="895320"/>
          <a:ext cx="238932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895320"/>
                    <a:ext cx="23893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5"/>
          <p:cNvGraphicFramePr/>
          <p:nvPr/>
        </p:nvGraphicFramePr>
        <p:xfrm>
          <a:off x="3898800" y="1071720"/>
          <a:ext cx="168768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98800" y="1071720"/>
                    <a:ext cx="16876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6"/>
          <p:cNvGraphicFramePr/>
          <p:nvPr/>
        </p:nvGraphicFramePr>
        <p:xfrm>
          <a:off x="1719360" y="2300400"/>
          <a:ext cx="207936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9360" y="2300400"/>
                    <a:ext cx="20793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7"/>
          <p:cNvGraphicFramePr/>
          <p:nvPr/>
        </p:nvGraphicFramePr>
        <p:xfrm>
          <a:off x="4322880" y="2441520"/>
          <a:ext cx="196668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2880" y="2441520"/>
                    <a:ext cx="19666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ight Brace 9"/>
          <p:cNvSpPr/>
          <p:nvPr/>
        </p:nvSpPr>
        <p:spPr>
          <a:xfrm rot="5400000">
            <a:off x="4649760" y="2727360"/>
            <a:ext cx="225360" cy="838080"/>
          </a:xfrm>
          <a:custGeom>
            <a:avLst/>
            <a:gdLst>
              <a:gd name="textAreaLeft" fmla="*/ 0 w 225360"/>
              <a:gd name="textAreaRight" fmla="*/ 81360 w 225360"/>
              <a:gd name="textAreaTop" fmla="*/ 5760 h 838080"/>
              <a:gd name="textAreaBottom" fmla="*/ 832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16200" y="10800"/>
                  <a:pt x="21600" y="10800"/>
                </a:cubicBezTo>
                <a:cubicBezTo>
                  <a:pt x="162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648320" y="317808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</a:t>
            </a:r>
            <a:r>
              <a:rPr b="0" lang="en-IN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Schur Compon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0"/>
          <p:cNvGraphicFramePr/>
          <p:nvPr/>
        </p:nvGraphicFramePr>
        <p:xfrm>
          <a:off x="6934320" y="2849400"/>
          <a:ext cx="158904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2849400"/>
                    <a:ext cx="15890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Box 18"/>
          <p:cNvSpPr/>
          <p:nvPr/>
        </p:nvSpPr>
        <p:spPr>
          <a:xfrm>
            <a:off x="1143720" y="3741840"/>
            <a:ext cx="49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Century Gothic"/>
              </a:rPr>
              <a:t>So, finally the internal point solutions can be obtained 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2"/>
          <p:cNvGraphicFramePr/>
          <p:nvPr/>
        </p:nvGraphicFramePr>
        <p:xfrm>
          <a:off x="6348240" y="3638520"/>
          <a:ext cx="1381320" cy="86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48240" y="3638520"/>
                    <a:ext cx="13813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chur Compon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1"/>
          <p:cNvSpPr/>
          <p:nvPr/>
        </p:nvSpPr>
        <p:spPr>
          <a:xfrm>
            <a:off x="228600" y="97164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In a domain decomposition problem, Schur component is defined 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28600" y="18097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olution at the internal points of different subdomains are foun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1"/>
          <p:cNvSpPr/>
          <p:nvPr/>
        </p:nvSpPr>
        <p:spPr>
          <a:xfrm>
            <a:off x="304920" y="31050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I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exist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can be found and henc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can also be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17"/>
          <p:cNvGraphicFramePr/>
          <p:nvPr/>
        </p:nvGraphicFramePr>
        <p:xfrm>
          <a:off x="2417760" y="1352520"/>
          <a:ext cx="1165320" cy="3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352520"/>
                    <a:ext cx="116532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2"/>
          <p:cNvGraphicFramePr/>
          <p:nvPr/>
        </p:nvGraphicFramePr>
        <p:xfrm>
          <a:off x="2760840" y="2313000"/>
          <a:ext cx="256536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0840" y="2313000"/>
                    <a:ext cx="25653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omain decomposition paralle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28600" y="89532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o sol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4"/>
          <p:cNvGraphicFramePr/>
          <p:nvPr/>
        </p:nvGraphicFramePr>
        <p:xfrm>
          <a:off x="3733920" y="1581120"/>
          <a:ext cx="238896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581120"/>
                    <a:ext cx="23889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22"/>
          <p:cNvGraphicFramePr/>
          <p:nvPr/>
        </p:nvGraphicFramePr>
        <p:xfrm>
          <a:off x="1523880" y="971640"/>
          <a:ext cx="256536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971640"/>
                    <a:ext cx="25653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6"/>
          <p:cNvSpPr/>
          <p:nvPr/>
        </p:nvSpPr>
        <p:spPr>
          <a:xfrm>
            <a:off x="507240" y="1657440"/>
            <a:ext cx="25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is a block diagonal matrix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038480" y="1886040"/>
            <a:ext cx="9144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4822920" y="1104840"/>
            <a:ext cx="1635120" cy="735120"/>
          </a:xfrm>
          <a:custGeom>
            <a:avLst/>
            <a:gdLst/>
            <a:ahLst/>
            <a:rect l="l" t="t" r="r" b="b"/>
            <a:pathLst>
              <a:path w="1634490" h="735330">
                <a:moveTo>
                  <a:pt x="1634490" y="712470"/>
                </a:moveTo>
                <a:cubicBezTo>
                  <a:pt x="1250632" y="356235"/>
                  <a:pt x="866775" y="0"/>
                  <a:pt x="594360" y="3810"/>
                </a:cubicBezTo>
                <a:cubicBezTo>
                  <a:pt x="321945" y="7620"/>
                  <a:pt x="160972" y="371475"/>
                  <a:pt x="0" y="73533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6324480" y="173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533520" y="310500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ence, invers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n be found  in a decoupled sense as disjoint proces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ence the sets of equation given can be solved, provide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made available to the particular pro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50:37Z</dcterms:created>
  <dc:creator>i4344 sushanta</dc:creator>
  <dc:description/>
  <dc:language>en-US</dc:language>
  <cp:lastModifiedBy>Prof. Somnath Roy</cp:lastModifiedBy>
  <dcterms:modified xsi:type="dcterms:W3CDTF">2019-09-19T13:02:19Z</dcterms:modified>
  <cp:revision>214</cp:revision>
  <dc:subject/>
  <dc:title>Slide 1</dc:title>
</cp:coreProperties>
</file>