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32.wmf" ContentType="image/x-wmf"/>
  <Override PartName="/ppt/media/image75.png" ContentType="image/png"/>
  <Override PartName="/ppt/media/image36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83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5145088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74400" y="698040"/>
            <a:ext cx="620532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2EE7-D212-40A9-80F3-4FD7C4A0F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9008-6D37-41BA-AD6C-1052ED67E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07E5-3136-4CA9-85E6-189952F63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DE1-6C54-4571-ADB9-858DE06EC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3089-20AB-44E5-B5A2-1FFBBE51B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2F98-3C83-41FF-A0BC-BE7E7BF2D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755A-187C-4125-A816-08EAF9D21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BE5D-7B92-4856-B8E7-5925A51C4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9395-1FCF-4F04-8836-6839999B7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3FDA-FADD-495C-A6CF-896A3D1D4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5EC3-FB1B-4D22-88D2-4CFE2451B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B24-73D0-4DBC-8306-EFB003C41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771E-8330-408B-9CC6-335361713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6966-B95A-481C-9BA0-B842DF9A7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316F-4AD2-46A3-9D62-3B5B2EB8B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22F-835F-45EE-A743-B45071398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A1E-19AA-4309-A9C9-FE5280F6A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8F58-96C2-47B5-8F69-83E59450B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A02-4CD8-41E3-9073-0A369943C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4C6E-AEEF-43C2-991C-739CAFB05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A41-E4FD-4C96-A3CE-E733925F9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D199-3763-4C11-838E-B3FD1EFF4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40F5-7CC5-4447-BDBF-8E9E6DB70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0F4F-D3BD-4636-BE8A-DAE3A4878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DDE7-760E-48B2-98BB-A991DAF6D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88A-73C7-4D2D-95F5-F8529269D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794-A3E3-43FC-AC78-4BE237928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49F-AC57-4546-A02B-63941B860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C414-2B64-48BC-86E6-F83C83769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1BC1-4266-4D56-8619-FE620985C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C95C-9B52-47E9-BFA0-BC021BEBB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9522-387B-47D3-B26E-EE730DED0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D41-3BA2-4639-8571-1677A985E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89B6-D798-47DE-8609-991CF5ED3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D5D7-CFD7-4283-B68C-0F58C4B6F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A3C-5C4E-4CDC-95BB-706642771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59E4-F568-4ABF-823E-6243F9149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74F-70AA-4798-B4D2-AA04E33A5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74760" y="698400"/>
            <a:ext cx="6205320" cy="3490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8FBC-1C4F-4CB3-99CD-C65AB8F64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74F-D6E8-42CE-BAD9-10F07FAC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F1C-32B1-4A36-AD1F-C3FD9C1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A43-CB7F-4729-8BE5-E0905F3F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E1B-886A-4E0A-BD7B-0729EB2A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872-EA7F-4DBF-B6C1-86CEBD07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CAF-C27A-4E04-8F46-29A09AFD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26C-22C0-402F-ACE1-BC20B1D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670-DDE5-4390-A776-EC37C858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7EF-A06B-4475-AD60-382EBA6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336-0998-441C-98D5-89775F44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8F0-5B42-4D73-8AE8-B3CD4B89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311-8937-4BD9-A8BF-BB830C75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EC6-C555-46AD-9183-C7DCF7F53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371-2825-4B3D-A589-07BFDCDC7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27B-0E15-401B-9EBB-EDF2E128A3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371600" y="19620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3c5f"/>
                </a:solidFill>
                <a:latin typeface="Century Gothic"/>
                <a:ea typeface="Times New Roman"/>
              </a:rPr>
              <a:t>Basic Itera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219320" y="3029040"/>
            <a:ext cx="6400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3c5f"/>
                </a:solidFill>
                <a:latin typeface="Century Gothic"/>
                <a:ea typeface="Arial"/>
              </a:rPr>
              <a:t>Somnath 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entury Gothic"/>
                <a:ea typeface="Arial"/>
              </a:rPr>
              <a:t>Department of Mechanic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Jacobi Iterative methods in matrix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E1D8-D8E0-4B2C-AA75-14BB27CB7B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1371600" y="1047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1523880" y="14288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D-E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9"/>
          <p:cNvSpPr/>
          <p:nvPr/>
        </p:nvSpPr>
        <p:spPr>
          <a:xfrm>
            <a:off x="3886200" y="1200240"/>
            <a:ext cx="762120" cy="83808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1"/>
          <p:cNvSpPr/>
          <p:nvPr/>
        </p:nvSpPr>
        <p:spPr>
          <a:xfrm>
            <a:off x="4037760" y="112392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5"/>
          <p:cNvSpPr/>
          <p:nvPr/>
        </p:nvSpPr>
        <p:spPr>
          <a:xfrm>
            <a:off x="4571280" y="17334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Triangle 17"/>
          <p:cNvSpPr/>
          <p:nvPr/>
        </p:nvSpPr>
        <p:spPr>
          <a:xfrm rot="10800000">
            <a:off x="4266720" y="1047240"/>
            <a:ext cx="762120" cy="83844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3886200" y="14288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E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4648320" y="127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228600" y="2343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Jacobi step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13"/>
          <p:cNvGraphicFramePr/>
          <p:nvPr/>
        </p:nvGraphicFramePr>
        <p:xfrm>
          <a:off x="2133720" y="2266920"/>
          <a:ext cx="32590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66920"/>
                    <a:ext cx="3259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3"/>
          <p:cNvGraphicFramePr/>
          <p:nvPr/>
        </p:nvGraphicFramePr>
        <p:xfrm>
          <a:off x="2819520" y="3114720"/>
          <a:ext cx="1447560" cy="21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114720"/>
                    <a:ext cx="14475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14"/>
          <p:cNvSpPr/>
          <p:nvPr/>
        </p:nvSpPr>
        <p:spPr>
          <a:xfrm>
            <a:off x="4800600" y="3025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Written in matrix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3"/>
          <p:cNvGraphicFramePr/>
          <p:nvPr/>
        </p:nvGraphicFramePr>
        <p:xfrm>
          <a:off x="2622600" y="3460680"/>
          <a:ext cx="1676520" cy="27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2600" y="3460680"/>
                    <a:ext cx="16765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3"/>
          <p:cNvGraphicFramePr/>
          <p:nvPr/>
        </p:nvGraphicFramePr>
        <p:xfrm>
          <a:off x="2543040" y="3916440"/>
          <a:ext cx="202896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3040" y="3916440"/>
                    <a:ext cx="20289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Gauss-Seidel Iterative methods in matrix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1C4F-A721-4AD3-ABC7-D02D6320FE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371600" y="1047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523880" y="14288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D-E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Triangle 9"/>
          <p:cNvSpPr/>
          <p:nvPr/>
        </p:nvSpPr>
        <p:spPr>
          <a:xfrm>
            <a:off x="3886200" y="1200240"/>
            <a:ext cx="762120" cy="83808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1"/>
          <p:cNvSpPr/>
          <p:nvPr/>
        </p:nvSpPr>
        <p:spPr>
          <a:xfrm>
            <a:off x="4037760" y="112392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4571280" y="17334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Triangle 17"/>
          <p:cNvSpPr/>
          <p:nvPr/>
        </p:nvSpPr>
        <p:spPr>
          <a:xfrm rot="10800000">
            <a:off x="4266720" y="1047240"/>
            <a:ext cx="762120" cy="83844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3886200" y="14288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E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4648320" y="127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228600" y="2343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Gauss Seidel step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3"/>
          <p:cNvGraphicFramePr/>
          <p:nvPr/>
        </p:nvGraphicFramePr>
        <p:xfrm>
          <a:off x="2674800" y="2266920"/>
          <a:ext cx="21765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4800" y="2266920"/>
                    <a:ext cx="2176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3"/>
          <p:cNvGraphicFramePr/>
          <p:nvPr/>
        </p:nvGraphicFramePr>
        <p:xfrm>
          <a:off x="2771640" y="3114720"/>
          <a:ext cx="1543320" cy="21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114720"/>
                    <a:ext cx="154332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Box 14"/>
          <p:cNvSpPr/>
          <p:nvPr/>
        </p:nvSpPr>
        <p:spPr>
          <a:xfrm>
            <a:off x="4800600" y="3025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Written in matrix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3"/>
          <p:cNvGraphicFramePr/>
          <p:nvPr/>
        </p:nvGraphicFramePr>
        <p:xfrm>
          <a:off x="2616120" y="3460680"/>
          <a:ext cx="1690920" cy="27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6120" y="3460680"/>
                    <a:ext cx="16909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3"/>
          <p:cNvGraphicFramePr/>
          <p:nvPr/>
        </p:nvGraphicFramePr>
        <p:xfrm>
          <a:off x="2360520" y="3903840"/>
          <a:ext cx="2394000" cy="30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0520" y="3903840"/>
                    <a:ext cx="239400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General form of an iteration 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7A04-22E3-4AB3-94A3-9EB67B5C58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3"/>
          <p:cNvGraphicFramePr/>
          <p:nvPr/>
        </p:nvGraphicFramePr>
        <p:xfrm>
          <a:off x="2895480" y="971640"/>
          <a:ext cx="309420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971640"/>
                    <a:ext cx="30942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Box 21"/>
          <p:cNvSpPr/>
          <p:nvPr/>
        </p:nvSpPr>
        <p:spPr>
          <a:xfrm>
            <a:off x="838080" y="165744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or Jacobi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D, N=-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or Gauss-Seidel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D-E, N=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General form of an iteration 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6CEA-BAFD-4313-B516-37CC0E1D35F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13"/>
          <p:cNvGraphicFramePr/>
          <p:nvPr/>
        </p:nvGraphicFramePr>
        <p:xfrm>
          <a:off x="4343400" y="1200240"/>
          <a:ext cx="169380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200240"/>
                    <a:ext cx="1693800" cy="3538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5" name="TextBox 21"/>
          <p:cNvSpPr/>
          <p:nvPr/>
        </p:nvSpPr>
        <p:spPr>
          <a:xfrm>
            <a:off x="609480" y="1776240"/>
            <a:ext cx="632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called the iter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f the iteration converges, we g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Gx+f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t the limiting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13"/>
          <p:cNvGraphicFramePr/>
          <p:nvPr/>
        </p:nvGraphicFramePr>
        <p:xfrm>
          <a:off x="1676520" y="2690640"/>
          <a:ext cx="17319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690640"/>
                    <a:ext cx="1731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Box 7"/>
          <p:cNvSpPr/>
          <p:nvPr/>
        </p:nvSpPr>
        <p:spPr>
          <a:xfrm>
            <a:off x="685800" y="3300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is has a solution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G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non-sin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13"/>
          <p:cNvGraphicFramePr/>
          <p:nvPr/>
        </p:nvGraphicFramePr>
        <p:xfrm>
          <a:off x="714240" y="851040"/>
          <a:ext cx="303552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851040"/>
                    <a:ext cx="3035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Oval 8"/>
          <p:cNvSpPr/>
          <p:nvPr/>
        </p:nvSpPr>
        <p:spPr>
          <a:xfrm>
            <a:off x="5181480" y="1123920"/>
            <a:ext cx="2286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General form of an iteration 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D7F6-7996-4039-B276-418F8DA887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3"/>
          <p:cNvGraphicFramePr/>
          <p:nvPr/>
        </p:nvGraphicFramePr>
        <p:xfrm>
          <a:off x="3741840" y="971640"/>
          <a:ext cx="140184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971640"/>
                    <a:ext cx="1401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21"/>
          <p:cNvSpPr/>
          <p:nvPr/>
        </p:nvSpPr>
        <p:spPr>
          <a:xfrm>
            <a:off x="609480" y="1352520"/>
            <a:ext cx="78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e the actual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 converged step results in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*=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x*=(M-A)x*+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=Gx*+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3"/>
          <p:cNvGraphicFramePr/>
          <p:nvPr/>
        </p:nvGraphicFramePr>
        <p:xfrm>
          <a:off x="3657600" y="2571840"/>
          <a:ext cx="1265400" cy="3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71840"/>
                    <a:ext cx="126540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Box 8"/>
          <p:cNvSpPr/>
          <p:nvPr/>
        </p:nvSpPr>
        <p:spPr>
          <a:xfrm>
            <a:off x="990720" y="2495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inal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990720" y="2876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-th iteration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3581280" y="2876400"/>
          <a:ext cx="140184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876400"/>
                    <a:ext cx="14018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Box 12"/>
          <p:cNvSpPr/>
          <p:nvPr/>
        </p:nvSpPr>
        <p:spPr>
          <a:xfrm>
            <a:off x="990720" y="34099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ub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3"/>
          <p:cNvGraphicFramePr/>
          <p:nvPr/>
        </p:nvGraphicFramePr>
        <p:xfrm>
          <a:off x="3421080" y="3409920"/>
          <a:ext cx="214164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1080" y="3409920"/>
                    <a:ext cx="21416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15"/>
          <p:cNvSpPr/>
          <p:nvPr/>
        </p:nvSpPr>
        <p:spPr>
          <a:xfrm>
            <a:off x="6629400" y="34862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teration steps- convergence requi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20E-BD2F-4A55-9BB7-A7BC9CD69C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13"/>
          <p:cNvGraphicFramePr/>
          <p:nvPr/>
        </p:nvGraphicFramePr>
        <p:xfrm>
          <a:off x="3124080" y="1047600"/>
          <a:ext cx="126540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047600"/>
                    <a:ext cx="12654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Box 8"/>
          <p:cNvSpPr/>
          <p:nvPr/>
        </p:nvSpPr>
        <p:spPr>
          <a:xfrm>
            <a:off x="685800" y="104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ergence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762120" y="15811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 iteration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13"/>
          <p:cNvGraphicFramePr/>
          <p:nvPr/>
        </p:nvGraphicFramePr>
        <p:xfrm>
          <a:off x="3124080" y="1581120"/>
          <a:ext cx="14018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581120"/>
                    <a:ext cx="1401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Box 12"/>
          <p:cNvSpPr/>
          <p:nvPr/>
        </p:nvSpPr>
        <p:spPr>
          <a:xfrm>
            <a:off x="838080" y="2114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ub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13"/>
          <p:cNvGraphicFramePr/>
          <p:nvPr/>
        </p:nvGraphicFramePr>
        <p:xfrm>
          <a:off x="2895480" y="2038320"/>
          <a:ext cx="214164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2038320"/>
                    <a:ext cx="21416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Box 14"/>
          <p:cNvSpPr/>
          <p:nvPr/>
        </p:nvSpPr>
        <p:spPr>
          <a:xfrm>
            <a:off x="5486400" y="2114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380880" y="28764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Using (1) and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3"/>
          <p:cNvGraphicFramePr/>
          <p:nvPr/>
        </p:nvGraphicFramePr>
        <p:xfrm>
          <a:off x="2446200" y="2876400"/>
          <a:ext cx="366084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46200" y="2876400"/>
                    <a:ext cx="3660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Box 16"/>
          <p:cNvSpPr/>
          <p:nvPr/>
        </p:nvSpPr>
        <p:spPr>
          <a:xfrm>
            <a:off x="380880" y="340992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ing all iteration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3"/>
          <p:cNvGraphicFramePr/>
          <p:nvPr/>
        </p:nvGraphicFramePr>
        <p:xfrm>
          <a:off x="3114720" y="3409920"/>
          <a:ext cx="5199120" cy="976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14720" y="3409920"/>
                    <a:ext cx="51991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1920" y="2858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teration steps- requirement for accurate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87C0-3F81-4B9E-AECD-0B4EF345A9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3"/>
          <p:cNvGraphicFramePr/>
          <p:nvPr/>
        </p:nvGraphicFramePr>
        <p:xfrm>
          <a:off x="2362320" y="1428840"/>
          <a:ext cx="237492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28840"/>
                    <a:ext cx="2374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Box 17"/>
          <p:cNvSpPr/>
          <p:nvPr/>
        </p:nvSpPr>
        <p:spPr>
          <a:xfrm>
            <a:off x="587880" y="895320"/>
            <a:ext cx="625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s the converged solution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s an arbitrary initial gu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8"/>
          <p:cNvSpPr/>
          <p:nvPr/>
        </p:nvSpPr>
        <p:spPr>
          <a:xfrm>
            <a:off x="609480" y="196200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-th iteration step will converge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+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x*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for an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f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13"/>
          <p:cNvGraphicFramePr/>
          <p:nvPr/>
        </p:nvGraphicFramePr>
        <p:xfrm>
          <a:off x="2871720" y="2419200"/>
          <a:ext cx="10508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1720" y="2419200"/>
                    <a:ext cx="1050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Box 19"/>
          <p:cNvSpPr/>
          <p:nvPr/>
        </p:nvSpPr>
        <p:spPr>
          <a:xfrm>
            <a:off x="2057400" y="31813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13"/>
          <p:cNvGraphicFramePr/>
          <p:nvPr/>
        </p:nvGraphicFramePr>
        <p:xfrm>
          <a:off x="3079800" y="3125880"/>
          <a:ext cx="68112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9800" y="3125880"/>
                    <a:ext cx="6811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Box 20"/>
          <p:cNvSpPr/>
          <p:nvPr/>
        </p:nvSpPr>
        <p:spPr>
          <a:xfrm>
            <a:off x="762120" y="379080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, if the iteration matrix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has a matrix norm less than 1, the iteration steps will converge to accurate solu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=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teration steps- convergence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6C65-C725-4438-BEF6-FF4E2C74D2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838080" y="12002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ergence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990720" y="15811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 iteration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13"/>
          <p:cNvGraphicFramePr/>
          <p:nvPr/>
        </p:nvGraphicFramePr>
        <p:xfrm>
          <a:off x="3124080" y="1581120"/>
          <a:ext cx="14018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81120"/>
                    <a:ext cx="1401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Box 15"/>
          <p:cNvSpPr/>
          <p:nvPr/>
        </p:nvSpPr>
        <p:spPr>
          <a:xfrm>
            <a:off x="457200" y="33336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Using the above rel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13"/>
          <p:cNvGraphicFramePr/>
          <p:nvPr/>
        </p:nvGraphicFramePr>
        <p:xfrm>
          <a:off x="3589200" y="3257640"/>
          <a:ext cx="391320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9200" y="3257640"/>
                    <a:ext cx="39132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Box 17"/>
          <p:cNvSpPr/>
          <p:nvPr/>
        </p:nvSpPr>
        <p:spPr>
          <a:xfrm>
            <a:off x="762120" y="74304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et us assume convergence is achieved a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13"/>
          <p:cNvGraphicFramePr/>
          <p:nvPr/>
        </p:nvGraphicFramePr>
        <p:xfrm>
          <a:off x="3170160" y="1200240"/>
          <a:ext cx="14018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0160" y="1200240"/>
                    <a:ext cx="1401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Box 19"/>
          <p:cNvSpPr/>
          <p:nvPr/>
        </p:nvSpPr>
        <p:spPr>
          <a:xfrm>
            <a:off x="1066680" y="1962000"/>
            <a:ext cx="30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990720" y="234324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entury Gothic"/>
                <a:ea typeface="Times New Roman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teration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3"/>
          <p:cNvGraphicFramePr/>
          <p:nvPr/>
        </p:nvGraphicFramePr>
        <p:xfrm>
          <a:off x="3201840" y="2343240"/>
          <a:ext cx="124632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1840" y="2343240"/>
                    <a:ext cx="1246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teration steps- convergence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97D1-6695-486E-96EF-AFD7228DB1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13"/>
          <p:cNvGraphicFramePr/>
          <p:nvPr/>
        </p:nvGraphicFramePr>
        <p:xfrm>
          <a:off x="533520" y="895320"/>
          <a:ext cx="37764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95320"/>
                    <a:ext cx="3776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3"/>
          <p:cNvGraphicFramePr/>
          <p:nvPr/>
        </p:nvGraphicFramePr>
        <p:xfrm>
          <a:off x="3201840" y="2266920"/>
          <a:ext cx="1246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1840" y="2266920"/>
                    <a:ext cx="1246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Box 13"/>
          <p:cNvSpPr/>
          <p:nvPr/>
        </p:nvSpPr>
        <p:spPr>
          <a:xfrm>
            <a:off x="747000" y="226692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irst iteration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657600" y="14288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849240" y="295272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ubstituting in 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13"/>
          <p:cNvGraphicFramePr/>
          <p:nvPr/>
        </p:nvGraphicFramePr>
        <p:xfrm>
          <a:off x="2819520" y="3029040"/>
          <a:ext cx="424332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029040"/>
                    <a:ext cx="42433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teration steps- convergence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E8F1-5C49-43BB-B1DA-549864953C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3"/>
          <p:cNvSpPr/>
          <p:nvPr/>
        </p:nvSpPr>
        <p:spPr>
          <a:xfrm>
            <a:off x="1095480" y="971640"/>
            <a:ext cx="647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gain, for convergence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will have practically same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.e., there difference is infinite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13"/>
          <p:cNvGraphicFramePr/>
          <p:nvPr/>
        </p:nvGraphicFramePr>
        <p:xfrm>
          <a:off x="2286000" y="1657440"/>
          <a:ext cx="15573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57440"/>
                    <a:ext cx="15573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5"/>
          <p:cNvGraphicFramePr/>
          <p:nvPr/>
        </p:nvGraphicFramePr>
        <p:xfrm>
          <a:off x="2209680" y="2190600"/>
          <a:ext cx="29703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190600"/>
                    <a:ext cx="2970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Box 10"/>
          <p:cNvSpPr/>
          <p:nvPr/>
        </p:nvSpPr>
        <p:spPr>
          <a:xfrm>
            <a:off x="685800" y="2114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We g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>
            <a:off x="533520" y="29527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, for convergence a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-th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3"/>
          <p:cNvGraphicFramePr/>
          <p:nvPr/>
        </p:nvGraphicFramePr>
        <p:xfrm>
          <a:off x="3481560" y="2941560"/>
          <a:ext cx="10508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1560" y="2941560"/>
                    <a:ext cx="1050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Box 15"/>
          <p:cNvSpPr/>
          <p:nvPr/>
        </p:nvSpPr>
        <p:spPr>
          <a:xfrm>
            <a:off x="2666880" y="3703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13"/>
          <p:cNvGraphicFramePr/>
          <p:nvPr/>
        </p:nvGraphicFramePr>
        <p:xfrm>
          <a:off x="3689280" y="3648240"/>
          <a:ext cx="681120" cy="42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89280" y="3648240"/>
                    <a:ext cx="6811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terative methods for matrix eq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8FD8-2BA3-4070-9745-EA04DF8694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9"/>
          <p:cNvSpPr/>
          <p:nvPr/>
        </p:nvSpPr>
        <p:spPr>
          <a:xfrm>
            <a:off x="76320" y="97164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et us start with the matrix equa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=b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228600" y="142884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 row of the matrix represents the eq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228600" y="2724120"/>
            <a:ext cx="853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Now, let us assume a trial solution 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d further assume that in each equation, all other terms except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 term is evaluated using the trial solution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3"/>
          <p:cNvGraphicFramePr/>
          <p:nvPr/>
        </p:nvGraphicFramePr>
        <p:xfrm>
          <a:off x="4952880" y="1276200"/>
          <a:ext cx="10224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276200"/>
                    <a:ext cx="1022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13"/>
          <p:cNvSpPr/>
          <p:nvPr/>
        </p:nvSpPr>
        <p:spPr>
          <a:xfrm>
            <a:off x="228600" y="192888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f we separate out th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 componen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13"/>
          <p:cNvGraphicFramePr/>
          <p:nvPr/>
        </p:nvGraphicFramePr>
        <p:xfrm>
          <a:off x="4302000" y="2000160"/>
          <a:ext cx="173196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0" y="2000160"/>
                    <a:ext cx="17319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3"/>
          <p:cNvGraphicFramePr/>
          <p:nvPr/>
        </p:nvGraphicFramePr>
        <p:xfrm>
          <a:off x="3565440" y="3817800"/>
          <a:ext cx="1835280" cy="4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5440" y="3817800"/>
                    <a:ext cx="18352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Convergence and accuracy of an iterativ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462D-0920-43CF-B161-EEA8D291C0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9"/>
          <p:cNvSpPr/>
          <p:nvPr/>
        </p:nvSpPr>
        <p:spPr>
          <a:xfrm>
            <a:off x="1066680" y="89532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=b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 we have the iterative ste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371600" y="135252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3"/>
          <p:cNvGraphicFramePr/>
          <p:nvPr/>
        </p:nvGraphicFramePr>
        <p:xfrm>
          <a:off x="4952880" y="895320"/>
          <a:ext cx="14018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895320"/>
                    <a:ext cx="1401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3"/>
          <p:cNvGraphicFramePr/>
          <p:nvPr/>
        </p:nvGraphicFramePr>
        <p:xfrm>
          <a:off x="2249640" y="1352520"/>
          <a:ext cx="206352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1352520"/>
                    <a:ext cx="20635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Box 9"/>
          <p:cNvSpPr/>
          <p:nvPr/>
        </p:nvSpPr>
        <p:spPr>
          <a:xfrm>
            <a:off x="1219320" y="211464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iteration will converge for som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13"/>
          <p:cNvGraphicFramePr/>
          <p:nvPr/>
        </p:nvGraphicFramePr>
        <p:xfrm>
          <a:off x="5486400" y="2028960"/>
          <a:ext cx="128412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028960"/>
                    <a:ext cx="12841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Box 11"/>
          <p:cNvSpPr/>
          <p:nvPr/>
        </p:nvSpPr>
        <p:spPr>
          <a:xfrm>
            <a:off x="1219320" y="287640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converged solu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will be practically same as exact solu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3"/>
          <p:cNvGraphicFramePr/>
          <p:nvPr/>
        </p:nvGraphicFramePr>
        <p:xfrm>
          <a:off x="6087960" y="3029040"/>
          <a:ext cx="11480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7960" y="3029040"/>
                    <a:ext cx="1148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Box 13"/>
          <p:cNvSpPr/>
          <p:nvPr/>
        </p:nvSpPr>
        <p:spPr>
          <a:xfrm>
            <a:off x="152280" y="3867120"/>
            <a:ext cx="861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o, if the iterations converge, they will converge to the exac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Diagonally dominant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5F99-494E-43BF-BD4E-B68523F4F6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66680" y="89532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 matrix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ca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4"/>
          <p:cNvSpPr/>
          <p:nvPr/>
        </p:nvSpPr>
        <p:spPr>
          <a:xfrm>
            <a:off x="1371600" y="135252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Weakly diagonally dominant i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3"/>
          <p:cNvGraphicFramePr/>
          <p:nvPr/>
        </p:nvGraphicFramePr>
        <p:xfrm>
          <a:off x="4572000" y="1200240"/>
          <a:ext cx="16002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00240"/>
                    <a:ext cx="16002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Box 16"/>
          <p:cNvSpPr/>
          <p:nvPr/>
        </p:nvSpPr>
        <p:spPr>
          <a:xfrm>
            <a:off x="1371600" y="203832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trictly diagonally dominant i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3"/>
          <p:cNvGraphicFramePr/>
          <p:nvPr/>
        </p:nvGraphicFramePr>
        <p:xfrm>
          <a:off x="4572000" y="1886040"/>
          <a:ext cx="16002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86040"/>
                    <a:ext cx="16002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Box 18"/>
          <p:cNvSpPr/>
          <p:nvPr/>
        </p:nvSpPr>
        <p:spPr>
          <a:xfrm>
            <a:off x="1066680" y="264780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rreducibly diagonally dominant i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3"/>
          <p:cNvGraphicFramePr/>
          <p:nvPr/>
        </p:nvGraphicFramePr>
        <p:xfrm>
          <a:off x="4648320" y="2495520"/>
          <a:ext cx="304776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495520"/>
                    <a:ext cx="30477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TextBox 20"/>
          <p:cNvSpPr/>
          <p:nvPr/>
        </p:nvSpPr>
        <p:spPr>
          <a:xfrm>
            <a:off x="304920" y="3867120"/>
            <a:ext cx="831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rreducibly / strictly diagonally dominant matrices show non-zero pivots (at least in a permuted form)and hence non-sing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Theorem for convergence of it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61E1-5E54-4B26-AFAA-57167F96DE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457200" y="895320"/>
            <a:ext cx="831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a strictly diagonally dominant or an irreducibly dominant matrix, then the associated Jacobi or Gauss Seidel iterations converge for an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13"/>
          <p:cNvGraphicFramePr/>
          <p:nvPr/>
        </p:nvGraphicFramePr>
        <p:xfrm>
          <a:off x="1676520" y="1581120"/>
          <a:ext cx="208260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81120"/>
                    <a:ext cx="20826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13"/>
          <p:cNvGraphicFramePr/>
          <p:nvPr/>
        </p:nvGraphicFramePr>
        <p:xfrm>
          <a:off x="4343400" y="1581120"/>
          <a:ext cx="208296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81120"/>
                    <a:ext cx="20829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21"/>
          <p:cNvSpPr/>
          <p:nvPr/>
        </p:nvSpPr>
        <p:spPr>
          <a:xfrm>
            <a:off x="6781680" y="16574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an be solved using thes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3"/>
          <p:cNvGraphicFramePr/>
          <p:nvPr/>
        </p:nvGraphicFramePr>
        <p:xfrm>
          <a:off x="1752480" y="3029040"/>
          <a:ext cx="208296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029040"/>
                    <a:ext cx="20829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Box 22"/>
          <p:cNvSpPr/>
          <p:nvPr/>
        </p:nvSpPr>
        <p:spPr>
          <a:xfrm>
            <a:off x="0" y="310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an no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4343400" y="2952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ot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row-permut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3"/>
          <p:cNvGraphicFramePr/>
          <p:nvPr/>
        </p:nvGraphicFramePr>
        <p:xfrm>
          <a:off x="6477120" y="2952720"/>
          <a:ext cx="208260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2952720"/>
                    <a:ext cx="20826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Spectral radius of a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B635-0BD6-43ED-82CE-68BB39F830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457200" y="895320"/>
            <a:ext cx="831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maximum modulus of the eigenvalues of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called the spectral radius of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13"/>
          <p:cNvGraphicFramePr/>
          <p:nvPr/>
        </p:nvGraphicFramePr>
        <p:xfrm>
          <a:off x="3124080" y="1809720"/>
          <a:ext cx="173376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809720"/>
                    <a:ext cx="17337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Box 9"/>
          <p:cNvSpPr/>
          <p:nvPr/>
        </p:nvSpPr>
        <p:spPr>
          <a:xfrm>
            <a:off x="609480" y="17334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or any matrix nor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Convergence for regular splitting of a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B8D6-6982-4048-B8DF-242103637F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457200" y="895320"/>
            <a:ext cx="8315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M-N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ir is called a regular splitting 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s non-singular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re non-nega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9"/>
          <p:cNvSpPr/>
          <p:nvPr/>
        </p:nvSpPr>
        <p:spPr>
          <a:xfrm>
            <a:off x="609480" y="221616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orem: L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be a regular splitting of matrix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. Then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f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s non-singular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non-nega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09480" y="307188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iteration step :                                               will converge i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3"/>
          <p:cNvGraphicFramePr/>
          <p:nvPr/>
        </p:nvGraphicFramePr>
        <p:xfrm>
          <a:off x="2590920" y="3071880"/>
          <a:ext cx="232884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071880"/>
                    <a:ext cx="23288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Box 8"/>
          <p:cNvSpPr/>
          <p:nvPr/>
        </p:nvSpPr>
        <p:spPr>
          <a:xfrm>
            <a:off x="457200" y="3562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is regular splitting with above condition on spectral radius can be only obtained for irreducibly/strictly diagonally dominant matrices  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rom Greshgorin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2133720" y="1581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A non-negative matrix means all elements are non-neg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Theorem on convergence of iterative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A80F-A54C-4241-9F13-43E78DC7EA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0"/>
          <p:cNvSpPr/>
          <p:nvPr/>
        </p:nvSpPr>
        <p:spPr>
          <a:xfrm>
            <a:off x="457200" y="895320"/>
            <a:ext cx="831528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e a square matrix such tha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 The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G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s non-singular and the itera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G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verges for ever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 converse statement is also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Convergence fa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70D9-8BEC-4551-8A06-1DFE7AF7D2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0"/>
          <p:cNvSpPr/>
          <p:nvPr/>
        </p:nvSpPr>
        <p:spPr>
          <a:xfrm>
            <a:off x="457200" y="895320"/>
            <a:ext cx="831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et the error a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-th step b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: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the exact solution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2"/>
          <p:cNvGraphicFramePr/>
          <p:nvPr/>
        </p:nvGraphicFramePr>
        <p:xfrm>
          <a:off x="3581280" y="895320"/>
          <a:ext cx="131292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895320"/>
                    <a:ext cx="13129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3"/>
          <p:cNvGraphicFramePr/>
          <p:nvPr/>
        </p:nvGraphicFramePr>
        <p:xfrm>
          <a:off x="3352680" y="1352520"/>
          <a:ext cx="10796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352520"/>
                    <a:ext cx="1079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7"/>
          <p:cNvSpPr/>
          <p:nvPr/>
        </p:nvSpPr>
        <p:spPr>
          <a:xfrm>
            <a:off x="533520" y="188604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ergence factor 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) is given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3352680" y="2266920"/>
          <a:ext cx="175572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2266920"/>
                    <a:ext cx="1755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Box 8"/>
          <p:cNvSpPr/>
          <p:nvPr/>
        </p:nvSpPr>
        <p:spPr>
          <a:xfrm>
            <a:off x="533520" y="3486240"/>
            <a:ext cx="69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or faster convergence, convergence factor 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) must be 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General convergence fa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D33-B430-4C90-BA7D-1D774B0B2E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380880" y="895320"/>
            <a:ext cx="815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ergence factor 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) depends on initial gues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. General convergence facto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 is defined as independent of initial gu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3048120" y="1428840"/>
          <a:ext cx="24955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428840"/>
                    <a:ext cx="24955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5"/>
          <p:cNvGraphicFramePr/>
          <p:nvPr/>
        </p:nvGraphicFramePr>
        <p:xfrm>
          <a:off x="3406680" y="3456000"/>
          <a:ext cx="181620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6680" y="3456000"/>
                    <a:ext cx="18162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6"/>
          <p:cNvGraphicFramePr/>
          <p:nvPr/>
        </p:nvGraphicFramePr>
        <p:xfrm>
          <a:off x="5638680" y="3638520"/>
          <a:ext cx="2460600" cy="3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3638520"/>
                    <a:ext cx="24606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Convergence 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4EC0-1CD4-4C20-B17A-ADC884F695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685800" y="89532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or faster convergence, convergence rate 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) must be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3035160" y="1301760"/>
          <a:ext cx="17146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5160" y="1301760"/>
                    <a:ext cx="17146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Box 5"/>
          <p:cNvSpPr/>
          <p:nvPr/>
        </p:nvSpPr>
        <p:spPr>
          <a:xfrm>
            <a:off x="685800" y="264780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maller the spectral radiu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faster the convergence, higher the convergence rate. Less number of iterations will be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t spectral radius≥1, iterations will cease to conver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Looking into the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682-AF8D-47B5-8E32-A32475039B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685800" y="8190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Let us run a Gauss-Seidel code for a diagonally dominant (3x3)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33520" y="120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e look into the convergence in term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∞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norm for residua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b-Ax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609480" y="1733400"/>
            <a:ext cx="7728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Basic iterativ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FCB9-03BB-4DAD-B47C-4714BEEE05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762120" y="1504800"/>
            <a:ext cx="8610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rom thi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an be evaluated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42600" y="2952720"/>
            <a:ext cx="7675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However, thi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is not the actual solution as it is calculated using guess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We will not 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3"/>
          <p:cNvGraphicFramePr/>
          <p:nvPr/>
        </p:nvGraphicFramePr>
        <p:xfrm>
          <a:off x="3159000" y="922320"/>
          <a:ext cx="18352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9000" y="922320"/>
                    <a:ext cx="18352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3"/>
          <p:cNvGraphicFramePr/>
          <p:nvPr/>
        </p:nvGraphicFramePr>
        <p:xfrm>
          <a:off x="4524480" y="1386000"/>
          <a:ext cx="169524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1386000"/>
                    <a:ext cx="16952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2"/>
          <p:cNvSpPr/>
          <p:nvPr/>
        </p:nvSpPr>
        <p:spPr>
          <a:xfrm>
            <a:off x="5029200" y="2190600"/>
            <a:ext cx="3733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rovi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:: Non-zero diagon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(pivot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3"/>
          <p:cNvGraphicFramePr/>
          <p:nvPr/>
        </p:nvGraphicFramePr>
        <p:xfrm>
          <a:off x="2133720" y="3333600"/>
          <a:ext cx="13158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333600"/>
                    <a:ext cx="1315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Convergence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89D-DDF2-42BD-A4AE-140FBA9D01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762120" y="743040"/>
            <a:ext cx="7727760" cy="26668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685800" y="3409920"/>
            <a:ext cx="8077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oth the parameters monotonically reduce to z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 differen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+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)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s correlated with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b-Ax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 changes i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+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)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s slows down with increase in iteration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Numerical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DED7-21F0-4CF0-9B60-D68D389071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380880" y="81900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sider matrix generated as finite difference approximation of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13"/>
          <p:cNvGraphicFramePr/>
          <p:nvPr/>
        </p:nvGraphicFramePr>
        <p:xfrm>
          <a:off x="4419720" y="1047600"/>
          <a:ext cx="344484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047600"/>
                    <a:ext cx="34448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10"/>
          <p:cNvSpPr/>
          <p:nvPr/>
        </p:nvSpPr>
        <p:spPr>
          <a:xfrm>
            <a:off x="491400" y="1962000"/>
            <a:ext cx="524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 tridiagonal matrix is obtain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trix size is varied by varying number of grid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7"/>
          <p:cNvGraphicFramePr/>
          <p:nvPr/>
        </p:nvGraphicFramePr>
        <p:xfrm>
          <a:off x="2362320" y="2676600"/>
          <a:ext cx="297180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676600"/>
                    <a:ext cx="29718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2"/>
          <p:cNvSpPr/>
          <p:nvPr/>
        </p:nvSpPr>
        <p:spPr>
          <a:xfrm>
            <a:off x="5943600" y="28764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An example 8x8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Numerical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831-9CEC-4AA1-94F5-832F04522C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380880" y="819000"/>
            <a:ext cx="8763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Matrices are solved using Jacobi and Gauss Seidel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 spectral radius of iteration matrix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, convergence rate and number of iterations are noted for different sizes of the matr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Numerical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8DB8-2D65-4628-82FA-0B996EBB3E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380880" y="8190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971640"/>
          <a:ext cx="8077320" cy="2208240"/>
        </p:xfrm>
        <a:graphic>
          <a:graphicData uri="http://schemas.openxmlformats.org/drawingml/2006/table">
            <a:tbl>
              <a:tblPr/>
              <a:tblGrid>
                <a:gridCol w="1511280"/>
                <a:gridCol w="1549440"/>
                <a:gridCol w="1674720"/>
                <a:gridCol w="1674720"/>
                <a:gridCol w="1667160"/>
              </a:tblGrid>
              <a:tr h="73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atrix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pectral radius of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, ρ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onvergence rate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η=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n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(ρ(G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umber of iterations for convergence till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Jaco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94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auss-Sei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89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1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x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Jaco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98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1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auss-Sei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97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2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x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Jaco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996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0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auss-Sei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99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0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291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TextBox 5"/>
          <p:cNvSpPr/>
          <p:nvPr/>
        </p:nvSpPr>
        <p:spPr>
          <a:xfrm>
            <a:off x="522000" y="3333600"/>
            <a:ext cx="7385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Observ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argest eigenvalue increases with matrix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pectral radius is higher for Jaco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umber of required iterations are strongly related with convergence 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How to improve convergen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7EA-64B3-461F-BEF0-ED8FC4FD7A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52280" y="272412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)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can be increased at each iteration step, number of iterations will be reduc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80880" y="81900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Jacobi/ Gauss-Seidel iteration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13"/>
          <p:cNvGraphicFramePr/>
          <p:nvPr/>
        </p:nvGraphicFramePr>
        <p:xfrm>
          <a:off x="4191120" y="819000"/>
          <a:ext cx="14014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819000"/>
                    <a:ext cx="1401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3"/>
          <p:cNvGraphicFramePr/>
          <p:nvPr/>
        </p:nvGraphicFramePr>
        <p:xfrm>
          <a:off x="1905120" y="1200240"/>
          <a:ext cx="243360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200240"/>
                    <a:ext cx="243360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Box 8"/>
          <p:cNvSpPr/>
          <p:nvPr/>
        </p:nvSpPr>
        <p:spPr>
          <a:xfrm>
            <a:off x="533520" y="2114640"/>
            <a:ext cx="830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is is the difference tha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covers in a particular iteration till it converges to the exact solu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eft Brace 9"/>
          <p:cNvSpPr/>
          <p:nvPr/>
        </p:nvSpPr>
        <p:spPr>
          <a:xfrm rot="16200000">
            <a:off x="3314880" y="131436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371600"/>
              <a:gd name="textAreaBottom" fmla="*/ 13618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0"/>
                  <a:pt x="10800" y="500"/>
                </a:cubicBezTo>
                <a:lnTo>
                  <a:pt x="10800" y="10300"/>
                </a:lnTo>
                <a:cubicBezTo>
                  <a:pt x="10800" y="10550"/>
                  <a:pt x="5400" y="10800"/>
                  <a:pt x="0" y="10800"/>
                </a:cubicBezTo>
                <a:cubicBezTo>
                  <a:pt x="5400" y="10800"/>
                  <a:pt x="10800" y="11050"/>
                  <a:pt x="10800" y="11300"/>
                </a:cubicBezTo>
                <a:lnTo>
                  <a:pt x="10800" y="21100"/>
                </a:lnTo>
                <a:cubicBezTo>
                  <a:pt x="10800" y="213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11"/>
          <p:cNvCxnSpPr/>
          <p:nvPr/>
        </p:nvCxnSpPr>
        <p:spPr>
          <a:xfrm flipV="1">
            <a:off x="1143000" y="2037600"/>
            <a:ext cx="228672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1" name="TextBox 12"/>
          <p:cNvSpPr/>
          <p:nvPr/>
        </p:nvSpPr>
        <p:spPr>
          <a:xfrm>
            <a:off x="1600200" y="35622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uccessive over relaxation is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Successive over-relaxation (S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753-DBBF-4641-A67B-F8CF5563FB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380880" y="81900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Jacobi/ Gauss-Seidel iteration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13"/>
          <p:cNvGraphicFramePr/>
          <p:nvPr/>
        </p:nvGraphicFramePr>
        <p:xfrm>
          <a:off x="4038480" y="819000"/>
          <a:ext cx="239400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819000"/>
                    <a:ext cx="239400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Box 13"/>
          <p:cNvSpPr/>
          <p:nvPr/>
        </p:nvSpPr>
        <p:spPr>
          <a:xfrm>
            <a:off x="304920" y="13525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R iteration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13"/>
          <p:cNvGraphicFramePr/>
          <p:nvPr/>
        </p:nvGraphicFramePr>
        <p:xfrm>
          <a:off x="3456000" y="1352520"/>
          <a:ext cx="3406680" cy="42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6000" y="1352520"/>
                    <a:ext cx="340668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Box 15"/>
          <p:cNvSpPr/>
          <p:nvPr/>
        </p:nvSpPr>
        <p:spPr>
          <a:xfrm>
            <a:off x="380880" y="211464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t each iteration step, upd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13"/>
          <p:cNvGraphicFramePr/>
          <p:nvPr/>
        </p:nvGraphicFramePr>
        <p:xfrm>
          <a:off x="4481640" y="2038320"/>
          <a:ext cx="282420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1640" y="2038320"/>
                    <a:ext cx="28242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Box 16"/>
          <p:cNvSpPr/>
          <p:nvPr/>
        </p:nvSpPr>
        <p:spPr>
          <a:xfrm>
            <a:off x="380880" y="264780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R can be expressed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13"/>
          <p:cNvGraphicFramePr/>
          <p:nvPr/>
        </p:nvGraphicFramePr>
        <p:xfrm>
          <a:off x="3276720" y="2647800"/>
          <a:ext cx="393372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647800"/>
                    <a:ext cx="39337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3"/>
          <p:cNvGraphicFramePr/>
          <p:nvPr/>
        </p:nvGraphicFramePr>
        <p:xfrm>
          <a:off x="3063960" y="3181320"/>
          <a:ext cx="545292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63960" y="3181320"/>
                    <a:ext cx="5452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TextBox 18"/>
          <p:cNvSpPr/>
          <p:nvPr/>
        </p:nvSpPr>
        <p:spPr>
          <a:xfrm>
            <a:off x="228600" y="37908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, the iteration matri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8"/>
          <p:cNvGraphicFramePr/>
          <p:nvPr/>
        </p:nvGraphicFramePr>
        <p:xfrm>
          <a:off x="2762280" y="3790800"/>
          <a:ext cx="270036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2280" y="3790800"/>
                    <a:ext cx="2700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Successive over-relaxation (SOR)-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AFB-932E-4612-B5CF-70729582C9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380880" y="81900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For convergenc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3"/>
          <p:cNvSpPr/>
          <p:nvPr/>
        </p:nvSpPr>
        <p:spPr>
          <a:xfrm>
            <a:off x="304920" y="1352520"/>
            <a:ext cx="87627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or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symmetric with positive diagonal element and fo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SOR converges for an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if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positive defin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7"/>
          <p:cNvSpPr/>
          <p:nvPr/>
        </p:nvSpPr>
        <p:spPr>
          <a:xfrm>
            <a:off x="304920" y="2343240"/>
            <a:ext cx="80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OR will dive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SOR is same as the basic G-S or Jacobi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SOR is actually under-relaxing the iterations or increasing the number of it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ptimum value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? Whe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s lease?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Optimum relaxation factor, </a:t>
            </a:r>
            <a:r>
              <a:rPr b="1" i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ω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963D-474C-4361-8A4B-D98415BDF48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80880" y="819000"/>
            <a:ext cx="81536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or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be a consistently ordered matrix such tha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n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and l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. Then i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s a non-zero eigenvalue of the SOR iteration matrix and there is any scalar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at satis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s an eigenvalue of the Jacobi iteration matrix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457200" y="280044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ersely, i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an eigenvalue of Jacobi iteration matrix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and if a scalar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satisfies                                  , then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is an eigenvalue of the SOR iteration matrix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13"/>
          <p:cNvGraphicFramePr/>
          <p:nvPr/>
        </p:nvGraphicFramePr>
        <p:xfrm>
          <a:off x="2338560" y="1789200"/>
          <a:ext cx="198432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789200"/>
                    <a:ext cx="19843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3"/>
          <p:cNvGraphicFramePr/>
          <p:nvPr/>
        </p:nvGraphicFramePr>
        <p:xfrm>
          <a:off x="1447920" y="3029040"/>
          <a:ext cx="160020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029040"/>
                    <a:ext cx="16002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Box 8"/>
          <p:cNvSpPr/>
          <p:nvPr/>
        </p:nvSpPr>
        <p:spPr>
          <a:xfrm>
            <a:off x="457200" y="3638520"/>
            <a:ext cx="4419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Using the above theorem, optimum SOR facto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pt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is obtained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13"/>
          <p:cNvGraphicFramePr/>
          <p:nvPr/>
        </p:nvGraphicFramePr>
        <p:xfrm>
          <a:off x="4876920" y="3562200"/>
          <a:ext cx="2062080" cy="87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562200"/>
                    <a:ext cx="2062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Numerical experiments- Gauss Siedel and 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F0EC-0EE7-4ED8-9A7F-7124DFE1A2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380880" y="8190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SOR comparison.tif"/>
          <p:cNvPicPr/>
          <p:nvPr/>
        </p:nvPicPr>
        <p:blipFill>
          <a:blip r:embed="rId1"/>
          <a:srcRect l="11278" t="15928" r="9240" b="58890"/>
          <a:stretch/>
        </p:blipFill>
        <p:spPr>
          <a:xfrm>
            <a:off x="1371600" y="819000"/>
            <a:ext cx="6477120" cy="2822760"/>
          </a:xfrm>
          <a:prstGeom prst="rect">
            <a:avLst/>
          </a:prstGeom>
          <a:ln w="0">
            <a:noFill/>
          </a:ln>
        </p:spPr>
      </p:pic>
      <p:sp>
        <p:nvSpPr>
          <p:cNvPr id="451" name="TextBox 8"/>
          <p:cNvSpPr/>
          <p:nvPr/>
        </p:nvSpPr>
        <p:spPr>
          <a:xfrm>
            <a:off x="457200" y="371484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bs: No. of iterations are least at a particular SOR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Optimum 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3550-66F1-466F-9F0E-49DBEE6021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380880" y="8190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13"/>
          <p:cNvGraphicFramePr/>
          <p:nvPr/>
        </p:nvGraphicFramePr>
        <p:xfrm>
          <a:off x="782640" y="666720"/>
          <a:ext cx="18684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66720"/>
                    <a:ext cx="18684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7" name="Picture 9" descr="SOR comparison.tif"/>
          <p:cNvPicPr/>
          <p:nvPr/>
        </p:nvPicPr>
        <p:blipFill>
          <a:blip r:embed="rId3"/>
          <a:srcRect l="33699" t="50002" r="35732" b="35185"/>
          <a:stretch/>
        </p:blipFill>
        <p:spPr>
          <a:xfrm>
            <a:off x="2819520" y="1657440"/>
            <a:ext cx="31240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Basic iterative steps- Jacobi it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C3C5-9019-4492-9F9E-3F77813AA1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3200400" y="1581120"/>
            <a:ext cx="4038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e updated value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re obtained after first 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723960" y="2724120"/>
            <a:ext cx="68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Use the update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s the new guess values and do the next it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3"/>
          <p:cNvGraphicFramePr/>
          <p:nvPr/>
        </p:nvGraphicFramePr>
        <p:xfrm>
          <a:off x="812880" y="1465200"/>
          <a:ext cx="181764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465200"/>
                    <a:ext cx="181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Box 12"/>
          <p:cNvSpPr/>
          <p:nvPr/>
        </p:nvSpPr>
        <p:spPr>
          <a:xfrm>
            <a:off x="533520" y="226692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Do this for all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-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…n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3429000" y="3867120"/>
          <a:ext cx="131616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867120"/>
                    <a:ext cx="13161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Box 9"/>
          <p:cNvSpPr/>
          <p:nvPr/>
        </p:nvSpPr>
        <p:spPr>
          <a:xfrm>
            <a:off x="762120" y="8953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 we use an iterative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3"/>
          <p:cNvGraphicFramePr/>
          <p:nvPr/>
        </p:nvGraphicFramePr>
        <p:xfrm>
          <a:off x="2236680" y="3141720"/>
          <a:ext cx="181764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6680" y="3141720"/>
                    <a:ext cx="18176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Box 13"/>
          <p:cNvSpPr/>
          <p:nvPr/>
        </p:nvSpPr>
        <p:spPr>
          <a:xfrm>
            <a:off x="609480" y="4019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robably we still end up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Jacobi it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34D-0FA0-497F-B89E-75C0BD86FAE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666000" y="2876400"/>
            <a:ext cx="62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Use the update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, and carry on iterations fo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,5…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h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3"/>
          <p:cNvGraphicFramePr/>
          <p:nvPr/>
        </p:nvGraphicFramePr>
        <p:xfrm>
          <a:off x="804960" y="1465200"/>
          <a:ext cx="183348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65200"/>
                    <a:ext cx="18334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Box 12"/>
          <p:cNvSpPr/>
          <p:nvPr/>
        </p:nvSpPr>
        <p:spPr>
          <a:xfrm>
            <a:off x="533520" y="226692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We will still 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3"/>
          <p:cNvGraphicFramePr/>
          <p:nvPr/>
        </p:nvGraphicFramePr>
        <p:xfrm>
          <a:off x="2235240" y="2190600"/>
          <a:ext cx="14191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5240" y="2190600"/>
                    <a:ext cx="1419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Box 9"/>
          <p:cNvSpPr/>
          <p:nvPr/>
        </p:nvSpPr>
        <p:spPr>
          <a:xfrm>
            <a:off x="533520" y="8953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o, we need to update the guess values to b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nd carry on the iteration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3"/>
          <p:cNvGraphicFramePr/>
          <p:nvPr/>
        </p:nvGraphicFramePr>
        <p:xfrm>
          <a:off x="2328840" y="3370320"/>
          <a:ext cx="195408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8840" y="3370320"/>
                    <a:ext cx="19540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How many steps?----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63D1-DD8D-4CE8-8DB0-C5A7B428F6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3"/>
          <p:cNvGraphicFramePr/>
          <p:nvPr/>
        </p:nvGraphicFramePr>
        <p:xfrm>
          <a:off x="2438280" y="1352520"/>
          <a:ext cx="141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352520"/>
                    <a:ext cx="141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Box 8"/>
          <p:cNvSpPr/>
          <p:nvPr/>
        </p:nvSpPr>
        <p:spPr>
          <a:xfrm>
            <a:off x="533520" y="8953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fter large number of iterations,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being sufficiently lar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83640" y="2419200"/>
            <a:ext cx="70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t this stage the updates solu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k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erges the to solutio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=b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3"/>
          <p:cNvGraphicFramePr/>
          <p:nvPr/>
        </p:nvGraphicFramePr>
        <p:xfrm>
          <a:off x="3657600" y="3105000"/>
          <a:ext cx="1712880" cy="43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105000"/>
                    <a:ext cx="17128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12"/>
          <p:cNvSpPr/>
          <p:nvPr/>
        </p:nvSpPr>
        <p:spPr>
          <a:xfrm>
            <a:off x="628560" y="318132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With further iteration we 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52320" y="4019400"/>
            <a:ext cx="74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hanges in the value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is infinitesmall at next iterations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--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85800" y="363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s a very small number, its value depends on machine preci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Jacobi it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5588-7147-4C38-B8B3-D61D7AF8E0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685800" y="150480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quirements for successful Jacobi meth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533520" y="8953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Jacobi iteration is an iterative method for matrix sol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762120" y="2595600"/>
          <a:ext cx="24048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95600"/>
                    <a:ext cx="24048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Box 10"/>
          <p:cNvSpPr/>
          <p:nvPr/>
        </p:nvSpPr>
        <p:spPr>
          <a:xfrm>
            <a:off x="709200" y="2114640"/>
            <a:ext cx="2805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1. Non-zero diagonal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20640" y="3432240"/>
          <a:ext cx="1778040" cy="58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3432240"/>
                    <a:ext cx="17780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teration step in Jacobi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F5C-3D26-401F-9D86-407B7AC95B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47840" y="83988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us look into each row during a Jacobi iteration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3"/>
          <p:cNvGraphicFramePr/>
          <p:nvPr/>
        </p:nvGraphicFramePr>
        <p:xfrm>
          <a:off x="380880" y="1123920"/>
          <a:ext cx="144792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23920"/>
                    <a:ext cx="14479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3"/>
          <p:cNvGraphicFramePr/>
          <p:nvPr/>
        </p:nvGraphicFramePr>
        <p:xfrm>
          <a:off x="152280" y="1886040"/>
          <a:ext cx="208440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886040"/>
                    <a:ext cx="20844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222120" y="2647800"/>
          <a:ext cx="252756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120" y="2647800"/>
                    <a:ext cx="25275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3"/>
          <p:cNvGraphicFramePr/>
          <p:nvPr/>
        </p:nvGraphicFramePr>
        <p:xfrm>
          <a:off x="181080" y="3556080"/>
          <a:ext cx="2284200" cy="73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1080" y="3556080"/>
                    <a:ext cx="22842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Oval 10"/>
          <p:cNvSpPr/>
          <p:nvPr/>
        </p:nvSpPr>
        <p:spPr>
          <a:xfrm>
            <a:off x="1371600" y="3562200"/>
            <a:ext cx="304920" cy="45720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1143000" y="2647800"/>
            <a:ext cx="304920" cy="3812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1676520" y="2647800"/>
            <a:ext cx="304560" cy="3812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1143000" y="1962000"/>
            <a:ext cx="380880" cy="38124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3886200" y="1657440"/>
            <a:ext cx="3657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However, the circled variables are already upd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We can get faster convergence if the already updated valu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-- Gauss-Seidel i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1920" y="361440"/>
            <a:ext cx="89917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Gauss-Seidel It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807C-B8DE-4C47-A048-B441D786BA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7840" y="839880"/>
            <a:ext cx="83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 Gauss-Seidel method step uses already updated values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3"/>
          <p:cNvGraphicFramePr/>
          <p:nvPr/>
        </p:nvGraphicFramePr>
        <p:xfrm>
          <a:off x="3389400" y="1276200"/>
          <a:ext cx="21762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1276200"/>
                    <a:ext cx="2176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3"/>
          <p:cNvGraphicFramePr/>
          <p:nvPr/>
        </p:nvGraphicFramePr>
        <p:xfrm>
          <a:off x="685800" y="1852560"/>
          <a:ext cx="144792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52560"/>
                    <a:ext cx="14479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630360" y="2614680"/>
          <a:ext cx="218268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360" y="2614680"/>
                    <a:ext cx="21826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3"/>
          <p:cNvGraphicFramePr/>
          <p:nvPr/>
        </p:nvGraphicFramePr>
        <p:xfrm>
          <a:off x="439560" y="3376440"/>
          <a:ext cx="27165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9560" y="3376440"/>
                    <a:ext cx="27165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15"/>
          <p:cNvSpPr/>
          <p:nvPr/>
        </p:nvSpPr>
        <p:spPr>
          <a:xfrm>
            <a:off x="3886200" y="25718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onvergence criterion is same as  Jacobi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50:37Z</dcterms:created>
  <dc:creator>i4344 sushanta</dc:creator>
  <dc:description/>
  <dc:language>en-US</dc:language>
  <cp:lastModifiedBy>math</cp:lastModifiedBy>
  <dcterms:modified xsi:type="dcterms:W3CDTF">2019-09-22T05:38:12Z</dcterms:modified>
  <cp:revision>461</cp:revision>
  <dc:subject/>
  <dc:title>Slide 1</dc:title>
</cp:coreProperties>
</file>